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 id="279" r:id="rId182"/>
    <p:sldId id="280" r:id="rId183"/>
    <p:sldId id="281" r:id="rId184"/>
    <p:sldId id="282" r:id="rId185"/>
    <p:sldId id="283" r:id="rId186"/>
    <p:sldId id="284" r:id="rId187"/>
    <p:sldId id="285" r:id="rId188"/>
    <p:sldId id="286" r:id="rId189"/>
    <p:sldId id="287" r:id="rId190"/>
    <p:sldId id="288" r:id="rId191"/>
    <p:sldId id="289" r:id="rId192"/>
    <p:sldId id="290" r:id="rId193"/>
    <p:sldId id="291" r:id="rId194"/>
    <p:sldId id="292" r:id="rId195"/>
    <p:sldId id="293" r:id="rId196"/>
    <p:sldId id="294" r:id="rId197"/>
    <p:sldId id="295" r:id="rId198"/>
    <p:sldId id="296" r:id="rId199"/>
    <p:sldId id="297" r:id="rId200"/>
    <p:sldId id="298" r:id="rId201"/>
    <p:sldId id="299" r:id="rId202"/>
    <p:sldId id="300" r:id="rId203"/>
    <p:sldId id="301" r:id="rId204"/>
    <p:sldId id="302" r:id="rId205"/>
    <p:sldId id="303" r:id="rId206"/>
    <p:sldId id="304" r:id="rId207"/>
    <p:sldId id="305" r:id="rId208"/>
    <p:sldId id="306" r:id="rId209"/>
    <p:sldId id="307" r:id="rId210"/>
    <p:sldId id="308" r:id="rId211"/>
    <p:sldId id="309" r:id="rId212"/>
    <p:sldId id="310" r:id="rId213"/>
    <p:sldId id="311" r:id="rId214"/>
    <p:sldId id="312" r:id="rId215"/>
    <p:sldId id="313" r:id="rId216"/>
    <p:sldId id="314" r:id="rId217"/>
    <p:sldId id="315" r:id="rId218"/>
    <p:sldId id="316" r:id="rId219"/>
    <p:sldId id="317" r:id="rId220"/>
    <p:sldId id="318" r:id="rId221"/>
    <p:sldId id="319" r:id="rId222"/>
    <p:sldId id="320" r:id="rId223"/>
    <p:sldId id="321" r:id="rId224"/>
    <p:sldId id="322" r:id="rId225"/>
    <p:sldId id="323" r:id="rId226"/>
    <p:sldId id="324" r:id="rId227"/>
    <p:sldId id="325" r:id="rId228"/>
    <p:sldId id="326" r:id="rId229"/>
    <p:sldId id="327" r:id="rId230"/>
    <p:sldId id="328" r:id="rId231"/>
    <p:sldId id="329" r:id="rId232"/>
    <p:sldId id="330" r:id="rId233"/>
    <p:sldId id="331" r:id="rId23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slide" Target="slides/slide24.xml"/><Relationship Id="rId183" Type="http://schemas.openxmlformats.org/officeDocument/2006/relationships/slide" Target="slides/slide25.xml"/><Relationship Id="rId184" Type="http://schemas.openxmlformats.org/officeDocument/2006/relationships/slide" Target="slides/slide26.xml"/><Relationship Id="rId185" Type="http://schemas.openxmlformats.org/officeDocument/2006/relationships/slide" Target="slides/slide27.xml"/><Relationship Id="rId186" Type="http://schemas.openxmlformats.org/officeDocument/2006/relationships/slide" Target="slides/slide28.xml"/><Relationship Id="rId187" Type="http://schemas.openxmlformats.org/officeDocument/2006/relationships/slide" Target="slides/slide29.xml"/><Relationship Id="rId188" Type="http://schemas.openxmlformats.org/officeDocument/2006/relationships/slide" Target="slides/slide30.xml"/><Relationship Id="rId189" Type="http://schemas.openxmlformats.org/officeDocument/2006/relationships/slide" Target="slides/slide31.xml"/><Relationship Id="rId190" Type="http://schemas.openxmlformats.org/officeDocument/2006/relationships/slide" Target="slides/slide32.xml"/><Relationship Id="rId191" Type="http://schemas.openxmlformats.org/officeDocument/2006/relationships/slide" Target="slides/slide33.xml"/><Relationship Id="rId192" Type="http://schemas.openxmlformats.org/officeDocument/2006/relationships/slide" Target="slides/slide34.xml"/><Relationship Id="rId193" Type="http://schemas.openxmlformats.org/officeDocument/2006/relationships/slide" Target="slides/slide35.xml"/><Relationship Id="rId194" Type="http://schemas.openxmlformats.org/officeDocument/2006/relationships/slide" Target="slides/slide36.xml"/><Relationship Id="rId195" Type="http://schemas.openxmlformats.org/officeDocument/2006/relationships/slide" Target="slides/slide37.xml"/><Relationship Id="rId196" Type="http://schemas.openxmlformats.org/officeDocument/2006/relationships/slide" Target="slides/slide38.xml"/><Relationship Id="rId197" Type="http://schemas.openxmlformats.org/officeDocument/2006/relationships/slide" Target="slides/slide39.xml"/><Relationship Id="rId198" Type="http://schemas.openxmlformats.org/officeDocument/2006/relationships/slide" Target="slides/slide40.xml"/><Relationship Id="rId199" Type="http://schemas.openxmlformats.org/officeDocument/2006/relationships/slide" Target="slides/slide41.xml"/><Relationship Id="rId200" Type="http://schemas.openxmlformats.org/officeDocument/2006/relationships/slide" Target="slides/slide42.xml"/><Relationship Id="rId201" Type="http://schemas.openxmlformats.org/officeDocument/2006/relationships/slide" Target="slides/slide43.xml"/><Relationship Id="rId202" Type="http://schemas.openxmlformats.org/officeDocument/2006/relationships/slide" Target="slides/slide44.xml"/><Relationship Id="rId203" Type="http://schemas.openxmlformats.org/officeDocument/2006/relationships/slide" Target="slides/slide45.xml"/><Relationship Id="rId204" Type="http://schemas.openxmlformats.org/officeDocument/2006/relationships/slide" Target="slides/slide46.xml"/><Relationship Id="rId205" Type="http://schemas.openxmlformats.org/officeDocument/2006/relationships/slide" Target="slides/slide47.xml"/><Relationship Id="rId206" Type="http://schemas.openxmlformats.org/officeDocument/2006/relationships/slide" Target="slides/slide48.xml"/><Relationship Id="rId207" Type="http://schemas.openxmlformats.org/officeDocument/2006/relationships/slide" Target="slides/slide49.xml"/><Relationship Id="rId208" Type="http://schemas.openxmlformats.org/officeDocument/2006/relationships/slide" Target="slides/slide50.xml"/><Relationship Id="rId209" Type="http://schemas.openxmlformats.org/officeDocument/2006/relationships/slide" Target="slides/slide51.xml"/><Relationship Id="rId210" Type="http://schemas.openxmlformats.org/officeDocument/2006/relationships/slide" Target="slides/slide52.xml"/><Relationship Id="rId211" Type="http://schemas.openxmlformats.org/officeDocument/2006/relationships/slide" Target="slides/slide53.xml"/><Relationship Id="rId212" Type="http://schemas.openxmlformats.org/officeDocument/2006/relationships/slide" Target="slides/slide54.xml"/><Relationship Id="rId213" Type="http://schemas.openxmlformats.org/officeDocument/2006/relationships/slide" Target="slides/slide55.xml"/><Relationship Id="rId214" Type="http://schemas.openxmlformats.org/officeDocument/2006/relationships/slide" Target="slides/slide56.xml"/><Relationship Id="rId215" Type="http://schemas.openxmlformats.org/officeDocument/2006/relationships/slide" Target="slides/slide57.xml"/><Relationship Id="rId216" Type="http://schemas.openxmlformats.org/officeDocument/2006/relationships/slide" Target="slides/slide58.xml"/><Relationship Id="rId217" Type="http://schemas.openxmlformats.org/officeDocument/2006/relationships/slide" Target="slides/slide59.xml"/><Relationship Id="rId218" Type="http://schemas.openxmlformats.org/officeDocument/2006/relationships/slide" Target="slides/slide60.xml"/><Relationship Id="rId219" Type="http://schemas.openxmlformats.org/officeDocument/2006/relationships/slide" Target="slides/slide61.xml"/><Relationship Id="rId220" Type="http://schemas.openxmlformats.org/officeDocument/2006/relationships/slide" Target="slides/slide62.xml"/><Relationship Id="rId221" Type="http://schemas.openxmlformats.org/officeDocument/2006/relationships/slide" Target="slides/slide63.xml"/><Relationship Id="rId222" Type="http://schemas.openxmlformats.org/officeDocument/2006/relationships/slide" Target="slides/slide64.xml"/><Relationship Id="rId223" Type="http://schemas.openxmlformats.org/officeDocument/2006/relationships/slide" Target="slides/slide65.xml"/><Relationship Id="rId224" Type="http://schemas.openxmlformats.org/officeDocument/2006/relationships/slide" Target="slides/slide66.xml"/><Relationship Id="rId225" Type="http://schemas.openxmlformats.org/officeDocument/2006/relationships/slide" Target="slides/slide67.xml"/><Relationship Id="rId226" Type="http://schemas.openxmlformats.org/officeDocument/2006/relationships/slide" Target="slides/slide68.xml"/><Relationship Id="rId227" Type="http://schemas.openxmlformats.org/officeDocument/2006/relationships/slide" Target="slides/slide69.xml"/><Relationship Id="rId228" Type="http://schemas.openxmlformats.org/officeDocument/2006/relationships/slide" Target="slides/slide70.xml"/><Relationship Id="rId229" Type="http://schemas.openxmlformats.org/officeDocument/2006/relationships/slide" Target="slides/slide71.xml"/><Relationship Id="rId230" Type="http://schemas.openxmlformats.org/officeDocument/2006/relationships/slide" Target="slides/slide72.xml"/><Relationship Id="rId231" Type="http://schemas.openxmlformats.org/officeDocument/2006/relationships/slide" Target="slides/slide73.xml"/><Relationship Id="rId232" Type="http://schemas.openxmlformats.org/officeDocument/2006/relationships/slide" Target="slides/slide74.xml"/><Relationship Id="rId233" Type="http://schemas.openxmlformats.org/officeDocument/2006/relationships/slide" Target="slides/slide75.xml"/><Relationship Id="rId234" Type="http://schemas.openxmlformats.org/officeDocument/2006/relationships/slide" Target="slides/slide76.xml"/><Relationship Id="rId2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AD20E1-16AB-4269-AE1B-568010886395}"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13536C-FD15-4EE1-B9FB-A3267B8B61A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74" name="PlaceHolder 1"/>
          <p:cNvSpPr>
            <a:spLocks noGrp="1"/>
          </p:cNvSpPr>
          <p:nvPr>
            <p:ph type="sldImg"/>
          </p:nvPr>
        </p:nvSpPr>
        <p:spPr>
          <a:xfrm>
            <a:off x="985680" y="733320"/>
            <a:ext cx="4886640" cy="3665520"/>
          </a:xfrm>
          <a:prstGeom prst="rect">
            <a:avLst/>
          </a:prstGeom>
          <a:ln w="0">
            <a:noFill/>
          </a:ln>
        </p:spPr>
      </p:sp>
      <p:sp>
        <p:nvSpPr>
          <p:cNvPr id="7075"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E15A90-380D-4ED7-ABED-9007AAF0249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B6DDEC-C0FF-40EA-989B-11D00593765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10" name="PlaceHolder 1"/>
          <p:cNvSpPr>
            <a:spLocks noGrp="1"/>
          </p:cNvSpPr>
          <p:nvPr>
            <p:ph type="sldImg"/>
          </p:nvPr>
        </p:nvSpPr>
        <p:spPr>
          <a:xfrm>
            <a:off x="985680" y="741240"/>
            <a:ext cx="4886640" cy="3665520"/>
          </a:xfrm>
          <a:prstGeom prst="rect">
            <a:avLst/>
          </a:prstGeom>
          <a:ln w="0">
            <a:noFill/>
          </a:ln>
        </p:spPr>
      </p:sp>
      <p:sp>
        <p:nvSpPr>
          <p:cNvPr id="71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5B736A-9D8F-4224-86A6-9C47C2B7BC6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A7C987-4693-456C-898D-6E4F7D3BA50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14" name="PlaceHolder 1"/>
          <p:cNvSpPr>
            <a:spLocks noGrp="1"/>
          </p:cNvSpPr>
          <p:nvPr>
            <p:ph type="sldImg"/>
          </p:nvPr>
        </p:nvSpPr>
        <p:spPr>
          <a:xfrm>
            <a:off x="985680" y="741240"/>
            <a:ext cx="4886640" cy="3665520"/>
          </a:xfrm>
          <a:prstGeom prst="rect">
            <a:avLst/>
          </a:prstGeom>
          <a:ln w="0">
            <a:noFill/>
          </a:ln>
        </p:spPr>
      </p:sp>
      <p:sp>
        <p:nvSpPr>
          <p:cNvPr id="71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B5CD69-0C70-4E1E-A598-D2DE3607B88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1AF6B8-B63D-4797-86AC-4CC968107B2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18" name="PlaceHolder 1"/>
          <p:cNvSpPr>
            <a:spLocks noGrp="1"/>
          </p:cNvSpPr>
          <p:nvPr>
            <p:ph type="sldImg"/>
          </p:nvPr>
        </p:nvSpPr>
        <p:spPr>
          <a:xfrm>
            <a:off x="985680" y="741240"/>
            <a:ext cx="4886640" cy="3665520"/>
          </a:xfrm>
          <a:prstGeom prst="rect">
            <a:avLst/>
          </a:prstGeom>
          <a:ln w="0">
            <a:noFill/>
          </a:ln>
        </p:spPr>
      </p:sp>
      <p:sp>
        <p:nvSpPr>
          <p:cNvPr id="71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5EE224-41B6-42EA-B2B7-259A79448BD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47C442-E361-4C3B-AAA7-5C584131A36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22" name="PlaceHolder 1"/>
          <p:cNvSpPr>
            <a:spLocks noGrp="1"/>
          </p:cNvSpPr>
          <p:nvPr>
            <p:ph type="sldImg"/>
          </p:nvPr>
        </p:nvSpPr>
        <p:spPr>
          <a:xfrm>
            <a:off x="985680" y="741240"/>
            <a:ext cx="4886640" cy="3665520"/>
          </a:xfrm>
          <a:prstGeom prst="rect">
            <a:avLst/>
          </a:prstGeom>
          <a:ln w="0">
            <a:noFill/>
          </a:ln>
        </p:spPr>
      </p:sp>
      <p:sp>
        <p:nvSpPr>
          <p:cNvPr id="71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F5405A-07CB-4AC7-B09C-5B5EA785F69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ED6A08-4BB3-46B4-9658-5A2D0CABE6E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26" name="PlaceHolder 1"/>
          <p:cNvSpPr>
            <a:spLocks noGrp="1"/>
          </p:cNvSpPr>
          <p:nvPr>
            <p:ph type="sldImg"/>
          </p:nvPr>
        </p:nvSpPr>
        <p:spPr>
          <a:xfrm>
            <a:off x="985680" y="741240"/>
            <a:ext cx="4886640" cy="3665520"/>
          </a:xfrm>
          <a:prstGeom prst="rect">
            <a:avLst/>
          </a:prstGeom>
          <a:ln w="0">
            <a:noFill/>
          </a:ln>
        </p:spPr>
      </p:sp>
      <p:sp>
        <p:nvSpPr>
          <p:cNvPr id="71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B144EA-8049-45F1-A207-328FA3B3518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3E930E-CC99-4D69-82E8-6A0E5D3B7EF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30" name="PlaceHolder 1"/>
          <p:cNvSpPr>
            <a:spLocks noGrp="1"/>
          </p:cNvSpPr>
          <p:nvPr>
            <p:ph type="sldImg"/>
          </p:nvPr>
        </p:nvSpPr>
        <p:spPr>
          <a:xfrm>
            <a:off x="985680" y="741240"/>
            <a:ext cx="4886640" cy="3665520"/>
          </a:xfrm>
          <a:prstGeom prst="rect">
            <a:avLst/>
          </a:prstGeom>
          <a:ln w="0">
            <a:noFill/>
          </a:ln>
        </p:spPr>
      </p:sp>
      <p:sp>
        <p:nvSpPr>
          <p:cNvPr id="71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84EB00-C0CD-4B24-BCE3-877E5370BA9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19BCB6-74B2-4EF5-9A6C-02BF5C1EF89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34" name="PlaceHolder 1"/>
          <p:cNvSpPr>
            <a:spLocks noGrp="1"/>
          </p:cNvSpPr>
          <p:nvPr>
            <p:ph type="sldImg"/>
          </p:nvPr>
        </p:nvSpPr>
        <p:spPr>
          <a:xfrm>
            <a:off x="985680" y="741240"/>
            <a:ext cx="4886640" cy="3665520"/>
          </a:xfrm>
          <a:prstGeom prst="rect">
            <a:avLst/>
          </a:prstGeom>
          <a:ln w="0">
            <a:noFill/>
          </a:ln>
        </p:spPr>
      </p:sp>
      <p:sp>
        <p:nvSpPr>
          <p:cNvPr id="71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66ACA0-F8CA-46FE-AFFE-EED3541245E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D0F758-DB53-460C-8CB4-69E4399BBDD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38" name="PlaceHolder 1"/>
          <p:cNvSpPr>
            <a:spLocks noGrp="1"/>
          </p:cNvSpPr>
          <p:nvPr>
            <p:ph type="sldImg"/>
          </p:nvPr>
        </p:nvSpPr>
        <p:spPr>
          <a:xfrm>
            <a:off x="985680" y="741240"/>
            <a:ext cx="4886640" cy="3665520"/>
          </a:xfrm>
          <a:prstGeom prst="rect">
            <a:avLst/>
          </a:prstGeom>
          <a:ln w="0">
            <a:noFill/>
          </a:ln>
        </p:spPr>
      </p:sp>
      <p:sp>
        <p:nvSpPr>
          <p:cNvPr id="71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40095C-40EB-4CC7-8F25-BFA4918702A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705C6B-9A7C-46A8-9AF2-10C80E6138D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42" name="PlaceHolder 1"/>
          <p:cNvSpPr>
            <a:spLocks noGrp="1"/>
          </p:cNvSpPr>
          <p:nvPr>
            <p:ph type="sldImg"/>
          </p:nvPr>
        </p:nvSpPr>
        <p:spPr>
          <a:xfrm>
            <a:off x="985680" y="741240"/>
            <a:ext cx="4886640" cy="3665520"/>
          </a:xfrm>
          <a:prstGeom prst="rect">
            <a:avLst/>
          </a:prstGeom>
          <a:ln w="0">
            <a:noFill/>
          </a:ln>
        </p:spPr>
      </p:sp>
      <p:sp>
        <p:nvSpPr>
          <p:cNvPr id="71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8FF275-44CD-4847-86A3-8DA1F2A776F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C01E9A-C277-459A-B789-77F4807D2B7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46" name="PlaceHolder 1"/>
          <p:cNvSpPr>
            <a:spLocks noGrp="1"/>
          </p:cNvSpPr>
          <p:nvPr>
            <p:ph type="sldImg"/>
          </p:nvPr>
        </p:nvSpPr>
        <p:spPr>
          <a:xfrm>
            <a:off x="985680" y="741240"/>
            <a:ext cx="4886640" cy="3665520"/>
          </a:xfrm>
          <a:prstGeom prst="rect">
            <a:avLst/>
          </a:prstGeom>
          <a:ln w="0">
            <a:noFill/>
          </a:ln>
        </p:spPr>
      </p:sp>
      <p:sp>
        <p:nvSpPr>
          <p:cNvPr id="71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DCDB1A-6788-4010-9F79-FF5DBAE3040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961200-460E-4B52-8A31-50FC4E7B7E3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78" name="PlaceHolder 1"/>
          <p:cNvSpPr>
            <a:spLocks noGrp="1"/>
          </p:cNvSpPr>
          <p:nvPr>
            <p:ph type="sldImg"/>
          </p:nvPr>
        </p:nvSpPr>
        <p:spPr>
          <a:xfrm>
            <a:off x="985680" y="741240"/>
            <a:ext cx="4886640" cy="3665520"/>
          </a:xfrm>
          <a:prstGeom prst="rect">
            <a:avLst/>
          </a:prstGeom>
          <a:ln w="0">
            <a:noFill/>
          </a:ln>
        </p:spPr>
      </p:sp>
      <p:sp>
        <p:nvSpPr>
          <p:cNvPr id="70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918A80-D452-4C2F-855D-259B92CD2B9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15C23D-A177-4609-ACE5-7A5BD562A52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50" name="PlaceHolder 1"/>
          <p:cNvSpPr>
            <a:spLocks noGrp="1"/>
          </p:cNvSpPr>
          <p:nvPr>
            <p:ph type="sldImg"/>
          </p:nvPr>
        </p:nvSpPr>
        <p:spPr>
          <a:xfrm>
            <a:off x="985680" y="741240"/>
            <a:ext cx="4886640" cy="3665520"/>
          </a:xfrm>
          <a:prstGeom prst="rect">
            <a:avLst/>
          </a:prstGeom>
          <a:ln w="0">
            <a:noFill/>
          </a:ln>
        </p:spPr>
      </p:sp>
      <p:sp>
        <p:nvSpPr>
          <p:cNvPr id="71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D72BEE-1CBA-4631-995E-F8F77C4C480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C4E5DF-68C6-44F1-BCDF-AFB8B869E37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54" name="PlaceHolder 1"/>
          <p:cNvSpPr>
            <a:spLocks noGrp="1"/>
          </p:cNvSpPr>
          <p:nvPr>
            <p:ph type="sldImg"/>
          </p:nvPr>
        </p:nvSpPr>
        <p:spPr>
          <a:xfrm>
            <a:off x="985680" y="741240"/>
            <a:ext cx="4886640" cy="3665520"/>
          </a:xfrm>
          <a:prstGeom prst="rect">
            <a:avLst/>
          </a:prstGeom>
          <a:ln w="0">
            <a:noFill/>
          </a:ln>
        </p:spPr>
      </p:sp>
      <p:sp>
        <p:nvSpPr>
          <p:cNvPr id="71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181552-649A-4D71-AC6A-43A53D55AEC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17EDA4-322A-4D01-9989-98E0C0DFBC3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58" name="PlaceHolder 1"/>
          <p:cNvSpPr>
            <a:spLocks noGrp="1"/>
          </p:cNvSpPr>
          <p:nvPr>
            <p:ph type="sldImg"/>
          </p:nvPr>
        </p:nvSpPr>
        <p:spPr>
          <a:xfrm>
            <a:off x="985680" y="741240"/>
            <a:ext cx="4886640" cy="3665520"/>
          </a:xfrm>
          <a:prstGeom prst="rect">
            <a:avLst/>
          </a:prstGeom>
          <a:ln w="0">
            <a:noFill/>
          </a:ln>
        </p:spPr>
      </p:sp>
      <p:sp>
        <p:nvSpPr>
          <p:cNvPr id="71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5EC7EE-F144-4946-BEC5-92A87424786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39E6D0-4A22-4789-ACCA-BB615332BE2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62" name="PlaceHolder 1"/>
          <p:cNvSpPr>
            <a:spLocks noGrp="1"/>
          </p:cNvSpPr>
          <p:nvPr>
            <p:ph type="sldImg"/>
          </p:nvPr>
        </p:nvSpPr>
        <p:spPr>
          <a:xfrm>
            <a:off x="985680" y="741240"/>
            <a:ext cx="4886640" cy="3665520"/>
          </a:xfrm>
          <a:prstGeom prst="rect">
            <a:avLst/>
          </a:prstGeom>
          <a:ln w="0">
            <a:noFill/>
          </a:ln>
        </p:spPr>
      </p:sp>
      <p:sp>
        <p:nvSpPr>
          <p:cNvPr id="71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F016DD-A3AB-4034-93F6-2B12250906C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5B083E-D634-4D6D-BA65-5A8775C0DDF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66" name="PlaceHolder 1"/>
          <p:cNvSpPr>
            <a:spLocks noGrp="1"/>
          </p:cNvSpPr>
          <p:nvPr>
            <p:ph type="sldImg"/>
          </p:nvPr>
        </p:nvSpPr>
        <p:spPr>
          <a:xfrm>
            <a:off x="985680" y="741240"/>
            <a:ext cx="4886640" cy="3665520"/>
          </a:xfrm>
          <a:prstGeom prst="rect">
            <a:avLst/>
          </a:prstGeom>
          <a:ln w="0">
            <a:noFill/>
          </a:ln>
        </p:spPr>
      </p:sp>
      <p:sp>
        <p:nvSpPr>
          <p:cNvPr id="71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4D3013-2FC2-45BD-B73B-CA0F019CD2D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1C13D7-05E1-457E-A169-6E077B1257B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70" name="PlaceHolder 1"/>
          <p:cNvSpPr>
            <a:spLocks noGrp="1"/>
          </p:cNvSpPr>
          <p:nvPr>
            <p:ph type="sldImg"/>
          </p:nvPr>
        </p:nvSpPr>
        <p:spPr>
          <a:xfrm>
            <a:off x="985680" y="741240"/>
            <a:ext cx="4886640" cy="3665520"/>
          </a:xfrm>
          <a:prstGeom prst="rect">
            <a:avLst/>
          </a:prstGeom>
          <a:ln w="0">
            <a:noFill/>
          </a:ln>
        </p:spPr>
      </p:sp>
      <p:sp>
        <p:nvSpPr>
          <p:cNvPr id="71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42131E-1513-4F89-A579-4DC0AC644A8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2119BE-3381-4A9A-9CDC-D403A039C18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74" name="PlaceHolder 1"/>
          <p:cNvSpPr>
            <a:spLocks noGrp="1"/>
          </p:cNvSpPr>
          <p:nvPr>
            <p:ph type="sldImg"/>
          </p:nvPr>
        </p:nvSpPr>
        <p:spPr>
          <a:xfrm>
            <a:off x="985680" y="741240"/>
            <a:ext cx="4886640" cy="3665520"/>
          </a:xfrm>
          <a:prstGeom prst="rect">
            <a:avLst/>
          </a:prstGeom>
          <a:ln w="0">
            <a:noFill/>
          </a:ln>
        </p:spPr>
      </p:sp>
      <p:sp>
        <p:nvSpPr>
          <p:cNvPr id="71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952ABD-466E-4931-AD4A-DE8E2B15157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9D232D-94BE-406B-B81D-3D77DFD73AF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78" name="PlaceHolder 1"/>
          <p:cNvSpPr>
            <a:spLocks noGrp="1"/>
          </p:cNvSpPr>
          <p:nvPr>
            <p:ph type="sldImg"/>
          </p:nvPr>
        </p:nvSpPr>
        <p:spPr>
          <a:xfrm>
            <a:off x="985680" y="741240"/>
            <a:ext cx="4886640" cy="3665520"/>
          </a:xfrm>
          <a:prstGeom prst="rect">
            <a:avLst/>
          </a:prstGeom>
          <a:ln w="0">
            <a:noFill/>
          </a:ln>
        </p:spPr>
      </p:sp>
      <p:sp>
        <p:nvSpPr>
          <p:cNvPr id="71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D766C1-785A-482F-8E26-ADF49931BB1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804074-4291-41B6-8AFE-83FFEA519AD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82" name="PlaceHolder 1"/>
          <p:cNvSpPr>
            <a:spLocks noGrp="1"/>
          </p:cNvSpPr>
          <p:nvPr>
            <p:ph type="sldImg"/>
          </p:nvPr>
        </p:nvSpPr>
        <p:spPr>
          <a:xfrm>
            <a:off x="985680" y="741240"/>
            <a:ext cx="4886640" cy="3665520"/>
          </a:xfrm>
          <a:prstGeom prst="rect">
            <a:avLst/>
          </a:prstGeom>
          <a:ln w="0">
            <a:noFill/>
          </a:ln>
        </p:spPr>
      </p:sp>
      <p:sp>
        <p:nvSpPr>
          <p:cNvPr id="71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4EBCB8-124F-4854-B642-DC5AF3D4184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4E44DE-F22F-4317-9250-7565D0D0971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86" name="PlaceHolder 1"/>
          <p:cNvSpPr>
            <a:spLocks noGrp="1"/>
          </p:cNvSpPr>
          <p:nvPr>
            <p:ph type="sldImg"/>
          </p:nvPr>
        </p:nvSpPr>
        <p:spPr>
          <a:xfrm>
            <a:off x="985680" y="741240"/>
            <a:ext cx="4886640" cy="3665520"/>
          </a:xfrm>
          <a:prstGeom prst="rect">
            <a:avLst/>
          </a:prstGeom>
          <a:ln w="0">
            <a:noFill/>
          </a:ln>
        </p:spPr>
      </p:sp>
      <p:sp>
        <p:nvSpPr>
          <p:cNvPr id="7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6B9A52-15A7-4233-9F49-75CE34F4BAC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1590C9-CDCB-437A-AEEF-266A0225C22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82" name="PlaceHolder 1"/>
          <p:cNvSpPr>
            <a:spLocks noGrp="1"/>
          </p:cNvSpPr>
          <p:nvPr>
            <p:ph type="sldImg"/>
          </p:nvPr>
        </p:nvSpPr>
        <p:spPr>
          <a:xfrm>
            <a:off x="985680" y="741240"/>
            <a:ext cx="4886640" cy="3665520"/>
          </a:xfrm>
          <a:prstGeom prst="rect">
            <a:avLst/>
          </a:prstGeom>
          <a:ln w="0">
            <a:noFill/>
          </a:ln>
        </p:spPr>
      </p:sp>
      <p:sp>
        <p:nvSpPr>
          <p:cNvPr id="70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07BCA3-A140-4D7D-A97E-D3FCBD60590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58DDE3-673D-4734-915B-B8D30F1AA56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90" name="PlaceHolder 1"/>
          <p:cNvSpPr>
            <a:spLocks noGrp="1"/>
          </p:cNvSpPr>
          <p:nvPr>
            <p:ph type="sldImg"/>
          </p:nvPr>
        </p:nvSpPr>
        <p:spPr>
          <a:xfrm>
            <a:off x="985680" y="741240"/>
            <a:ext cx="4886640" cy="3665520"/>
          </a:xfrm>
          <a:prstGeom prst="rect">
            <a:avLst/>
          </a:prstGeom>
          <a:ln w="0">
            <a:noFill/>
          </a:ln>
        </p:spPr>
      </p:sp>
      <p:sp>
        <p:nvSpPr>
          <p:cNvPr id="71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EC89F2-FEFA-4EFD-8EBC-3AC8EFA426F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0A2448-06DC-4EC1-BAA8-96E3EC35FE3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94" name="PlaceHolder 1"/>
          <p:cNvSpPr>
            <a:spLocks noGrp="1"/>
          </p:cNvSpPr>
          <p:nvPr>
            <p:ph type="sldImg"/>
          </p:nvPr>
        </p:nvSpPr>
        <p:spPr>
          <a:xfrm>
            <a:off x="985680" y="741240"/>
            <a:ext cx="4886640" cy="3665520"/>
          </a:xfrm>
          <a:prstGeom prst="rect">
            <a:avLst/>
          </a:prstGeom>
          <a:ln w="0">
            <a:noFill/>
          </a:ln>
        </p:spPr>
      </p:sp>
      <p:sp>
        <p:nvSpPr>
          <p:cNvPr id="71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0FF787-11DD-46E0-B510-7D38C3A2853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3E6D31-DE0A-4378-8C25-5731DF1F7E1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98" name="PlaceHolder 1"/>
          <p:cNvSpPr>
            <a:spLocks noGrp="1"/>
          </p:cNvSpPr>
          <p:nvPr>
            <p:ph type="sldImg"/>
          </p:nvPr>
        </p:nvSpPr>
        <p:spPr>
          <a:xfrm>
            <a:off x="985680" y="741240"/>
            <a:ext cx="4886640" cy="3665520"/>
          </a:xfrm>
          <a:prstGeom prst="rect">
            <a:avLst/>
          </a:prstGeom>
          <a:ln w="0">
            <a:noFill/>
          </a:ln>
        </p:spPr>
      </p:sp>
      <p:sp>
        <p:nvSpPr>
          <p:cNvPr id="7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8598BD-C79F-48A4-B402-18BEF4DF542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A70207-04A9-4C91-9451-3BD6DF9DC3A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02" name="PlaceHolder 1"/>
          <p:cNvSpPr>
            <a:spLocks noGrp="1"/>
          </p:cNvSpPr>
          <p:nvPr>
            <p:ph type="sldImg"/>
          </p:nvPr>
        </p:nvSpPr>
        <p:spPr>
          <a:xfrm>
            <a:off x="985680" y="741240"/>
            <a:ext cx="4886640" cy="3665520"/>
          </a:xfrm>
          <a:prstGeom prst="rect">
            <a:avLst/>
          </a:prstGeom>
          <a:ln w="0">
            <a:noFill/>
          </a:ln>
        </p:spPr>
      </p:sp>
      <p:sp>
        <p:nvSpPr>
          <p:cNvPr id="7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039CD2-8C8C-41F3-B80B-052A2B5F948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66409B-FCA9-4DC3-934D-2A7B2CA4530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06" name="PlaceHolder 1"/>
          <p:cNvSpPr>
            <a:spLocks noGrp="1"/>
          </p:cNvSpPr>
          <p:nvPr>
            <p:ph type="sldImg"/>
          </p:nvPr>
        </p:nvSpPr>
        <p:spPr>
          <a:xfrm>
            <a:off x="985680" y="741240"/>
            <a:ext cx="4886640" cy="3665520"/>
          </a:xfrm>
          <a:prstGeom prst="rect">
            <a:avLst/>
          </a:prstGeom>
          <a:ln w="0">
            <a:noFill/>
          </a:ln>
        </p:spPr>
      </p:sp>
      <p:sp>
        <p:nvSpPr>
          <p:cNvPr id="72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81F021-E6EA-4F58-98B9-6DBE8ABDB8F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4F45C3-92B9-4681-B8EF-24D55C1D7CE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10" name="PlaceHolder 1"/>
          <p:cNvSpPr>
            <a:spLocks noGrp="1"/>
          </p:cNvSpPr>
          <p:nvPr>
            <p:ph type="sldImg"/>
          </p:nvPr>
        </p:nvSpPr>
        <p:spPr>
          <a:xfrm>
            <a:off x="985680" y="741240"/>
            <a:ext cx="4886640" cy="3665520"/>
          </a:xfrm>
          <a:prstGeom prst="rect">
            <a:avLst/>
          </a:prstGeom>
          <a:ln w="0">
            <a:noFill/>
          </a:ln>
        </p:spPr>
      </p:sp>
      <p:sp>
        <p:nvSpPr>
          <p:cNvPr id="7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F12C2F-CC83-45AC-98DF-D0072F020F9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D4763B-ABCE-4C2C-9AF2-65E4020F24F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14" name="PlaceHolder 1"/>
          <p:cNvSpPr>
            <a:spLocks noGrp="1"/>
          </p:cNvSpPr>
          <p:nvPr>
            <p:ph type="sldImg"/>
          </p:nvPr>
        </p:nvSpPr>
        <p:spPr>
          <a:xfrm>
            <a:off x="985680" y="741240"/>
            <a:ext cx="4886640" cy="3665520"/>
          </a:xfrm>
          <a:prstGeom prst="rect">
            <a:avLst/>
          </a:prstGeom>
          <a:ln w="0">
            <a:noFill/>
          </a:ln>
        </p:spPr>
      </p:sp>
      <p:sp>
        <p:nvSpPr>
          <p:cNvPr id="7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82648F-AE78-4F4E-AB27-EC8E4E7DA55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BE592F-AB9B-4E5B-829F-B4E95A85F08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18" name="PlaceHolder 1"/>
          <p:cNvSpPr>
            <a:spLocks noGrp="1"/>
          </p:cNvSpPr>
          <p:nvPr>
            <p:ph type="sldImg"/>
          </p:nvPr>
        </p:nvSpPr>
        <p:spPr>
          <a:xfrm>
            <a:off x="985680" y="741240"/>
            <a:ext cx="4886640" cy="3665520"/>
          </a:xfrm>
          <a:prstGeom prst="rect">
            <a:avLst/>
          </a:prstGeom>
          <a:ln w="0">
            <a:noFill/>
          </a:ln>
        </p:spPr>
      </p:sp>
      <p:sp>
        <p:nvSpPr>
          <p:cNvPr id="72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2924EF-49C2-409A-9D3B-460D7D2FFD0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FE60D2-E425-4E00-B14D-29E6984BBF6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22" name="PlaceHolder 1"/>
          <p:cNvSpPr>
            <a:spLocks noGrp="1"/>
          </p:cNvSpPr>
          <p:nvPr>
            <p:ph type="sldImg"/>
          </p:nvPr>
        </p:nvSpPr>
        <p:spPr>
          <a:xfrm>
            <a:off x="985680" y="741240"/>
            <a:ext cx="4886640" cy="3665520"/>
          </a:xfrm>
          <a:prstGeom prst="rect">
            <a:avLst/>
          </a:prstGeom>
          <a:ln w="0">
            <a:noFill/>
          </a:ln>
        </p:spPr>
      </p:sp>
      <p:sp>
        <p:nvSpPr>
          <p:cNvPr id="7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34B6CE-6CD4-4CDB-A114-EDF60509963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B51D52-79D6-4A91-B47A-9FD7D7D5436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26" name="PlaceHolder 1"/>
          <p:cNvSpPr>
            <a:spLocks noGrp="1"/>
          </p:cNvSpPr>
          <p:nvPr>
            <p:ph type="sldImg"/>
          </p:nvPr>
        </p:nvSpPr>
        <p:spPr>
          <a:xfrm>
            <a:off x="985680" y="741240"/>
            <a:ext cx="4886640" cy="3665520"/>
          </a:xfrm>
          <a:prstGeom prst="rect">
            <a:avLst/>
          </a:prstGeom>
          <a:ln w="0">
            <a:noFill/>
          </a:ln>
        </p:spPr>
      </p:sp>
      <p:sp>
        <p:nvSpPr>
          <p:cNvPr id="7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8C6635-72C8-4BC6-B892-506CD441F7C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73F9CA-C9D5-4912-9CEE-2B9EF6CAA1B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86" name="PlaceHolder 1"/>
          <p:cNvSpPr>
            <a:spLocks noGrp="1"/>
          </p:cNvSpPr>
          <p:nvPr>
            <p:ph type="sldImg"/>
          </p:nvPr>
        </p:nvSpPr>
        <p:spPr>
          <a:xfrm>
            <a:off x="985680" y="741240"/>
            <a:ext cx="4886640" cy="3665520"/>
          </a:xfrm>
          <a:prstGeom prst="rect">
            <a:avLst/>
          </a:prstGeom>
          <a:ln w="0">
            <a:noFill/>
          </a:ln>
        </p:spPr>
      </p:sp>
      <p:sp>
        <p:nvSpPr>
          <p:cNvPr id="70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DBA0EC-48EC-4B0C-9AB5-7CEDC9E02CD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EC5C8C-2596-4FA0-9D36-D573B132993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30" name="PlaceHolder 1"/>
          <p:cNvSpPr>
            <a:spLocks noGrp="1"/>
          </p:cNvSpPr>
          <p:nvPr>
            <p:ph type="sldImg"/>
          </p:nvPr>
        </p:nvSpPr>
        <p:spPr>
          <a:xfrm>
            <a:off x="985680" y="741240"/>
            <a:ext cx="4886640" cy="3665520"/>
          </a:xfrm>
          <a:prstGeom prst="rect">
            <a:avLst/>
          </a:prstGeom>
          <a:ln w="0">
            <a:noFill/>
          </a:ln>
        </p:spPr>
      </p:sp>
      <p:sp>
        <p:nvSpPr>
          <p:cNvPr id="72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F8851A-4E11-494C-83FE-6F6D4B595A0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97A4E2-EE53-452E-A5C0-8661F2DF7D4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34" name="PlaceHolder 1"/>
          <p:cNvSpPr>
            <a:spLocks noGrp="1"/>
          </p:cNvSpPr>
          <p:nvPr>
            <p:ph type="sldImg"/>
          </p:nvPr>
        </p:nvSpPr>
        <p:spPr>
          <a:xfrm>
            <a:off x="985680" y="741240"/>
            <a:ext cx="4886640" cy="3665520"/>
          </a:xfrm>
          <a:prstGeom prst="rect">
            <a:avLst/>
          </a:prstGeom>
          <a:ln w="0">
            <a:noFill/>
          </a:ln>
        </p:spPr>
      </p:sp>
      <p:sp>
        <p:nvSpPr>
          <p:cNvPr id="7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ABC886-59B1-4605-8699-98F6415586F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95A44F-407E-4A1B-A8C3-4D031D688D2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38" name="PlaceHolder 1"/>
          <p:cNvSpPr>
            <a:spLocks noGrp="1"/>
          </p:cNvSpPr>
          <p:nvPr>
            <p:ph type="sldImg"/>
          </p:nvPr>
        </p:nvSpPr>
        <p:spPr>
          <a:xfrm>
            <a:off x="985680" y="741240"/>
            <a:ext cx="4886640" cy="3665520"/>
          </a:xfrm>
          <a:prstGeom prst="rect">
            <a:avLst/>
          </a:prstGeom>
          <a:ln w="0">
            <a:noFill/>
          </a:ln>
        </p:spPr>
      </p:sp>
      <p:sp>
        <p:nvSpPr>
          <p:cNvPr id="7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9B7753-200B-4A89-B0BF-E8597BFC686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E166AD-E5C5-4EA5-A7AE-E7D514BF5F7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42" name="PlaceHolder 1"/>
          <p:cNvSpPr>
            <a:spLocks noGrp="1"/>
          </p:cNvSpPr>
          <p:nvPr>
            <p:ph type="sldImg"/>
          </p:nvPr>
        </p:nvSpPr>
        <p:spPr>
          <a:xfrm>
            <a:off x="985680" y="741240"/>
            <a:ext cx="4886640" cy="3665520"/>
          </a:xfrm>
          <a:prstGeom prst="rect">
            <a:avLst/>
          </a:prstGeom>
          <a:ln w="0">
            <a:noFill/>
          </a:ln>
        </p:spPr>
      </p:sp>
      <p:sp>
        <p:nvSpPr>
          <p:cNvPr id="72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3446D8-842E-4D57-9640-32DCE0DE5FC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B6823A-C6B3-4C44-B61D-B9461B9B97F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46" name="PlaceHolder 1"/>
          <p:cNvSpPr>
            <a:spLocks noGrp="1"/>
          </p:cNvSpPr>
          <p:nvPr>
            <p:ph type="sldImg"/>
          </p:nvPr>
        </p:nvSpPr>
        <p:spPr>
          <a:xfrm>
            <a:off x="985680" y="741240"/>
            <a:ext cx="4886640" cy="3665520"/>
          </a:xfrm>
          <a:prstGeom prst="rect">
            <a:avLst/>
          </a:prstGeom>
          <a:ln w="0">
            <a:noFill/>
          </a:ln>
        </p:spPr>
      </p:sp>
      <p:sp>
        <p:nvSpPr>
          <p:cNvPr id="7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C5B253-F150-43E1-A209-D13CDE509E5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833108-E711-43CD-A068-D31A6EAFF74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50" name="PlaceHolder 1"/>
          <p:cNvSpPr>
            <a:spLocks noGrp="1"/>
          </p:cNvSpPr>
          <p:nvPr>
            <p:ph type="sldImg"/>
          </p:nvPr>
        </p:nvSpPr>
        <p:spPr>
          <a:xfrm>
            <a:off x="985680" y="741240"/>
            <a:ext cx="4886640" cy="3665520"/>
          </a:xfrm>
          <a:prstGeom prst="rect">
            <a:avLst/>
          </a:prstGeom>
          <a:ln w="0">
            <a:noFill/>
          </a:ln>
        </p:spPr>
      </p:sp>
      <p:sp>
        <p:nvSpPr>
          <p:cNvPr id="7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ED9718-CDDD-41B3-94FC-1C62D062C97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58F146-2C37-4496-9D6C-CFDBBC9D198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54" name="PlaceHolder 1"/>
          <p:cNvSpPr>
            <a:spLocks noGrp="1"/>
          </p:cNvSpPr>
          <p:nvPr>
            <p:ph type="sldImg"/>
          </p:nvPr>
        </p:nvSpPr>
        <p:spPr>
          <a:xfrm>
            <a:off x="985680" y="741240"/>
            <a:ext cx="4886640" cy="3665520"/>
          </a:xfrm>
          <a:prstGeom prst="rect">
            <a:avLst/>
          </a:prstGeom>
          <a:ln w="0">
            <a:noFill/>
          </a:ln>
        </p:spPr>
      </p:sp>
      <p:sp>
        <p:nvSpPr>
          <p:cNvPr id="72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28E2BD-D23A-49FB-A9D8-B797679AB91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4D090E-F117-4B32-8268-0CDA5A2A46E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58" name="PlaceHolder 1"/>
          <p:cNvSpPr>
            <a:spLocks noGrp="1"/>
          </p:cNvSpPr>
          <p:nvPr>
            <p:ph type="sldImg"/>
          </p:nvPr>
        </p:nvSpPr>
        <p:spPr>
          <a:xfrm>
            <a:off x="985680" y="741240"/>
            <a:ext cx="4886640" cy="3665520"/>
          </a:xfrm>
          <a:prstGeom prst="rect">
            <a:avLst/>
          </a:prstGeom>
          <a:ln w="0">
            <a:noFill/>
          </a:ln>
        </p:spPr>
      </p:sp>
      <p:sp>
        <p:nvSpPr>
          <p:cNvPr id="7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3854A8-5729-43AB-B8BA-1CABDE61244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DDCEBA-E997-40CA-839B-79DADC2328C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62" name="PlaceHolder 1"/>
          <p:cNvSpPr>
            <a:spLocks noGrp="1"/>
          </p:cNvSpPr>
          <p:nvPr>
            <p:ph type="sldImg"/>
          </p:nvPr>
        </p:nvSpPr>
        <p:spPr>
          <a:xfrm>
            <a:off x="985680" y="741240"/>
            <a:ext cx="4886640" cy="3665520"/>
          </a:xfrm>
          <a:prstGeom prst="rect">
            <a:avLst/>
          </a:prstGeom>
          <a:ln w="0">
            <a:noFill/>
          </a:ln>
        </p:spPr>
      </p:sp>
      <p:sp>
        <p:nvSpPr>
          <p:cNvPr id="7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E65C8E-96C7-4ECE-8E31-49AB073914B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2E238D-C5BB-41E5-911C-6B4523841FF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66" name="PlaceHolder 1"/>
          <p:cNvSpPr>
            <a:spLocks noGrp="1"/>
          </p:cNvSpPr>
          <p:nvPr>
            <p:ph type="sldImg"/>
          </p:nvPr>
        </p:nvSpPr>
        <p:spPr>
          <a:xfrm>
            <a:off x="985680" y="741240"/>
            <a:ext cx="4886640" cy="3665520"/>
          </a:xfrm>
          <a:prstGeom prst="rect">
            <a:avLst/>
          </a:prstGeom>
          <a:ln w="0">
            <a:noFill/>
          </a:ln>
        </p:spPr>
      </p:sp>
      <p:sp>
        <p:nvSpPr>
          <p:cNvPr id="72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469C11-B80E-45C1-BE1B-42BE7E5A8DC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957693-4C3E-4B3A-BD52-8C869682C20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90" name="PlaceHolder 1"/>
          <p:cNvSpPr>
            <a:spLocks noGrp="1"/>
          </p:cNvSpPr>
          <p:nvPr>
            <p:ph type="sldImg"/>
          </p:nvPr>
        </p:nvSpPr>
        <p:spPr>
          <a:xfrm>
            <a:off x="985680" y="741240"/>
            <a:ext cx="4886640" cy="3665520"/>
          </a:xfrm>
          <a:prstGeom prst="rect">
            <a:avLst/>
          </a:prstGeom>
          <a:ln w="0">
            <a:noFill/>
          </a:ln>
        </p:spPr>
      </p:sp>
      <p:sp>
        <p:nvSpPr>
          <p:cNvPr id="70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6F5F03-4148-4D3B-9DCB-2D3339A38F8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07D466-DC7E-42F6-80AF-E25FDCB3C97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70" name="PlaceHolder 1"/>
          <p:cNvSpPr>
            <a:spLocks noGrp="1"/>
          </p:cNvSpPr>
          <p:nvPr>
            <p:ph type="sldImg"/>
          </p:nvPr>
        </p:nvSpPr>
        <p:spPr>
          <a:xfrm>
            <a:off x="985680" y="741240"/>
            <a:ext cx="4886640" cy="3665520"/>
          </a:xfrm>
          <a:prstGeom prst="rect">
            <a:avLst/>
          </a:prstGeom>
          <a:ln w="0">
            <a:noFill/>
          </a:ln>
        </p:spPr>
      </p:sp>
      <p:sp>
        <p:nvSpPr>
          <p:cNvPr id="7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675747-DCB2-4FDD-BE86-32C1CF08A00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44EFF4-E6B7-4340-927F-2F9F89C7613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74" name="PlaceHolder 1"/>
          <p:cNvSpPr>
            <a:spLocks noGrp="1"/>
          </p:cNvSpPr>
          <p:nvPr>
            <p:ph type="sldImg"/>
          </p:nvPr>
        </p:nvSpPr>
        <p:spPr>
          <a:xfrm>
            <a:off x="985680" y="741240"/>
            <a:ext cx="4886640" cy="3665520"/>
          </a:xfrm>
          <a:prstGeom prst="rect">
            <a:avLst/>
          </a:prstGeom>
          <a:ln w="0">
            <a:noFill/>
          </a:ln>
        </p:spPr>
      </p:sp>
      <p:sp>
        <p:nvSpPr>
          <p:cNvPr id="7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EC36B9-E7A9-4D50-8BEA-8C3B6233C9B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6B245C-377A-462B-9BB6-A081CC64208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78" name="PlaceHolder 1"/>
          <p:cNvSpPr>
            <a:spLocks noGrp="1"/>
          </p:cNvSpPr>
          <p:nvPr>
            <p:ph type="sldImg"/>
          </p:nvPr>
        </p:nvSpPr>
        <p:spPr>
          <a:xfrm>
            <a:off x="985680" y="741240"/>
            <a:ext cx="4886640" cy="3665520"/>
          </a:xfrm>
          <a:prstGeom prst="rect">
            <a:avLst/>
          </a:prstGeom>
          <a:ln w="0">
            <a:noFill/>
          </a:ln>
        </p:spPr>
      </p:sp>
      <p:sp>
        <p:nvSpPr>
          <p:cNvPr id="72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0BCDF5-25EC-45B1-885D-816E87E9CD2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E3CAD5-8547-426F-9B46-11EEAE99279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82" name="PlaceHolder 1"/>
          <p:cNvSpPr>
            <a:spLocks noGrp="1"/>
          </p:cNvSpPr>
          <p:nvPr>
            <p:ph type="sldImg"/>
          </p:nvPr>
        </p:nvSpPr>
        <p:spPr>
          <a:xfrm>
            <a:off x="985680" y="741240"/>
            <a:ext cx="4886640" cy="3665520"/>
          </a:xfrm>
          <a:prstGeom prst="rect">
            <a:avLst/>
          </a:prstGeom>
          <a:ln w="0">
            <a:noFill/>
          </a:ln>
        </p:spPr>
      </p:sp>
      <p:sp>
        <p:nvSpPr>
          <p:cNvPr id="7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608BF0-D205-4282-8057-E345671C6E0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19E4BA-2CEB-41D0-BF62-B2F54DA5519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86" name="PlaceHolder 1"/>
          <p:cNvSpPr>
            <a:spLocks noGrp="1"/>
          </p:cNvSpPr>
          <p:nvPr>
            <p:ph type="sldImg"/>
          </p:nvPr>
        </p:nvSpPr>
        <p:spPr>
          <a:xfrm>
            <a:off x="985680" y="741240"/>
            <a:ext cx="4886640" cy="3665520"/>
          </a:xfrm>
          <a:prstGeom prst="rect">
            <a:avLst/>
          </a:prstGeom>
          <a:ln w="0">
            <a:noFill/>
          </a:ln>
        </p:spPr>
      </p:sp>
      <p:sp>
        <p:nvSpPr>
          <p:cNvPr id="7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C79E3D-8102-4A52-BE2B-1556733D551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045F3E-EE24-407A-8813-0019C670AFB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90" name="PlaceHolder 1"/>
          <p:cNvSpPr>
            <a:spLocks noGrp="1"/>
          </p:cNvSpPr>
          <p:nvPr>
            <p:ph type="sldImg"/>
          </p:nvPr>
        </p:nvSpPr>
        <p:spPr>
          <a:xfrm>
            <a:off x="985680" y="741240"/>
            <a:ext cx="4886640" cy="3665520"/>
          </a:xfrm>
          <a:prstGeom prst="rect">
            <a:avLst/>
          </a:prstGeom>
          <a:ln w="0">
            <a:noFill/>
          </a:ln>
        </p:spPr>
      </p:sp>
      <p:sp>
        <p:nvSpPr>
          <p:cNvPr id="72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DDE126-911A-4E40-9572-EA7626B5A46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9B1C64-BB8F-4379-B6F3-00957BFE0CF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94" name="PlaceHolder 1"/>
          <p:cNvSpPr>
            <a:spLocks noGrp="1"/>
          </p:cNvSpPr>
          <p:nvPr>
            <p:ph type="sldImg"/>
          </p:nvPr>
        </p:nvSpPr>
        <p:spPr>
          <a:xfrm>
            <a:off x="985680" y="741240"/>
            <a:ext cx="4886640" cy="3665520"/>
          </a:xfrm>
          <a:prstGeom prst="rect">
            <a:avLst/>
          </a:prstGeom>
          <a:ln w="0">
            <a:noFill/>
          </a:ln>
        </p:spPr>
      </p:sp>
      <p:sp>
        <p:nvSpPr>
          <p:cNvPr id="7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00521B-8381-44E2-9E34-F4C4CE8D5C5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C873DE-5C20-48BA-B11F-7C59FA527B6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98" name="PlaceHolder 1"/>
          <p:cNvSpPr>
            <a:spLocks noGrp="1"/>
          </p:cNvSpPr>
          <p:nvPr>
            <p:ph type="sldImg"/>
          </p:nvPr>
        </p:nvSpPr>
        <p:spPr>
          <a:xfrm>
            <a:off x="985680" y="741240"/>
            <a:ext cx="4886640" cy="3665520"/>
          </a:xfrm>
          <a:prstGeom prst="rect">
            <a:avLst/>
          </a:prstGeom>
          <a:ln w="0">
            <a:noFill/>
          </a:ln>
        </p:spPr>
      </p:sp>
      <p:sp>
        <p:nvSpPr>
          <p:cNvPr id="7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B3C2A3-CF52-4306-A5C8-FAAE804768F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6B6205-74A1-4E68-B208-B41863ADDFF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02" name="PlaceHolder 1"/>
          <p:cNvSpPr>
            <a:spLocks noGrp="1"/>
          </p:cNvSpPr>
          <p:nvPr>
            <p:ph type="sldImg"/>
          </p:nvPr>
        </p:nvSpPr>
        <p:spPr>
          <a:xfrm>
            <a:off x="985680" y="741240"/>
            <a:ext cx="4886640" cy="3665520"/>
          </a:xfrm>
          <a:prstGeom prst="rect">
            <a:avLst/>
          </a:prstGeom>
          <a:ln w="0">
            <a:noFill/>
          </a:ln>
        </p:spPr>
      </p:sp>
      <p:sp>
        <p:nvSpPr>
          <p:cNvPr id="73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1063CA-BD25-4EE4-A343-F3E0C2FA917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7DA57D-B0E1-48F0-AF0C-3B6DBA7AA4D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06" name="PlaceHolder 1"/>
          <p:cNvSpPr>
            <a:spLocks noGrp="1"/>
          </p:cNvSpPr>
          <p:nvPr>
            <p:ph type="sldImg"/>
          </p:nvPr>
        </p:nvSpPr>
        <p:spPr>
          <a:xfrm>
            <a:off x="985680" y="741240"/>
            <a:ext cx="4886640" cy="3665520"/>
          </a:xfrm>
          <a:prstGeom prst="rect">
            <a:avLst/>
          </a:prstGeom>
          <a:ln w="0">
            <a:noFill/>
          </a:ln>
        </p:spPr>
      </p:sp>
      <p:sp>
        <p:nvSpPr>
          <p:cNvPr id="7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63D8CE-7B97-483D-BF55-286866AD692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23437A-B578-45DD-80D8-DDFAD523220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94" name="PlaceHolder 1"/>
          <p:cNvSpPr>
            <a:spLocks noGrp="1"/>
          </p:cNvSpPr>
          <p:nvPr>
            <p:ph type="sldImg"/>
          </p:nvPr>
        </p:nvSpPr>
        <p:spPr>
          <a:xfrm>
            <a:off x="985680" y="741240"/>
            <a:ext cx="4886640" cy="3665520"/>
          </a:xfrm>
          <a:prstGeom prst="rect">
            <a:avLst/>
          </a:prstGeom>
          <a:ln w="0">
            <a:noFill/>
          </a:ln>
        </p:spPr>
      </p:sp>
      <p:sp>
        <p:nvSpPr>
          <p:cNvPr id="70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613FDE-EAC2-497C-9302-F562ED66563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A3F163-4998-4E7B-A9D3-739DC9DC5EC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10" name="PlaceHolder 1"/>
          <p:cNvSpPr>
            <a:spLocks noGrp="1"/>
          </p:cNvSpPr>
          <p:nvPr>
            <p:ph type="sldImg"/>
          </p:nvPr>
        </p:nvSpPr>
        <p:spPr>
          <a:xfrm>
            <a:off x="985680" y="741240"/>
            <a:ext cx="4886640" cy="3665520"/>
          </a:xfrm>
          <a:prstGeom prst="rect">
            <a:avLst/>
          </a:prstGeom>
          <a:ln w="0">
            <a:noFill/>
          </a:ln>
        </p:spPr>
      </p:sp>
      <p:sp>
        <p:nvSpPr>
          <p:cNvPr id="7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F5BCD5-D8AB-4B78-A34B-F8634AC7614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95F6F1-E7CB-497F-944C-BD3B92ECB2F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14" name="PlaceHolder 1"/>
          <p:cNvSpPr>
            <a:spLocks noGrp="1"/>
          </p:cNvSpPr>
          <p:nvPr>
            <p:ph type="sldImg"/>
          </p:nvPr>
        </p:nvSpPr>
        <p:spPr>
          <a:xfrm>
            <a:off x="985680" y="741240"/>
            <a:ext cx="4886640" cy="3665520"/>
          </a:xfrm>
          <a:prstGeom prst="rect">
            <a:avLst/>
          </a:prstGeom>
          <a:ln w="0">
            <a:noFill/>
          </a:ln>
        </p:spPr>
      </p:sp>
      <p:sp>
        <p:nvSpPr>
          <p:cNvPr id="73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9EA730-AFC9-4740-A5A1-228E18261BC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06FED6-5BBE-484A-A037-7D3029E0277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18" name="PlaceHolder 1"/>
          <p:cNvSpPr>
            <a:spLocks noGrp="1"/>
          </p:cNvSpPr>
          <p:nvPr>
            <p:ph type="sldImg"/>
          </p:nvPr>
        </p:nvSpPr>
        <p:spPr>
          <a:xfrm>
            <a:off x="985680" y="741240"/>
            <a:ext cx="4886640" cy="3665520"/>
          </a:xfrm>
          <a:prstGeom prst="rect">
            <a:avLst/>
          </a:prstGeom>
          <a:ln w="0">
            <a:noFill/>
          </a:ln>
        </p:spPr>
      </p:sp>
      <p:sp>
        <p:nvSpPr>
          <p:cNvPr id="7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D199C7-5E3E-4BE2-A11A-52BF7AF3E88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66BEEA-5535-484B-BF77-433EC8A01AE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22" name="PlaceHolder 1"/>
          <p:cNvSpPr>
            <a:spLocks noGrp="1"/>
          </p:cNvSpPr>
          <p:nvPr>
            <p:ph type="sldImg"/>
          </p:nvPr>
        </p:nvSpPr>
        <p:spPr>
          <a:xfrm>
            <a:off x="985680" y="741240"/>
            <a:ext cx="4886640" cy="3665520"/>
          </a:xfrm>
          <a:prstGeom prst="rect">
            <a:avLst/>
          </a:prstGeom>
          <a:ln w="0">
            <a:noFill/>
          </a:ln>
        </p:spPr>
      </p:sp>
      <p:sp>
        <p:nvSpPr>
          <p:cNvPr id="7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C743E5-0724-431B-A0B3-C7AAB8C11CF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F368BA-1149-414A-BC3D-DC18C64C365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26" name="PlaceHolder 1"/>
          <p:cNvSpPr>
            <a:spLocks noGrp="1"/>
          </p:cNvSpPr>
          <p:nvPr>
            <p:ph type="sldImg"/>
          </p:nvPr>
        </p:nvSpPr>
        <p:spPr>
          <a:xfrm>
            <a:off x="985680" y="741240"/>
            <a:ext cx="4886640" cy="3665520"/>
          </a:xfrm>
          <a:prstGeom prst="rect">
            <a:avLst/>
          </a:prstGeom>
          <a:ln w="0">
            <a:noFill/>
          </a:ln>
        </p:spPr>
      </p:sp>
      <p:sp>
        <p:nvSpPr>
          <p:cNvPr id="73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BA6463-F88B-4376-84F6-2802A2D0998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3C43C1-9C37-41C0-B2C1-C15A59C7939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30" name="PlaceHolder 1"/>
          <p:cNvSpPr>
            <a:spLocks noGrp="1"/>
          </p:cNvSpPr>
          <p:nvPr>
            <p:ph type="sldImg"/>
          </p:nvPr>
        </p:nvSpPr>
        <p:spPr>
          <a:xfrm>
            <a:off x="985680" y="741240"/>
            <a:ext cx="4886640" cy="3665520"/>
          </a:xfrm>
          <a:prstGeom prst="rect">
            <a:avLst/>
          </a:prstGeom>
          <a:ln w="0">
            <a:noFill/>
          </a:ln>
        </p:spPr>
      </p:sp>
      <p:sp>
        <p:nvSpPr>
          <p:cNvPr id="7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D5CE23-7F83-434C-810B-C56C0FC5E85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FBC082-6C25-459E-95D0-66D10CF9CC6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34" name="PlaceHolder 1"/>
          <p:cNvSpPr>
            <a:spLocks noGrp="1"/>
          </p:cNvSpPr>
          <p:nvPr>
            <p:ph type="sldImg"/>
          </p:nvPr>
        </p:nvSpPr>
        <p:spPr>
          <a:xfrm>
            <a:off x="985680" y="741240"/>
            <a:ext cx="4886640" cy="3665520"/>
          </a:xfrm>
          <a:prstGeom prst="rect">
            <a:avLst/>
          </a:prstGeom>
          <a:ln w="0">
            <a:noFill/>
          </a:ln>
        </p:spPr>
      </p:sp>
      <p:sp>
        <p:nvSpPr>
          <p:cNvPr id="7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5CBC69-7ADF-46F0-BE08-5B23A0F2384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B9CBB5-2851-41E3-9AA5-603A9E4AE5C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38" name="PlaceHolder 1"/>
          <p:cNvSpPr>
            <a:spLocks noGrp="1"/>
          </p:cNvSpPr>
          <p:nvPr>
            <p:ph type="sldImg"/>
          </p:nvPr>
        </p:nvSpPr>
        <p:spPr>
          <a:xfrm>
            <a:off x="985680" y="741240"/>
            <a:ext cx="4886640" cy="3665520"/>
          </a:xfrm>
          <a:prstGeom prst="rect">
            <a:avLst/>
          </a:prstGeom>
          <a:ln w="0">
            <a:noFill/>
          </a:ln>
        </p:spPr>
      </p:sp>
      <p:sp>
        <p:nvSpPr>
          <p:cNvPr id="73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A0AD0C-DDBC-4810-821B-E85C0D7285C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77C8A2-C9BB-409A-8CBE-83BD48720D6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42" name="PlaceHolder 1"/>
          <p:cNvSpPr>
            <a:spLocks noGrp="1"/>
          </p:cNvSpPr>
          <p:nvPr>
            <p:ph type="sldImg"/>
          </p:nvPr>
        </p:nvSpPr>
        <p:spPr>
          <a:xfrm>
            <a:off x="985680" y="741240"/>
            <a:ext cx="4886640" cy="3665520"/>
          </a:xfrm>
          <a:prstGeom prst="rect">
            <a:avLst/>
          </a:prstGeom>
          <a:ln w="0">
            <a:noFill/>
          </a:ln>
        </p:spPr>
      </p:sp>
      <p:sp>
        <p:nvSpPr>
          <p:cNvPr id="7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0A8E89-F57F-48EE-A965-90BCDEF9C06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5D145F-5A3D-4C68-8D8B-566843DBF2C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46" name="PlaceHolder 1"/>
          <p:cNvSpPr>
            <a:spLocks noGrp="1"/>
          </p:cNvSpPr>
          <p:nvPr>
            <p:ph type="sldImg"/>
          </p:nvPr>
        </p:nvSpPr>
        <p:spPr>
          <a:xfrm>
            <a:off x="985680" y="741240"/>
            <a:ext cx="4886640" cy="3665520"/>
          </a:xfrm>
          <a:prstGeom prst="rect">
            <a:avLst/>
          </a:prstGeom>
          <a:ln w="0">
            <a:noFill/>
          </a:ln>
        </p:spPr>
      </p:sp>
      <p:sp>
        <p:nvSpPr>
          <p:cNvPr id="7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1388D7-19ED-4EA8-A119-B039CFB346F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4A1280-0388-4690-A7A9-21D2AF897F4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98" name="PlaceHolder 1"/>
          <p:cNvSpPr>
            <a:spLocks noGrp="1"/>
          </p:cNvSpPr>
          <p:nvPr>
            <p:ph type="sldImg"/>
          </p:nvPr>
        </p:nvSpPr>
        <p:spPr>
          <a:xfrm>
            <a:off x="985680" y="741240"/>
            <a:ext cx="4886640" cy="3665520"/>
          </a:xfrm>
          <a:prstGeom prst="rect">
            <a:avLst/>
          </a:prstGeom>
          <a:ln w="0">
            <a:noFill/>
          </a:ln>
        </p:spPr>
      </p:sp>
      <p:sp>
        <p:nvSpPr>
          <p:cNvPr id="70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93841C-0950-4C49-AF87-0E6F9CE3961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E58B1D-14C1-44E0-91B4-B80D5017080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50" name="PlaceHolder 1"/>
          <p:cNvSpPr>
            <a:spLocks noGrp="1"/>
          </p:cNvSpPr>
          <p:nvPr>
            <p:ph type="sldImg"/>
          </p:nvPr>
        </p:nvSpPr>
        <p:spPr>
          <a:xfrm>
            <a:off x="985680" y="741240"/>
            <a:ext cx="4886640" cy="3665520"/>
          </a:xfrm>
          <a:prstGeom prst="rect">
            <a:avLst/>
          </a:prstGeom>
          <a:ln w="0">
            <a:noFill/>
          </a:ln>
        </p:spPr>
      </p:sp>
      <p:sp>
        <p:nvSpPr>
          <p:cNvPr id="73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7DFEB6-56C6-45E6-AD2F-99BEB37115F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F7BD74-4DFF-439A-9C0F-B9C5B530D77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54" name="PlaceHolder 1"/>
          <p:cNvSpPr>
            <a:spLocks noGrp="1"/>
          </p:cNvSpPr>
          <p:nvPr>
            <p:ph type="sldImg"/>
          </p:nvPr>
        </p:nvSpPr>
        <p:spPr>
          <a:xfrm>
            <a:off x="985680" y="741240"/>
            <a:ext cx="4886640" cy="3665520"/>
          </a:xfrm>
          <a:prstGeom prst="rect">
            <a:avLst/>
          </a:prstGeom>
          <a:ln w="0">
            <a:noFill/>
          </a:ln>
        </p:spPr>
      </p:sp>
      <p:sp>
        <p:nvSpPr>
          <p:cNvPr id="7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C86A41-B981-42E4-82B9-377487C4C69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E16991-2FE8-4EAA-BAC0-F221A0655E9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58" name="PlaceHolder 1"/>
          <p:cNvSpPr>
            <a:spLocks noGrp="1"/>
          </p:cNvSpPr>
          <p:nvPr>
            <p:ph type="sldImg"/>
          </p:nvPr>
        </p:nvSpPr>
        <p:spPr>
          <a:xfrm>
            <a:off x="985680" y="741240"/>
            <a:ext cx="4886640" cy="3665520"/>
          </a:xfrm>
          <a:prstGeom prst="rect">
            <a:avLst/>
          </a:prstGeom>
          <a:ln w="0">
            <a:noFill/>
          </a:ln>
        </p:spPr>
      </p:sp>
      <p:sp>
        <p:nvSpPr>
          <p:cNvPr id="7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52E033-6362-4623-82E2-282BBA484A1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BE860C-271D-42B0-98BF-5232359E179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62" name="PlaceHolder 1"/>
          <p:cNvSpPr>
            <a:spLocks noGrp="1"/>
          </p:cNvSpPr>
          <p:nvPr>
            <p:ph type="sldImg"/>
          </p:nvPr>
        </p:nvSpPr>
        <p:spPr>
          <a:xfrm>
            <a:off x="985680" y="741240"/>
            <a:ext cx="4886640" cy="3665520"/>
          </a:xfrm>
          <a:prstGeom prst="rect">
            <a:avLst/>
          </a:prstGeom>
          <a:ln w="0">
            <a:noFill/>
          </a:ln>
        </p:spPr>
      </p:sp>
      <p:sp>
        <p:nvSpPr>
          <p:cNvPr id="73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A9672C-E6DF-49E3-BED2-DA45D8331AC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42351C-AF66-44F8-A790-AC2B452255B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66" name="PlaceHolder 1"/>
          <p:cNvSpPr>
            <a:spLocks noGrp="1"/>
          </p:cNvSpPr>
          <p:nvPr>
            <p:ph type="sldImg"/>
          </p:nvPr>
        </p:nvSpPr>
        <p:spPr>
          <a:xfrm>
            <a:off x="985680" y="741240"/>
            <a:ext cx="4886640" cy="3665520"/>
          </a:xfrm>
          <a:prstGeom prst="rect">
            <a:avLst/>
          </a:prstGeom>
          <a:ln w="0">
            <a:noFill/>
          </a:ln>
        </p:spPr>
      </p:sp>
      <p:sp>
        <p:nvSpPr>
          <p:cNvPr id="7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0BF139-E573-4212-915F-4ECCEF3063D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FD1F02-047E-436A-8CE5-1A1BDD6BAAA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70" name="PlaceHolder 1"/>
          <p:cNvSpPr>
            <a:spLocks noGrp="1"/>
          </p:cNvSpPr>
          <p:nvPr>
            <p:ph type="sldImg"/>
          </p:nvPr>
        </p:nvSpPr>
        <p:spPr>
          <a:xfrm>
            <a:off x="985680" y="741240"/>
            <a:ext cx="4886640" cy="3665520"/>
          </a:xfrm>
          <a:prstGeom prst="rect">
            <a:avLst/>
          </a:prstGeom>
          <a:ln w="0">
            <a:noFill/>
          </a:ln>
        </p:spPr>
      </p:sp>
      <p:sp>
        <p:nvSpPr>
          <p:cNvPr id="7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507979-487C-4EC5-BB50-02533DF932E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73" name="PlaceHolder 1"/>
          <p:cNvSpPr>
            <a:spLocks noGrp="1"/>
          </p:cNvSpPr>
          <p:nvPr>
            <p:ph type="sldImg"/>
          </p:nvPr>
        </p:nvSpPr>
        <p:spPr>
          <a:xfrm>
            <a:off x="985680" y="733320"/>
            <a:ext cx="4886640" cy="3665520"/>
          </a:xfrm>
          <a:prstGeom prst="rect">
            <a:avLst/>
          </a:prstGeom>
          <a:ln w="0">
            <a:noFill/>
          </a:ln>
        </p:spPr>
      </p:sp>
      <p:sp>
        <p:nvSpPr>
          <p:cNvPr id="7374"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4F6DC9-9925-4571-89B0-82BCC74203E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5C467D-7CF3-4EEE-B9C7-A0632D9DDE9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02" name="PlaceHolder 1"/>
          <p:cNvSpPr>
            <a:spLocks noGrp="1"/>
          </p:cNvSpPr>
          <p:nvPr>
            <p:ph type="sldImg"/>
          </p:nvPr>
        </p:nvSpPr>
        <p:spPr>
          <a:xfrm>
            <a:off x="985680" y="741240"/>
            <a:ext cx="4886640" cy="3665520"/>
          </a:xfrm>
          <a:prstGeom prst="rect">
            <a:avLst/>
          </a:prstGeom>
          <a:ln w="0">
            <a:noFill/>
          </a:ln>
        </p:spPr>
      </p:sp>
      <p:sp>
        <p:nvSpPr>
          <p:cNvPr id="71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020807-72FB-46CE-B38C-A300D05D56C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B97FAA-090E-497B-B51E-D5C2E201381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06" name="PlaceHolder 1"/>
          <p:cNvSpPr>
            <a:spLocks noGrp="1"/>
          </p:cNvSpPr>
          <p:nvPr>
            <p:ph type="sldImg"/>
          </p:nvPr>
        </p:nvSpPr>
        <p:spPr>
          <a:xfrm>
            <a:off x="985680" y="741240"/>
            <a:ext cx="4886640" cy="3665520"/>
          </a:xfrm>
          <a:prstGeom prst="rect">
            <a:avLst/>
          </a:prstGeom>
          <a:ln w="0">
            <a:noFill/>
          </a:ln>
        </p:spPr>
      </p:sp>
      <p:sp>
        <p:nvSpPr>
          <p:cNvPr id="71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934A33-EC70-4726-9241-12AB37F08A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3FC3631-FAA5-4684-8D0B-A55FB4C2880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92AE1D88-1511-49EB-A95B-E6CAA2128899}"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52791549-EB2D-4936-8570-96F8711A9C3A}"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A51A293A-DF5D-484E-AE33-7E361646EC43}"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61368EF6-2C93-442D-812F-B2CB46010937}"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55E16D84-57A0-436F-97B9-1C9CDFBA7F31}"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27D841BB-5EF9-48CA-B8DA-1C905ABD2E16}"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60077008-7473-46B6-BA5A-E92AC4B0E07A}"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A4FFB69F-53AB-4658-A199-0B55E576BCCE}"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E0637256-665E-4FAF-BA08-83AA6E606D5D}"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26E0132A-3FE1-407D-A54B-1CB343748088}"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08EEDCB4-41F3-4D0B-8B58-A2CA2B6F5D0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9AF9E9A4-DBB6-4909-8C16-1C5D9DA91635}"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FA55CF3C-242B-4900-B5E5-F50694879730}"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B1F46D26-7816-4DAC-85C5-09DD2B4C9336}"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5A9CF3A8-ABAA-43E0-8B06-FA77FB6D08AC}"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9378CB22-8B44-4B95-8A96-980CECF659C0}"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65B333FC-B3D2-4BAD-9C50-FC72721D1C0D}"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EDF797F6-96FE-47BB-B988-E344E820C7BE}"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8B972803-B00B-4007-8817-D366F7C50C49}"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91DF233E-4137-4872-8318-16406E7D45CE}"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2177FCD1-E1A9-46C2-9D57-B1B2E8F9AC75}"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460E02CE-5456-4E67-9CB3-36293D3CA43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3DCC67BB-2281-4BE5-9D3B-18A947DE5B54}"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EC8F1643-88EE-4748-AF52-F06D2865B4BF}"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65CA2284-6808-4EB2-976B-704C24647472}"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85EEB132-B0DE-48C3-AEE9-6AF6BF9D5E17}"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2B47445C-1871-4D3C-AE03-D0233A05D55F}"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553E21F7-882D-4505-8491-1072490BE35E}"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9F6A0E52-6B73-4A10-94BC-0F4ACE82F905}"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B63F2CF5-77D6-4F05-B57C-DDA529F4EB8B}"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73E6B430-9ABB-4482-BA2D-5C72055A44CF}"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EB60021C-4FBA-46E2-9D55-69379B2E4D61}"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EFD60B9F-6D3D-471F-A4F5-3958F17731E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667D47C-B455-49AF-82D8-1601A3E8D199}"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A5FD3D11-A0E6-4CC0-AA63-3689A02E9FDD}"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053475AE-4491-4F8C-9253-D7EA7B021CD6}"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0E0A9B7F-C506-4171-A195-CE8C46FAB66F}"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28287C5A-C2B6-4613-B436-ED1E67F0409E}"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C97EA452-AA42-4706-B0B9-4E0E91EA6987}"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3B442A3D-13C4-4CCC-B7E0-EDF3013F413B}"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8A8A21E2-69FF-41F4-A404-76866088D2FF}"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A2D51433-B437-49E9-980C-C36B22DE50E2}"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BD895947-760F-4FAE-8A6F-8E80422CCE4D}"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9E6D9DA4-426C-441D-8A1E-28B572D7CE8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BAF445C-DE79-4D13-B9C8-8D9001059750}"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1D41A8CC-DE6E-4F4B-9579-7C06181A7587}"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389D7181-532F-46F9-9EB4-D4CD6EC3B93B}"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6E949265-663A-4598-BA7A-A6627BA5627B}"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63F21169-6614-4C61-B819-1265F530C641}"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098B0E4F-C856-4CF0-86AC-570B61271617}"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8291A763-9BEC-4499-8AD3-2146BC612E5E}"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3C18FF7E-0413-4915-A5AF-3F2CA46AC2ED}"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111DD364-EFDF-4729-A137-0CECD3A4AFDB}"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3B6DCC99-D707-4F72-A941-EBAE65BB7E41}"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AEEB5C5A-93B5-4F8A-A7BA-4B063CDCAB2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05883D9-82D7-40E0-B437-32D16C52D29C}"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362BB42E-EAA3-4007-9D33-0FA5799C095B}"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A64ACFE7-52E1-4B76-9C28-FB3D7A0CA660}"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2293FA1E-B956-46D6-B509-071452E8A800}"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FD625FF8-E584-4D8A-B101-B3EC9467D06E}"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ED140814-0246-432F-9F5D-5F3671F54478}"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5E5A0C3C-0AC7-428D-B605-7B2B452E81C8}"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8C01B662-1E33-417C-B144-400EA8D34733}"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E8C47B77-867E-4AF8-9FBF-F6A9D0632E81}"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4C7E0E8E-1865-413D-B124-589F14BA08E5}"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49788997-BFAD-474C-A8EB-558926DB73B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6DF1EDC-13B6-453F-964E-5F51D1CA1CC0}"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87FB3F00-ACB5-4442-A5B3-358C43839E48}"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5982046C-3243-49B5-8BBD-94FE0539823F}"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1A0BC438-DC76-46FA-B40E-276E17A7246D}"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3AED1487-1406-425D-AD20-AD2E94B2D8A4}"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EFB432FE-D69B-4ACE-BF27-F8FBCF4AF414}"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C16AF8B1-AB35-4BB2-89F5-845EC4F5EBB8}"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95C78F7C-967B-43E3-91FE-6031D0D5283C}"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7934C928-A45E-4C15-AC32-27B541660576}"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72178C85-EEC1-40AE-885C-D8EC8F2CD090}"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A0B54D2D-1572-499D-B11B-AD6FF1BA4A7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B2ABF5CB-D21E-4CE6-8136-41653213353F}"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098BAA9D-4A55-4085-91D7-2306276F3627}"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91984512-7977-4ADC-9EDC-8D5570F83140}"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19E1772E-B79A-48FC-8AC5-BB4934EED9E5}"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0ECC5FFF-4387-436C-9074-81B57BBF77D7}"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7A68CCB3-54E7-4FC2-BD1A-6E6818CF60D6}"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25C2D2A0-244F-43CF-955C-BC28C7A02864}"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7EECE64B-074D-44A9-B425-E8FE28127825}"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38422EAC-757D-4FB4-86F2-004ADA202E25}"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6E35D1CB-5125-49DE-B186-0EB190C79735}"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0AB3C9ED-FA7E-4876-B66C-A763B6676FC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20D6FB6F-E4F1-47F2-B9C2-E9A9CE0CBF09}"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AFF26743-384C-4325-B876-18559C5430B7}"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855E7FB3-3083-44F6-A648-2E5A47F7248B}"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C6748FD6-3991-4D34-A57D-C104D23644C5}"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BF6FF872-0092-4F4D-87A2-83B0AD8CDE4B}"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6A049E80-02BF-4591-9CE5-10A8FBE57FB0}"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BC932B17-B2C4-43AC-A5A9-38FA89B1BC3B}"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F8A54BEE-8B90-47E5-995B-A0E69B339D22}"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E1883F58-4850-4CD3-A799-6DCBC4B85FA6}"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BE4109DA-6D2A-4082-9559-CC8E5722861A}"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58058072-1BA8-4057-817C-6D9FA4DC159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E31C101-66B6-4A90-92F7-064D1D284FC8}"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12C3DDA3-64BA-497E-8E34-778CB77A4E7D}"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D20702E5-054C-41E6-9016-663170BAE455}"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59BD8274-338B-4BC6-BE2E-F4C506B7AD1C}"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3184A3FF-5F35-44B2-88F7-B3F92F5E6379}"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6806B878-F02C-44CA-8ED1-8D0D02C2114D}"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AF04082E-AF57-4267-9289-34F5E9B5FB47}"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8D0F23D3-AA48-44EA-93F7-32BF49449A37}"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1FFED26F-34D0-40A8-AFD8-919925538EAE}"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C887879C-E411-45D4-A255-F881D46AEAB4}"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9D3A44B6-C1BB-4D9B-8C37-75094A5D31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0238B634-CCEC-483B-B0AF-E9228FEF8C3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C1997310-1262-43FC-AEAA-B68B1A20E6D0}"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C03AB735-2F7F-4731-8EB8-BFADE14CE78E}"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C68636E8-21F0-4657-92A7-FA1FCA329384}"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A1CA3442-38AB-4AB5-A6AA-9A990F95DB98}"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9BE36647-E1F9-4361-8C62-97EADF8712CC}"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0E3BB524-CF9D-4A71-A16B-D2B137249105}"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64FD0A51-0D5A-479A-9721-50CE531AD97D}"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ADA2A3B1-5C40-4187-90FA-C14F69C8A364}"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6628814F-C9AC-45E8-91DA-8EEF9801379E}"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04C58926-1BC2-47E2-9BD1-E0B615DCD932}"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D522840D-01CD-41FB-B8C0-86DBD70F805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9272FD3F-91EE-4AA0-AD45-037B0DEFC1E1}"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BADB1C32-F851-426B-BD59-CE4B1587E9A6}"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FEF769DC-6D9B-45DF-97B8-4403334442E8}"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56256900-3B02-4B11-8B9A-ECB013D77736}"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DB87FD01-2C3B-4EB2-A0CB-404F235B0312}"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7D0455AE-5C3F-4A19-B4EE-56B547761D2B}"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B7E528D1-ADE6-4955-9D4D-12DFA19709E6}"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7DDF4AA5-7F47-4474-A52E-8BBE2CDAE044}"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3FF45078-ADE8-477F-933D-EC9EA544F7E6}"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2B93F92B-29C9-4CC3-845D-1DF9DF53F259}"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F31FAAAF-4AF4-4814-8ED9-ABB125CB088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A93F3CD-3AF8-4A86-BF2E-AAF9422A8354}"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FEF1EED7-186C-420F-9AE4-92C5ACAA40D9}"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1459719E-E186-484D-AE4E-3F2F2901E866}"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5BC2F675-7E31-4B72-818D-DD96D666AAEF}"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23F549EB-629A-4977-BD27-FE66902B2CD2}"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DF643277-C4A8-401B-AEC3-ED6461338EA1}"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9C7DD6E4-821A-4D76-905A-A6FDFD4B44CC}"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DD855290-1E04-4FC5-88C3-214D26860D2E}"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35D064F2-89FE-4DDE-A03A-C4E97460F6E6}"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0D1838C0-C5B0-4105-B561-CED59280DA3B}"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B1E96631-353D-4C1F-9405-390AE7F55A9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961E2F42-9F87-4A98-B1AC-90A361EAEDB9}"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487F52AD-51A9-4C74-9023-52C286A46902}"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7BF4E943-7C7A-4BA5-8885-CCF766B55F2F}"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ABD3D6C2-F984-429A-9AA6-685ACE3DA447}"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5FC07A03-F8B4-4CBB-B79D-AEDC30F7B6EF}"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1744FAB2-F540-4162-9E64-35FEAC776D9A}"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9914D990-1E47-4E88-B2AB-3BCBB2CCCA8B}"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D9898657-B928-4947-A3E8-730B2FEE2729}"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BCEBE2EF-7BC2-4D5C-A0B3-7CBC3D38CE81}"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C761139A-CEDB-4E3E-8197-B35B18F5A1FC}"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8179396A-5D0D-4D72-A8B9-0497BA20AE4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01DB5717-AD3E-4119-892C-4E53DEA67677}"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02B02BE5-006A-43DE-A896-ADD897FFF75D}"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9DE9558B-D9E5-4CB9-8236-E40B112EC18E}"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D29E3CB4-16FA-447A-A890-333A2735E3B7}"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9C039AD5-6428-47C5-B79C-6CDA5CC704F1}"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631FF2E8-C5BC-4993-87E5-3187DBEAFBAB}"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ADB1C664-00BC-45B9-9E82-9F6B9AE4AA84}"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AEECEF6A-C39C-4709-A753-F337C00CE5B1}"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7CC98107-5633-4A5F-A94B-8DF14430461A}"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82703EBC-75F4-4F75-BB03-3543322692B5}"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3F698B70-3328-4D84-8EA3-1FCE0673465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C6A6EE1-A049-43E0-8B88-DDFDE30B1593}"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2353A114-E5AF-4D56-97BD-646C319A55A9}"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755DFE2D-FD90-4585-B522-127C9C94F1E8}"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45320264-7E55-46E2-9220-2A1532D8E9EC}"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FEFC3C48-DAAE-4552-B5AF-928A5693042E}"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E8844ECD-C2C6-4D5E-B99D-B4FB31366A40}"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83AA1548-A6EA-4AAC-8B3F-5B90A416AD7B}"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C3271B9E-7F57-46EF-BDB2-48C33FB3BA1A}"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9E0B5959-AC7E-4E28-BAEA-242F8DA1DB6A}"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8DF68DD6-7A46-477A-95A4-7F018849FA2B}"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0A639C31-F41B-4C62-B8F6-D1E4099B6EC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297398C-2595-4AC9-B3B7-8097392CF521}"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E5BF4A83-DFA5-4691-8583-FAED4A5D3F3C}"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E9105876-F549-4B9D-B434-2B7DB9B86B7B}"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496BF6F7-6785-45CB-B0DF-D4893B7CD078}"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612E95D0-0525-4835-A213-400BC2B4708E}"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9514DED4-C343-4670-9AF2-CCE58A40DAC3}"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0F8D1AD1-AE6F-45CF-815B-F326DDF008F4}"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FF0DAB50-85E2-4EB6-8BFB-F91D3051C439}"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A0A5E74D-E0E0-4EB6-879D-024D5C7B8079}"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FB02AD22-6304-44B7-A728-1347A2758325}"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2FADD821-7C81-4C26-A4CD-A0649DE6F17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690BF84-B696-45EB-A097-9F18126CC84C}"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9A8E9ED9-149F-4022-BAAC-B38A1F3A041B}"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5FE2291E-B78A-4BFA-AA22-16DFB029D09B}"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879B5E13-7A95-4AE5-A747-181682CDE72F}"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D9D5C415-D9E0-46CA-89A2-B5BE39FF8492}"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65885341-9F6D-403A-AF04-6273183EC837}"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B8719BED-16D9-41AF-8E5A-7C6A2EBAB558}"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3EF9A259-0D03-4475-A8D4-A3A85ED71C9A}"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F51504E1-C83F-4DDF-BBB1-8F6AF192EC22}"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3C2F7423-2051-44D6-810D-D805FB523543}"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F32B88C6-BC65-4994-83FD-31CDFD32388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D175AA9-CC5B-4FD2-B0E6-464555A5F08D}"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A5A6572E-922E-4392-8685-D4ABFE365714}"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8A17BBAB-0DBF-4DB0-A2EF-CB52BEA72C6A}"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E74285ED-0763-498A-91CA-051FFC9DF5E0}"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1104924A-C930-4710-BBD5-797D80C57224}"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46EC2156-C438-44FB-B633-90C154DE000B}"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7EC49DE6-8A0C-484F-9CBE-34B6AFCB4F43}"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30AD0F95-F0E6-4002-94EA-E07C55E4ADAE}"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7EA98386-0EFA-4303-AE6D-6E3C95BC0DCF}"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15B70AB1-46D7-4101-9775-90DE932D204D}"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92CE97B2-CC2D-41B3-B5B4-7F4D28ECAA4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0F8EE906-55CA-4235-9221-8150947D82D4}"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B00363F1-B4B8-464D-AAAC-A4B1BC8E05CC}"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28D51E54-D478-4B77-B55F-D39D874F1EDF}"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91534159-F9D1-41E1-BFCE-DD291F8D43F8}"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37FEDB56-34A1-494A-A72F-901EA7E5C381}"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AA26B44C-5552-4FC0-8491-D34CCADDD658}"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E6BC947F-8B35-47AB-8990-394FF4B587C1}"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365CF4D6-928B-46D1-8C8B-5ECD334A498D}"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68F43DFE-6648-4FD2-BED4-198B19F213E7}"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91632B0C-005C-430E-A384-9363E1868905}"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433D5A5A-985B-41D5-8AFB-F54AFBBEE4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4BB78587-F4E7-4A82-ACEF-1F402401B8B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ADDEBD6D-00DB-427C-BCAB-77578DF171C1}"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AA011841-BF11-45EF-A536-A7FD95C4FDE2}"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1CF5C05E-2B0D-4BC7-A440-360474C5983B}"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A3406E89-D3F1-49E7-978A-1960C47AAB65}"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CAC28F7E-4913-409A-8E24-FE99868EC45A}"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9E8E67FE-674F-45AE-8A0B-E494B3FF49E1}"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6F1D9A71-014F-4E3A-AFA4-54F0495D72AE}"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4C72A6A8-EB80-4F77-9316-58813BF18EE5}"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DF5CE16A-65FF-4C91-8049-C5F4A84ED417}"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F88FB50E-922A-4547-99C6-2F6E2F53A9A3}"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F7174F32-270F-4B69-AB3B-4C714CB23C7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D898BA9-1F43-4A18-A7DB-3146AAEA014C}"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2B9464CC-E584-4761-980C-53821402C2B2}"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F3835B03-B218-4A4C-8929-ADA6D59748F4}"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C1780903-FD24-494D-B51E-1FD9AA496985}"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53C50454-DF1C-4470-8A04-1D27CD367338}"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39BD5A72-0F74-4D4F-AE96-42CF6BF6FF76}"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B6DE6779-36A4-4575-B267-52BC1BD07E57}"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F8704057-D5AE-4200-A745-7E53E8CB1E16}"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843CA9BD-754B-45BF-8354-79F1892F0352}"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FB5165EB-6AF3-41E7-8C78-855A5D20C548}"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AC5DFA29-CC4A-44DB-A28C-CBB2E7B79BE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7631CFB5-225F-4B1B-9F28-0375B718E466}"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AB4FF61A-EB97-4281-BB38-F190DAABDFB3}"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2D9057FE-864F-49F4-8195-E4959F8FE6C3}"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DE312F28-9513-47E5-B84C-6B4D4BBCD6C3}"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07A16273-7735-4788-9B22-DA9FACF9FEFA}"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87B5EE87-5A95-4723-A9B0-17B39F6FE6F6}"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40B00793-77F7-4B49-9005-AEF655A13FDA}"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5CB6E5E7-5053-4EAE-8A06-F100CB9E4896}"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B666B35D-7D87-414D-B2C1-A61887888B73}"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ED6898A3-67B1-4C58-8534-DB4609044B32}"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49A584FE-E8D9-4859-B2B5-3920B3180DB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06A5D92-9A89-476E-8392-4D35286C2165}"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CAC3E179-72CA-4110-B6FA-E6467073CBB7}"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1736DB17-E3D2-435D-A47E-B3AAEB62A138}"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9FD5A718-6131-45C1-95B4-216C6746F262}"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CCCD840C-8F0E-4033-BD58-E460DB6F4682}"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992D71E1-FDA5-4185-8DE5-FDC0C97FB060}"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DDA42D50-F11D-458D-9042-E03C25E5D022}"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139433B9-669F-4188-B030-9D783D32CAD6}"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11A37FA2-D1FD-4617-9F0B-68D105B6A369}"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03DA6553-8756-4467-AE5C-05A14522E1DC}"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A70D4140-7C31-4245-8250-DEF3D378957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CEAC0294-522E-4341-877F-9B482477F0E3}"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0415571A-67AF-4C57-8ADE-C3367E9031C8}"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38BAD480-CE22-44D9-BD96-12582B8D23AB}"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D01B19BB-5902-4712-BB71-C4CF25FCAFE0}"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8E009AA4-9456-402F-98E2-2E6B62BA3AAC}"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4B894FA7-1630-47CC-87DC-1B24160AED29}"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C9398363-1514-4CA4-B53A-69028B0885AA}"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FC433792-FA65-4EB7-A014-9C89CC18C4D5}"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028517AC-629A-4705-8523-0FD1CBAD542A}"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A37208B7-85FE-4EF8-94D0-ABA07957539E}"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93935704-80EF-421D-9126-5F459649F17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48E9D4B2-1483-458F-9F4D-890DCBDB110A}"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365A6150-15F5-45CE-9863-841CFA897226}"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058F7165-F742-46A8-8DCA-AC4B2BA734E0}"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D136ACB6-DC3F-4358-9FD0-91FCBCFD8E95}"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AD39ED07-E404-4859-A945-E25223E4BC3B}"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4C64AC3B-1847-48E0-87E4-EBD82715FAEF}"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E14A9AC6-2EED-4051-8016-8EBEE687D60A}"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6AE54798-A649-4008-9155-422A24A07F35}"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29A3F4C2-7E65-4387-AD61-5E889EE070D8}"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74F53461-06F3-48E1-A168-95F3E7EF5577}"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32919E50-559A-42E5-A93F-96CD52DAEAA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C746AF77-5528-45A5-850E-062EB33D2B3A}"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8E6B107F-7037-4F1B-A947-1B85497C0CEC}"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1BC8E2FA-B45D-47D0-8816-4BD91FED2D06}"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726D5C51-687F-4D65-A844-58634AD0B976}"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E9E78300-5C39-4AC2-8C30-C3F909C581EA}"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9484A630-BAAE-4C45-8B71-3A53E5077E41}"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E25603E1-79DB-44F7-AA1E-948BA0EF6895}"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3BD5618A-CCA8-43FC-9EC0-794D5C2F3418}"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BE3DBF16-C9B5-4F97-A9E0-750FFD0943BE}"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34B745F7-ED61-4F63-9FEA-F51448E9AC15}"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2197A10F-38A8-4D05-B798-97DDB7AF866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412B5C9-CDB0-415B-B59A-DD7C81EA8809}"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7A0A58B0-CC62-43E4-A84D-88E98E165189}"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DDE331F9-8A95-4068-9F8C-7DF831448AEA}"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B71C6B3F-F5D5-4652-9EFC-727592B033F5}"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361DE79E-DB2A-495A-9C5B-9EB9A08D5213}"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4F656F87-1854-4566-ADB2-B33E9D97E65A}"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2E5CAF10-4C17-4555-9E4A-C24C62D3F004}"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EE9077A6-462F-4A58-829E-BF7C8ED41B83}"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1B4AA8EC-0B30-4C42-B688-7A09EE911A1D}"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BFCBE07F-D468-427C-9C8C-AF3EC4CAC7CE}"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8EDD6B53-92F6-4332-B5BD-9D443ABEE00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7222AF9-3ECD-46BF-BF15-AFD9C0D9908B}"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D66FFE12-5C2B-415F-8FCF-FD3DFEC3413D}"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EBAD2148-E680-41CC-AF76-289A53242727}"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879CD85B-E94A-41A2-A785-264F89CA38F7}"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116B063B-E616-41E9-89F6-02F8FCC3731C}"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E7F29BF2-6C0D-4355-8CFD-2933FB731CC3}"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36A4E665-0528-4ECD-B069-32D121D6F557}"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87AEA0A8-A6BF-480E-871E-29EBF0D7AE1B}"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120941B7-78A4-45BC-BB64-0DF1D835662E}"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43A1CD1B-96B7-441B-9A26-BFF2F54A35EC}"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DDE6ED5E-E6F2-4DB4-93EF-7B9D84DF8A5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8EFFB27-685C-4675-82F7-B4FF15A34F36}"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AD914BB9-7AEA-4336-A2F1-417D0A3D8BD1}"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35D44EC1-9558-4B07-9158-8786E9813341}"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8125FC0C-50A4-49B5-BB10-B01AA523B857}"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99591365-C294-4DFE-8275-09220F429A47}"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50B69668-FEFF-4E30-8F1D-40933A0CC355}"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6EE8B01A-3B5A-49F1-9D45-471A0CB8AB3D}"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EC32053B-812E-4C39-A982-9E2EB362D0E6}"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A492C974-377F-4B1F-BEB9-CED06B2CCAB7}"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F5469C7A-1A23-41A1-9CFD-CAA960429143}"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A22BD29C-FF44-4B5F-84CA-44AFB0CF8A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63F6E9-4F18-47EF-8EF5-FCF98391201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75B68764-CC5D-4B60-A14B-B34208967905}"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33738EFF-347E-4A0A-834B-85F70680B7D2}"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4496DC34-635B-422D-8C9C-058D21F7B5B2}"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438AF530-079D-4EB8-9201-A2F042FF6261}"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2D8D91F5-2C47-4A92-BA39-C202F2DF5FC2}"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5081955A-C212-425B-AAC8-5732A1A20AD8}"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AA718E2B-69FD-4D8C-929A-423AB99B1664}"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7CE10F99-5DE7-47B1-B20B-54A31E338A63}"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37B7C5A5-893A-4F89-9381-24F45DE2E391}"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0F2FE84C-F142-4487-8CE7-59CF34601A10}"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121F18F3-F014-4589-9D34-9E14E8ECF2B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A0F9D721-0C9B-4186-8D3F-C98FEC4D3E32}"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6D4110EE-69A8-40D9-A861-704445E3C63C}"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F114ADE3-457A-4B51-BD46-5D703348B860}"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52F31BCA-8026-4C3D-9277-A6CD15821AD6}"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53A1A7D3-FD76-4F73-A0D9-78CF8A27AECD}"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80598956-A52D-4831-A788-2EE55299A75A}"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7777F7F1-4133-436E-AD5D-670FA87F1181}"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7B409942-B3AF-4DC7-8F5C-E7923FC38A7D}"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E5A84E75-A419-451C-95B6-A7C270BEA9EC}"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E8766BF5-4223-4B6E-B2DF-B28F6EBE3BB7}"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08C99608-F570-49ED-BE64-0B48374420C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A025AA83-8407-4364-965D-AF003603E259}"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AEC56E2F-DB39-4E04-A41B-6A72DC6C4334}"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AA202F74-8FA9-43FE-952A-6748A0D59ECE}"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8100C7CB-F2AA-4C45-B28C-44C778770526}"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347CF00C-8BA4-45DD-8983-D5DE81DFD51F}"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3F413204-B48F-4F5B-A791-D48BD6D57794}"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29600580-360E-4B86-B797-234DD8848839}"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DE5B5FC0-37F0-4AFF-9679-4298DCFB54D7}"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1AD95B1C-366D-468E-AD45-C4869DDC2416}"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9BD5D92D-AA74-4A44-BF71-1A2CDC45DE2C}"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FA400BBF-77DC-4B3A-88C9-B86E2DF7E35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D4248D8-A239-4972-863A-0010DB83512D}"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0FD99C93-B333-4BCC-8991-10612AAC1E93}"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2279AFF0-0C4A-440F-A6D1-90F100DBF282}"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4A5ABE92-7261-4C56-BB04-2799E7164096}"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69C8885D-9C75-460A-A96F-5CF130EC7527}"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0A9B9728-C351-490F-A307-0A4D2C80639D}"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AF7BEE32-50AA-4228-B183-FD3FC9A39268}"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57B00ECB-1C2B-47AD-B939-9B04CB31E075}"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D0078140-EFAC-4473-820E-AE8366F2FC2D}"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AF751942-BFE8-4A21-9732-7AE8BF1654AD}"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A07AD686-4C35-42BC-BEA6-B02EBF85A81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05E6658A-F4AF-4B21-BBAF-0D0A0A22B1D9}"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A97B5008-CC60-4379-B068-74953A7A3C15}"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F49B6D73-755A-4E82-A653-5870DB1E0441}"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026324A3-0C56-4A0E-AD1E-4B8C852D72D1}"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BB838466-9C2F-40ED-9854-070AAA92D031}"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3B980E41-8D98-4E46-A010-2D76107EEB62}"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129E5849-A860-49DA-9076-06FB73E5F53E}"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BDAF6F2B-4788-49FE-974E-CAB20C11EC76}"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23BE9796-2C6F-4644-AF19-B8691D4EADED}"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D45B1693-CFD7-4FCA-8697-B5A3BECBC039}"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BD117894-9092-4B5A-9F1E-6BCB9FF2CAE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6A1B19E6-B3EC-4403-90B2-560C8973D176}"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E0E0ACA7-53F6-422D-B013-533B530F3C11}"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5048E177-9CAE-4DAF-92A0-B6A5BCBAD91C}"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A4772ECA-77A7-4A8A-BCAC-F42B2E573F38}"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9BF65487-EF1F-4947-8482-9B1E09B6FEFE}"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C7534295-4F03-4CA3-B7B8-31C28BBA8366}"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C363A035-4780-4C94-922C-F7FFB787E385}"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17B378D2-F9E3-46AE-9D60-06A05E5EAE51}"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2BC3D318-B150-420B-873F-32435C16F6F3}"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97E41AFD-CD51-4066-A749-F8C4FD064838}"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4D68F648-2CBB-41EF-AB56-B3E2B00C256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BF6718BF-137C-4FA0-9E3A-797300143B8E}"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9894E3A4-1325-47E4-9EB2-2A69E9BA26B9}"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8A84A9D3-C2E6-4F58-AD8E-E2C75464CEE7}"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10261F61-4F3C-4A37-A5A4-79091940887D}"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62D2D462-137B-481A-9067-669019E69242}"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AF2867C3-A760-43F6-83CC-282C5F9E7C5D}"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59607A6A-0626-46F7-8137-6EC42357711D}"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90672434-4448-4ED7-AFC8-B1B9C5DF2A3C}"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96D6B323-CD09-4FDF-88E7-81D14C9D1E40}"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20E7F8DD-8E5C-4963-BCC7-841756462805}"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25C3938A-4365-4100-B4BF-EECB1C89566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78C930CC-F335-45D9-B70C-D97AE53B5039}"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41DCDCCB-C678-4680-8EC3-EE2440D22011}"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581855F1-B142-4E66-867C-A393C74D7840}"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59325E50-4FE3-4700-B620-A5AA88F1E453}"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60ED427A-1842-4B59-9124-06F99FBA349D}"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0F59CB91-DB35-4169-A4F1-F4DE64FFB3BB}"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CFD4777E-7157-46E5-A7F3-1B301E068914}"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92BF445D-2C17-493F-82C5-A5A6F6FA0C49}"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2C1CAD19-263F-4459-8EA7-C6A61F7432E6}"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3631A045-2952-4C3B-8207-8FD4DA4A472E}"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92EECA11-ADDB-4B8C-89CF-8EDC3A57C53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ABF10B26-D44F-4E3B-AF51-69D50BCC5E55}"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6AFFD451-EF0A-40D7-9CAB-071BCE5015B1}"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1B220D05-ECF6-4A72-BA71-1C2424CEA086}"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0920406A-EC94-4A69-88E2-AB03172179EF}"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7308B655-DDEC-4366-B220-F57FE70A687B}"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A3BEFE6D-E080-42F1-9B57-26DF9B822627}"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3D5DC8DF-74EE-4107-B1E5-A46ED7D19BEE}"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D3EBA8FB-FA27-4149-B3F1-938782C524BC}"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46DF26C9-786F-4E27-8285-EF28F9E74877}"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997F84A3-7E11-451C-A06A-61BBC56054AF}"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64C80387-199F-42C8-AA39-2E65C4A69A9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F111552-035A-44B2-BFBB-9C5BBFD4E528}"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7FDEFAD3-63E3-4101-8218-DAD6B6A9952F}"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D4574944-CC05-45BF-855D-B20C8AF68082}"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1A527EF0-155B-4997-8C48-AC4DAF384044}"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9D85C7EE-96F1-4819-9655-4F017B7FED0B}"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BF03C885-818E-41F9-B5C4-E09FEE2F699C}"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4E5D697E-E810-4C38-AE2B-78EE6D76D4FB}"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9C564669-6F22-4F01-84DD-35BA8EF6CF09}"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2471F0BE-9192-45C8-9254-35DF43B4D066}"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FF9E6BC2-2A5B-4E02-9B87-BEE379698091}"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91DE3758-4848-422B-8044-BFC32D1FBA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D75E21E-1CE8-4526-88DF-E2F635934AA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12AA6A2-D995-4BCA-8F88-82D2FD743F96}"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F7D45B91-2E26-4325-8CC9-F360D1E95B94}"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321E0A6C-B5A4-42E7-848A-31C86DBD4580}"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33ED9217-0AFB-401D-8295-FB9EA90AC922}"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5B60ECE8-0DAD-41BC-B1AC-DF88795EF55A}"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C675457D-425C-4F93-B607-439E300F2BED}"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7652A48E-2171-44B1-BCFA-F3499530AFD9}"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3365B892-CFE5-4E40-A5AC-7FA3B8814683}"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23CE0B39-87BC-4699-8104-87C648002746}"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DD4F34FE-90D4-4CC1-BB41-5B5A3914D64A}"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08DCBC50-A767-4082-B1F9-ADFDB8D17B1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B5D3A7C-001E-4A30-8706-45AFE3C880BB}"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58266C51-B1A1-4150-B7CA-DFB3BDEBFE8B}"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0F2943C6-CDD7-4C1D-8312-5B2F212A91BB}"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D5E80530-A4EB-480C-B507-B12404D509C2}"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5C3E24B1-378C-4998-B699-FFDA0A135ACF}"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C43F79E7-7C59-4B1E-AB3B-CF2D5DFE1E5C}"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970D2F8A-A0BA-4C07-8BAE-FD55E1207470}"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E40C3BB8-6673-4732-9490-4058408794AE}"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B786F71D-0D95-4DFF-957E-366312F052CB}"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5AD1A31E-31A9-4296-9475-F71B31E91BBC}"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3430C11E-5DA5-4B7D-869F-C27585674D7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2F4AAE71-446D-4B83-85F0-01D42E4B0BC3}"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91EE2289-BBC2-4E22-845C-B06A2CDB8C7A}"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E4C7A428-94AB-4553-A78F-5E88B72DF683}"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AA118D62-26AE-4E89-B5B0-D428125967A3}"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2A858716-1662-4875-960A-C67249C112B3}"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CCDFE983-EA38-4011-B70E-F8027FE463FE}"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A44A6FF9-D117-4045-B1AB-0811BBCE3476}"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C965C38A-E0E7-4B20-950C-7B7978DE357F}"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BD943384-7589-434C-8808-84D23D544471}"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6405F61D-91D5-4A9E-8A35-1AB97CCD3210}"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2A8FF425-2179-48C2-B665-5338545D17D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1D078BCE-8824-4D15-8668-8BC9FB3FC760}"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37D84E77-A00B-4E22-B1F0-DCC731E70B48}"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2D2D4C6D-F2B5-419F-ACAF-C567E6FC1987}"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DBA26868-32BD-4D8F-BFD3-1C382A2CF422}"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A016D6BE-BE35-48E8-8D7D-A08321AB34DC}"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E1B7D0A9-2A67-49B0-9A54-2A21D3F6CAE1}"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68BA2A88-161C-439C-AA03-220B0BCB3D1E}"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D2E1A051-82B8-4B01-9C00-D491220B6A0C}"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916E0EC9-B3D4-44D1-A33F-DD3A7D3FEAF3}"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E0DDE8A7-2FFC-4BD0-98CC-E6CBC707C5D8}"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5DC74D33-0095-4441-9B2F-8A61F0AFACF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767E721C-60A7-4446-AD86-DE24EAF7F041}"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682749C2-DB7E-48FC-ABB3-6C741C2D1424}"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75B74BFC-3C79-431C-9B71-7F92BE584946}"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AA220776-AC7B-4394-9E7E-3432A1D4DF5D}"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B8934CF6-0FBB-4364-9F84-8541099B6313}"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4F80832E-54FB-47FA-9106-91E709B494EA}"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B425E734-6A89-48D0-A0A8-0C41F5012E97}"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6235D627-2149-4CFB-9522-AF69681BE77A}"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C7CC9C56-0C5F-4AF0-8A61-10F4B97BB3C8}"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148AEF1C-87AD-46A3-B749-9801DE824E0F}"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6ED01EE6-2A85-4F07-A566-5F6ADA10E25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ED8F4E6-FA38-4A0D-9586-97D04007F97E}"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E225D208-E2AB-48F1-B7D0-A0FFC8BD4198}"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D78E396E-85E4-4025-95AC-687218D39C71}"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3F14A37A-9F50-4EA8-BBFF-025E44E23F0D}"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88F6EA3C-7AD8-4ADE-AF2A-BB8D0C1E4D6A}"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6A099EEF-C17D-4347-B822-9D3D95AD1D4C}"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419004C6-BC2A-41CE-9902-2F155825B412}"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B766D8F4-52A1-4F8E-9CBB-58C1261B00C5}"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A9336DAA-22E2-4A3E-A73A-6F953D1E10D6}"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212B3561-B1AE-43FA-9E3A-4D6CFA0BA117}"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702F6DBA-982D-4AA5-BD76-2E44CF39C06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AAC9FC3E-8F7B-4158-A38C-5DBAF4EB68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838E9E5D-2B4C-4221-A016-02DE20B4C7F7}"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E324DEA4-6128-4AB1-BC26-E05AC448E645}"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774CEB7A-F8EE-4BB4-A160-E88BA21D3BEF}"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C2115256-096C-4D6B-B0FB-4FD1FFC14249}"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96E7E993-3231-441D-BA02-AF67D52991D0}"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0F5606FC-8C30-4A95-BDE2-A77158BFA6C5}"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7864E446-7726-4677-9D4D-0417710BF767}"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06D5418D-1080-45A0-9064-B35164461715}"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01EB3E27-1AEF-4747-80AF-9DC79159BBAB}"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13380318-C8BD-4EE8-97B5-304E47A98C3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EF671DA1-D477-4DCE-B97B-824207D456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F520C2DB-F856-4A6F-8799-B2AB0B2271E7}"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B25F8B4E-052C-4F8F-83A4-4794EE4C0A08}"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BEF1C72E-ECD9-4D06-BB5D-74023CA9BF02}"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05982887-7C59-4C42-A80B-18ADD133087B}"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A383D2DE-0037-4F64-B5DA-4C93199C1E67}"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97D7C3E1-23DB-4574-95E3-E695FF813F21}"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84A34D71-6D7B-4E51-9E9D-259CA04BAD7C}"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B65875A9-8C49-4A50-BE8B-A99F8334C336}"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883F338D-E3EA-44B6-B115-D073EDD0AEF9}"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A3ABA69B-6A15-4704-A128-41CFD9891A8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411EA365-DBFB-4717-82E4-5CD9AD7CD0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63F40E96-FFA9-4EA4-BF9D-B4BA080D9810}"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F8D5BDF9-AD4C-4A2C-830C-F341DF906A6D}"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A8F7BCFA-BEBE-4323-94F2-853982DC2906}"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39FF9E78-E4DF-4570-B76D-4C5468D5B621}"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2069FBA9-45F2-416E-A735-C4449C3494E0}"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B6550182-0B87-44AC-A4F1-1BF49768EC34}"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1933C256-548C-4BAD-96FB-CE5B0C79A32C}"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F45B4046-1793-4E7C-9354-3AC7886E0235}"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0FF34712-A11A-4F0E-9C29-A4B4A51F1BFD}"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3544DC2A-D900-4844-BDDB-505DBF81B16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61455276-9837-49DF-B893-1E3B2F464E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56DCB790-94B2-40F8-BC74-D1A23D34F43E}"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B81C275D-D7EE-4DDC-800C-4EF5F86EF6EE}"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928C6279-8ED5-45EB-A771-997548F87728}"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89158730-57E6-4B38-9E92-CE9C7949F989}"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50F554E2-50E6-4903-A6B4-05098D244712}"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8E1C7BDB-EDFA-4171-9F80-7DB9A22B6FB8}"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8557EB14-C476-4E44-BD9D-7C077C279409}"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97B60D91-BD4E-436D-A9F9-B357B6CBBA0D}"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88B899D0-4410-49D5-BAA4-0423893BCA9A}"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52206361-EA1D-4960-992F-F19C3B986B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51A0E3F-2D32-425E-A2F1-59DD4236823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8A7CD5CE-36C4-408F-8418-ADE2D07FFA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4D6DDAD6-4FF4-4C0D-A31A-83741F0FA1A4}"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9A9E22AB-FC55-4473-9DA0-1DB652CE7943}"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F5ABA7AA-8AE6-4C7B-A4B1-FE73F611D2E2}"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A89AAAF9-4BB9-4D67-AC25-D6685378C47C}"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1104B509-1C5D-42DE-9D78-A837196DEB28}"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C455D551-442A-4398-BE47-A50B1E9B2D1A}"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4401C6F9-5462-4668-98CA-C46A670896A0}"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97D01F7F-DDEE-4ED1-B80D-4395193149B9}"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77456C6C-1253-4D1D-9310-FB8D0BEF3AC3}"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31F8C81C-6D96-40B9-BC69-A47C467E63B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6BBB6B0-8454-4A32-82D8-4114E757B4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0F699B85-6D54-41E0-BFAE-D997D31C9EFA}"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AF607664-CF3C-41FC-BA88-4B17601E2870}"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1B70F8CB-9FBA-48D8-87EA-71D0F1BCD2C8}"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1484A417-EA2D-41EA-B643-5F27E0CD61F1}"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EDD57850-79B3-480D-B920-8AF96B870D50}"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6C0A3555-D9FE-4A83-B109-A6AC4525247B}"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F64154F4-39F9-4805-9C49-DE466FFCEA89}"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2BA0747F-6552-427F-BC83-99ABE8189825}"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FF1B7FAD-B77A-4ED8-B297-D1CCF2FACFB2}"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9D6E27ED-C3EC-4863-9072-448A2480303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F160FAD-2FFC-408A-B735-EA4B8EA5AB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E5B2666B-040B-4227-ADE8-7DEEEAF4188E}"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A108696C-82B2-4D3F-876E-AAB5D912B01C}"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7BBF4229-634C-4DB6-9F80-57336CD11275}"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62CF4B3B-226E-41D6-9C2C-0A2DEA1775E6}"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7CF5C43F-967B-495A-AB00-93A0EEC0B926}"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23E8E5D1-7161-49FD-964A-58C44EF9D147}"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808FF461-8A7A-4D86-9A7B-E0F9BAD04D17}"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1E7C0C78-0768-4665-8F6E-33781EDAEC1E}"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2F941318-813D-41AE-B046-AF67E38C6896}"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0337F4B6-54F9-4268-948B-2A3D5A75769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99B7CE74-6D1C-4046-BEDF-D2181662C1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DA159E6C-684A-4857-8FF5-E568F8BC004F}"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3BC980E6-70F0-44D3-AE61-6147BEFD8216}"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FCC69525-09B7-4BD1-9F49-2647274BED38}"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FCAEEE91-E7D6-4FFD-8674-95D8F8D5EDD3}"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599A052F-7DC8-4071-BCA0-6C9ECCFFE27A}"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9E1463F8-8BF9-451A-B779-6C88684A0D11}"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AA612260-CBA8-4F10-AD27-C4874E8CA4F3}"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691F005E-2782-4EC4-9049-E6300199664C}"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82C8B22D-7A99-4728-ADFF-27B929E9CDD4}"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359BF3F1-0230-4269-84D0-A5907D8CF60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83EDCE52-F3F7-4214-9A59-144597AF24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32130C9F-BDCD-40E5-B60E-D9B8C0AC1F7A}"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E4C17BF9-CFEA-4E6C-8F60-96E5D1342E39}"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A60106BA-7F92-4132-AD28-23064C66D4F4}"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07175398-685B-497E-9BB0-BA9CB2751E6D}"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EB7A6983-A689-4B0C-B101-3746018ACF2D}"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B6BB0A99-2E90-4F5F-ADA6-68FE3A86A19C}"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381F904F-E88D-452B-B8DA-6E6BA3BC6943}"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57C6FE76-1438-4878-8E8E-A486BBB42B5A}"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39046693-443B-458A-B76A-ADEB8C8ED5C5}"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66E41916-8D2A-4B9E-AD08-238CD458990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4BA0F454-4DED-4503-A175-E57A9DC4D1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88422B00-3238-411C-A397-9E026EEF8569}"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77964D2D-3EB7-4724-8E6E-6999B514C2EC}"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75A92C8A-7916-4C09-975E-1BD0D01A055A}"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6680D7A5-738C-413D-8EEF-DF58E277113A}"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9A2BBDA7-5583-4C89-B18D-C31ED2E2CC06}"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AE1BB8CF-F0BD-40EF-9205-5114B8D1E13C}"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9A24AB5A-DE87-409C-B942-24899FA64947}"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ACB822AA-B673-49FD-ABB7-FDD389660BA2}"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EC270B43-8FC8-4EC7-9070-3586B9AB6435}"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8ABDF5F2-ACCE-4D5B-A213-BBBA36BCAF9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F4D59C9B-A760-4394-99CC-15072D6159C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6133B3FC-65E9-4B6F-9535-6C8CC57EBA47}"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54626619-FD57-4FD8-BECD-6F6D55EA4933}"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CE2B08D5-4547-4572-8ADB-73EC7CFD970D}"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91D8669B-01D9-4AF8-AA78-E1998F6749BC}"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05DFEFBB-082B-4922-BBB5-7CDD6D57C0F1}"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A1965FDB-236B-4C77-BB0E-2BAEDA4D79E0}"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44BED03C-D536-46DA-8A52-7BC7EDF93F28}"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1F3114FB-7A5C-4A05-BCC9-785EE81CC18B}"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D69D4EF0-E863-4869-98D7-C0276AF682ED}"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6971BEB4-C7FA-4BE5-B19D-D093377B009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51A024B-149B-4D66-9A25-A172C4FD9E66}"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CBE63E1B-0CFF-4166-94D8-2DF5F9D34FE0}"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D4236D6B-EBF7-4C92-A369-7FE4B0DDBD1A}"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9580E234-BB48-47F0-9397-07C2754A37DA}"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225FE159-D455-4B8A-BFC3-04BD43C7056C}"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738EBB47-9E95-48E5-AC49-DC22DFC3AF2D}"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DA154E04-3684-4C3A-BDE0-D099DE0EB3C1}"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D912E57D-0F07-47A4-8B0B-38E7B8F8E867}"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977CCDFE-AA47-448C-ADF7-6419C06C3792}"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8A8BA4AA-7530-450F-A0D4-C34453CA59E6}"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26CE0FC8-0B84-40B5-B625-288F0FD4030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8E031252-E094-4569-B475-696CD47FE8BE}"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8A4C7D63-30CC-440E-9494-BBA7499D5A3A}"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861272D9-7DE7-4AA0-B6EC-0428B8A50345}"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DAFA72A1-6D1B-4C94-B447-7E55DC310418}"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06770C3F-958B-4D9A-9588-7A8754C2ADD9}"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54F34FCD-06CC-4FE1-BC31-55E7B149EFDC}"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532CE409-CC6C-4777-8942-13A6EC0A64A9}"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046B8EC2-0BB4-489E-9D1C-B360EC3B6D6C}"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96D563F1-2FB7-4C21-AA3C-CC4287180E19}"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FF077391-0E50-4420-AD83-1269DD760079}"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3D9E0796-596D-4723-B91D-22415C8E7C2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71AEE0A4-2E67-4D3F-8E2C-180A6754C134}"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8FD9BCBC-509A-4E55-ABAC-618D33D52F0F}"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FA13852B-0041-45D9-B9FB-12BA869C40EE}"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C3A07D97-B053-487D-95A9-6678800AE814}"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C655EE34-4473-480A-B087-E47F398B9B8B}"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CD10430F-FED5-4EA8-9B12-845AD400C236}"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B660E184-FA8B-4D08-B4FE-EF21D54787D0}"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6F9EBE21-C952-4454-9398-6D72488718E1}"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59B6C380-7E90-4A96-BCB0-CC5DB02D74B4}"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719E3A7A-3FD5-492E-98FD-B02591E44DEE}"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D55FE412-C114-406E-8E28-2F83ED409F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CBD2F3D-6B94-46AF-B667-133385A186A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9D29655B-8F29-47EE-BFD0-314D724FC44A}"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8C42D867-C919-46BC-9FBA-6C15D7F76D4C}"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2810C269-C04A-4BBD-A3C1-F1E8171C5DCF}"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BBBD7AB7-F812-45CE-BCE7-1B11062F0A89}"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F27342CB-20F2-44E5-86BA-F214635BA53C}"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5283A700-82FE-48C9-B524-8E37843EEE01}"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CB23E7E4-BF9D-4B81-B671-F0470E3985A3}"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1E20C811-3A3B-43A9-AB47-3D3FB18B523A}"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A404F73D-A755-4BAB-B64F-E86FC77B88ED}"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4664A653-5156-4EDD-86B0-FC90861EA9D5}"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D4E76A13-971F-4365-9195-90F6A44E6A5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20EB1916-C5C0-406A-A39E-AD6A91EB68BF}"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7FB3369E-A0D7-4B54-A7DB-C56F8F33CAB8}"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D41F8298-D508-478B-B8C8-E32939992BB9}"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47FACF77-1652-4928-BD00-D1E4C8346580}"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CAB9CEBF-61B8-4C2A-AC92-0DD2B03D18D6}"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4E1506F7-8DA0-47A8-B3AA-5DCDA14D7BBF}"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FAAB9A32-3045-409F-8AB4-40FF3A5C6557}"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AAE9F037-8818-47A9-B5CE-165D3B7401A0}"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78796F62-2912-42B7-AE22-B06D931FDFA4}"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473C1CDD-0AF4-411B-BF61-38ACB2641988}"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9C4BAC40-1481-4736-AB2C-72402DD28BE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29D3B74C-3090-4CA4-8321-FC6CF55C56FB}"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C79F8403-8F75-4AB5-82D2-B13A0D321D01}"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67664FF8-0BD9-4821-B554-5909927A3DF9}"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EAF14F61-8DAE-4D88-924C-5AE38D16FFD5}"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3F40EC82-BA75-41D9-B298-5A6878ABF4BA}"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759AD91F-4428-4F92-A4C3-C321FFBE5331}"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402D87C9-4CA3-4089-A638-81C1113195A8}"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6AB250DB-8244-4954-BB7D-C043334E964C}"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5646F39A-706A-457E-862A-FA905FB93EDD}"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FD6D962A-3457-4F2D-8A56-10429829690F}"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6AAE9350-3695-4F62-9F32-CDCB0E75BC3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AFC676F2-6F8F-4313-A6E6-6731406B0EBA}"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C6293613-2A20-40B8-A071-0ECC851BD832}"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E7014A25-1349-47FD-A944-DF7D9F48C3D2}"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9885B110-4A14-4618-92CF-122DC917D191}"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C7D422BE-CECF-4741-9B21-B7A059D5B13A}"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6CCF31AE-2AB2-4634-A4CB-4E7E8207D80B}"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56866A42-BAB5-422F-B7A9-A6D2A8A069D8}"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80FF6BBE-37DF-4BB0-BBAC-9AF27E21F95A}"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4CB5B044-E0C4-4E14-8B34-299571FDF5FA}"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8BEFD2AC-77FF-436F-A3BE-F9EACA8D7882}"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C6BEBB8F-5C7A-4ABC-AB25-1CABC27C706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B06E4F9E-28CD-4FA7-B9BB-275F9891BFE1}"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C5189B85-726A-4EBE-B1FD-B697EAC7A800}"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EC02BF84-2625-4D78-9BDC-921DC12E9EAA}"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A9968B8C-D27A-41FE-AD9D-3F542FB1999E}"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3B4D3FEA-F16A-49AE-8800-4EF2C1DA7B74}"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E752B3DA-3D14-4EA1-84D2-937918E80DE5}"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2E1BCEE7-A2D2-4876-A1D8-0162B960254F}"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9CEE0B8C-B464-437A-BC03-4D6206E2BA1B}"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9492CBF1-E074-43BF-A11F-B9F007D11895}"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F087A54C-F6A9-482F-A7F8-B65344F0DA48}"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4D0517DB-9F7D-4C3A-AEA5-EDF14246B73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32467E01-90C3-404A-9395-885B8F1E83C0}"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ED1C5025-AF24-4EAC-BA7D-761C34B00570}"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7975AF8F-E867-43AB-80DD-E7CD045449E6}"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6330646A-D309-4F0C-BF62-7CE4AC5506E8}"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0458F7F0-33FD-4414-98F7-DFF026C19C6B}"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2295A1E9-0D24-491A-A7A2-5592A2B4E41B}"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DFDE5213-192B-4A35-8FD8-DE13860F8673}"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A0CF6DFA-7052-4030-9558-7DF333C34D64}"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9967E132-A73B-426E-AB0F-BCE0A998FAD3}"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9483CB30-E6F4-4D89-89CC-AE3520628EAD}"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693D08D6-ADEF-4FF4-AA5D-8A6B0EFCE10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F1A48D13-ECFB-419D-9425-0DBC605C39E7}"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39101F1B-B90E-41B6-A5B8-1D8AE2901A9C}"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3EB8D53C-F05A-4D66-91C3-0AA476143A8E}"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A1F35C52-E50C-4E1F-9B77-B4B4B5BCBCDD}"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06BE4B81-2900-4E7A-9803-8857D5545A79}"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0BFE89C6-90F5-44D6-A8E0-AB9D67D155EB}"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DEE5DDBB-5375-4563-9B27-6817D35F9C77}"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6152C50C-5E6D-4824-8C51-C126CC5878D4}"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AE3B4EE8-3A01-4499-A35A-5A052B98FD7E}"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D2D11CDD-A16D-4E46-9532-1A08E03D53C5}"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7898BCF7-5E74-4EEA-8E50-3685016548E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5E624900-804C-430C-B95D-AF7D4641B55F}"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9E526824-2F8C-483A-96B9-43EA4C62060D}"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A9D678A1-4B81-4E39-A887-98C9509784A4}"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0196BCCB-A6BC-450D-BB44-F15BF433FD81}"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852D1540-2B9C-4FC5-B6D0-E0F9CA3E1376}"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0A7A008F-E37B-46DF-8E50-B622BC3F6CC2}"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DA62B524-CD89-47AD-8EF5-6F5F97D7D744}"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85039FB7-F230-48C2-BAEA-3E485333E64C}"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AE00CB75-B42E-46B2-8B3D-8AE7B7417239}"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01049B2A-30F7-42D4-867E-7414A7AC672A}"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064F85AB-BD19-4F3F-9477-631AB412A70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CC3C003D-DC56-4A43-952D-D8D4CA935F0A}"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FBC5854E-AF2C-4EEF-9900-BE4815E98E18}"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1A16ED20-CEE4-4513-8BA3-710ED5FE20B3}"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30CDF344-66FD-4639-B8B5-4FC48F2F5B96}"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ADB7FE41-CF8B-48A6-84F9-71B8BD49A7C6}"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C94D4530-C185-4153-A2B2-DD4DBE8D025B}"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0EB0401A-44CF-41AB-A318-51F74A609DB1}"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E6C30F59-3E24-4504-96A2-BAEB9CE75262}"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F8DFA95D-AB52-4C7F-8559-933936933344}"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1786CF6D-F74E-4D05-A505-ABF097FB2F7A}"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1855DF55-8593-4369-8CA0-B4D3FF7143A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92CCDE0-BAC0-4D40-A07F-E427A6E55F0C}"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A14C1AC3-587E-4DA7-8841-13D7C3DFBF18}"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27B3D57C-9F10-451F-BBD9-719B8B81188E}"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5BEEA808-2AC9-4AA8-A926-03CC6ACF0F97}"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924BCDDB-4541-414D-9572-CB08CA2E540D}"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C62AC5B3-8C30-412A-8BE6-801A80BB25CA}"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A920B7F2-2548-4F68-96F8-50DE81488BCA}"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922C2918-A66D-4CC7-A92A-708A9F0F9309}"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79436C82-DA2C-4E5E-8437-3C61278509AB}"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6E5A7FEB-DE53-4C2F-B10B-0FABD91825F0}"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E0B38D95-2754-4BE6-BDD7-A6C3CE4D52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9995FA57-491A-4320-BEC1-DC80AA413D0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3239D018-5578-46A7-A3E0-FFE73A729B9E}"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6FA04890-375F-46A4-AB8A-0BB29F19EA7C}"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A7A5F599-2F84-4312-A374-FDDEF2564FA7}"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EFF4E378-BD4C-4302-BF1F-BFD7A81DC9BA}"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63BEE8F2-6EBB-4F84-8167-63DD91E8FD37}"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3657AB8D-C6EF-4236-BCBC-701982D4C2DF}"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56ADBCCF-E20D-439F-97B7-D922C1864D7F}"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20BBB6A6-72A3-4F4A-8A6A-8B54EFF64141}"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A680E310-F23E-45F4-B86E-5723436CC39F}"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93E86915-57F0-46C0-AC6D-F3972BBBC612}"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03BC0C15-BEE3-4F67-95FD-42139CFBBD4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32BF66F6-6EF2-49ED-9D65-8ECA361E2C21}"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52E6646D-D307-4D9F-8077-C753C932C1D8}"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161F6BC9-54EA-4655-A6D8-1028F265D106}"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F4511329-33C4-4C38-B25A-D1E331D57F15}"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CFC8BFF5-0C64-4D64-9939-C06C08EEBB0F}"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25ED81C6-09EF-46FA-9899-521C8EA055BA}"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6D411D9D-D818-45C9-B479-37EA40CA0F44}"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A9B0303A-E3AE-4605-8DC2-1518B27B4C7C}"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A64053FB-4B46-44C3-B270-A901D697BF5A}"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59257B28-0EED-40EF-88DB-CDD5A80BC070}"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74F938B2-3F24-4F26-AFA0-6B48429E040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C752688D-52CE-4F1C-8E0C-1AC419772236}"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CAA4AB8C-EF8D-45E6-8A94-893514949804}"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2A95BFAF-C7AB-4215-9CFC-EA26B74AF048}"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42CAC0A6-CF61-433A-8812-BFF89755983D}"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D711F689-3D4E-4B2D-9A0B-33F9B8A03A6C}"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48713815-94EE-4B3F-83E2-4D15B7426B90}"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67F32989-CB92-4BDA-88F2-C81C7B2940BE}"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E32C6D6C-EE69-4AFF-9809-B58556BE3714}"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CE874A19-6076-4FBA-8B0F-544869ED51A0}"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53530ABD-F3FB-4C6C-B0CB-44A7C7946F9F}"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5033F86C-BE83-47D6-B7B2-A70A988E050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6841F3A1-4CB7-4CB3-A195-AEACFDB15DE9}"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11E1FE15-13C8-48EB-A65D-4A6827A753A9}"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B8988F7E-CFF2-41E7-B84D-EFBE0347A3A7}"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067ACEEF-A05C-4A35-93DD-9EBF0C97BE80}"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CEE9E302-5F92-45A2-AA6E-B6DFCA7C0FAD}"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ACB083B9-52E8-476B-A974-D5FF45781259}"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1396D462-85F7-4049-A625-9A570BF26EFC}"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691AE311-FBDC-4EA3-92E9-43D27AFB3D95}"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8E8058BD-307C-4932-96F9-F560F49A0936}"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A5234C70-7CE6-4498-BC81-730C468CAE30}"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D08715C2-7D6F-46BA-960B-36C3877CF42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867CABD2-65BD-4D22-8739-A7DFE403E908}"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0498FA50-E4E1-4F61-8711-980B55B1191A}"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16015AA3-7D21-41E5-B97F-3252D303334F}"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A191A0E3-7ADF-4221-BC97-5E3DF0F59FBA}"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76251623-0072-4C36-85C4-3CC3CCF60ABD}"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905B44BC-3F38-42E6-B33C-30FD33DDF013}"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80741255-8DAE-4681-8B57-ADA9CAE05F94}"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2F144B58-83FB-41EB-B671-2FD37FAEBDE8}"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B18CAE24-D589-4A5F-AA84-560FD18FB522}"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47D48365-5FB8-432D-98A9-E728914F23CB}"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6090AEA1-D00C-40C1-8A21-FA1CE3E14666}"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E6A5D0C1-8449-45DD-96B6-FBF146DB3309}"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02D59497-8FCF-4D3C-9B66-4B88382D1A56}"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312B2CC4-FC0E-429F-82C5-74D9FE453CC5}"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A70188A6-88B1-47E2-97B5-82754970859E}"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4950CC0B-1B39-460E-BE0E-6DDBD2AE0F39}"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2D39DDD7-9EE3-45DB-BF60-34F4F6CAAC4E}"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D46A1192-EC92-47A8-BEA5-EF94CD5739C4}"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0B125DCC-4E92-42F8-985A-C6721B0BF63B}"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721CB4D0-2E19-425D-A348-3E339DADD8B2}"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AC745FCC-D8E8-4270-8EFA-F0B3A5B62F4D}"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F44BC9BF-E789-4EEA-B61D-EF8A9A69C226}"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7AFCC469-99C0-478E-8613-6F444B7E8EEB}"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297E0441-6AF9-40AC-9D6D-2555E6B3B0D6}"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BBE6F416-2C17-4011-8B05-A34E506C56C0}"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1B69F130-17CC-4EDA-8DDF-5886FF4B8F07}"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C63CE413-859D-43DA-9B99-36EE52AEA56D}"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2AF41913-F61C-4661-BDB1-89475E81E1C7}"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5CBE3AC7-EC1B-468D-9AF1-B4013273456A}"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A40356CD-00D0-45F0-8740-9D5BEB162D66}"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2D2D69C5-BD11-426E-895D-5BB9B000E6E1}"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AD34A43E-4E26-4A6B-9C34-3948197F94A5}"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8C8DDA63-A547-40F8-BA63-2911B97F7944}"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25C6EBA1-893D-43EB-8B74-587B3285B023}"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AA77BBA9-7545-4B2B-AE3A-70EE1AB20CE9}"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37F018BD-740C-40D9-9372-76E81652A002}"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4920D7BA-4B79-4584-9C25-1CA2428D9C2A}"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862A44D5-D694-454F-8CC2-8F8D5E91F619}"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6193762C-D3B0-4372-AD44-35997FD64850}"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635DE1A2-AA3F-4FF6-B34E-0267BAE93C1B}"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8DE67F68-640F-4466-8275-2110725035BC}"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68461825-EBD3-42AB-A3A1-C284ABE86ABE}"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18209986-0046-4AC3-9969-58FEA1EA33A9}"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500CBC6C-CBAC-4C62-AA06-F2F198409934}"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A8C31108-584B-404B-A434-ABBA380F0DAC}"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2CA5196B-5976-4EF1-98EC-B839844F05B0}"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C6F5DB79-7737-4A21-8315-1E25A9B8FBEA}"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0734AA51-32B3-4D79-8571-0928E4C0D195}"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0D3F256F-FB8B-4A68-8126-12C4F0A38BB5}"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F7CB6A46-DB11-413E-8945-1BE6D31B52D7}"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2CD6707B-894B-4046-BA08-478EACA92CFD}"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A28CCDAC-B12D-46A3-8408-7C757E120F0E}"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7D12B0A6-E342-4433-9DAC-2E756A9176C9}"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750139F6-33EF-4009-BE9F-939AC38FA4C1}"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56993A97-F487-4CAA-8F8B-182A21B24812}"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43D56532-5944-4A5D-983F-3BC73B737328}"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0D74F648-44F0-4B92-A0A8-012B6D1C1002}"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B1724829-14AF-4F81-BD21-D6CBA1B7B4B8}"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7B84132D-962F-493D-A4B0-E0CFB55AAD2A}"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B19AC570-5191-4FA8-ADD3-086616635DF8}"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454C8FAB-CCE7-4F55-A4A6-B4BE0A938280}"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5098093C-E59F-455D-8187-45C619347D62}"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0064AB44-EB07-4CFB-9408-8D2182C17466}"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C453E082-F8A9-4080-AABE-F7FAFD1E8164}"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4BD45514-D79A-4390-8387-DA182737AA21}"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E2667CCF-AE8B-43CB-9FD6-8A6C2A2E4775}"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863D85B-BEA1-42EC-AF4F-FAF48A2FACE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45BB1F5F-6C8A-467A-9A02-0AAA9F169A75}"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FF3A065D-4792-4277-8203-3525991BAC82}"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BAA71ADB-D8FF-4F05-A595-7F49550D0426}"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FE9B86C3-10B1-431E-BF3F-F09DDB047728}"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80A02017-D183-445E-A541-3FB1F4C772E0}"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4F6F9D43-5AA3-4D3D-9CD8-ED11F69E1E70}"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02810005-EA46-4B3C-9060-55EE0B486C00}"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F5C1D079-18BF-49B0-9F84-F0EDFFDF9350}"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DB392FDE-2BD4-4986-90FB-55A0A9DE88B9}"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73353D2C-EB36-4C5A-8DE8-5F852C1252B1}"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B88B7DBD-5AA0-492C-9EE9-77FDEC71F924}"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73BA136-1512-4824-8E61-1C50578E9A3C}"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DF124762-F837-4EA1-B702-4CB15DF3947B}"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E006A076-E986-4B21-8498-627D5A095CCC}"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9E4283C8-991B-4321-A1CC-7456A9816052}"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7FA9E387-C363-4180-98E6-EE22AA554CD4}"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9D601352-D5CE-4AC7-9CD1-3D98C18638BC}"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0F4BAF60-0BFD-4742-A47B-3B7AC389151A}"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84E7C717-0B08-44CD-9CF7-4A057C0D9AD7}"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63089683-6768-4C8A-918B-1EEABA705F5F}"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228EE9C3-C3BE-471D-AD5E-9A5321DA897F}"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C4A74D4E-0F1D-49D5-B1B7-C6908B072D75}"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33F2BB79-450B-43B6-9E5D-49AA00A03794}"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ABC26F64-410E-4431-86D5-45B7B4EB3F6B}"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9A9A013F-49F7-4E92-B1B7-DAAC1E91A93F}"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C037DD47-DD69-4D15-AD74-BE365E1A0EBE}"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E9E8FA91-1379-4244-A7E2-A40F0CE1C880}"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924A288E-4D7C-4F6F-8910-9EDF162F921A}"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D744E482-664E-4A05-9507-7299FFC88F68}"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0984F2DD-6780-4F5A-87DA-6D9BE9BD7176}"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356942E7-3C98-41FA-8B78-41F2E2E35308}"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1B929820-EF55-46F0-8CAE-ABF5BBC86416}"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11A89FEA-C67C-42E5-88DF-44B8A8EF6491}"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5F305F7E-524D-4EDB-A5A5-10EE2F806F9B}"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A8904057-848C-4722-9FBA-027740AB60F2}"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AD22BCEB-5B3C-4FEE-ADA4-2F0F751A6F9B}"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6578F2FE-0747-419E-9D11-88C7C3E2326E}"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687596A6-13FA-45D0-B8C6-67B5A33ADB17}"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029E9A09-3947-4954-ADED-F32E45DD2B50}"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C2EAFD3F-EF66-4CE3-96DE-0F4B2519BEA7}"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6254B2BB-2B65-4C54-8E73-F74BBF8A4E5C}"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E7F5CDF3-6113-4164-9EF5-9AE80D1D8188}"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64ADFB22-28B5-4FE1-BA30-75B2E210BED6}"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1527FA74-6D77-44B3-9D61-4F96BFB65C3B}"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D18166C9-E8B2-4B44-80A5-4F1CEFE078D0}"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7DE5E054-2DC9-44DD-A58D-4A8770F90CBF}"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2863A2C3-B5FF-4FAE-AD7A-8FC7109E28DA}"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89C16C1A-9389-4913-9E6E-54D899CF4053}"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9E563BCF-01F5-4C7F-ADC1-3855EB5BCB79}"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A9BAC557-0EB9-4C57-BD85-ACB1B520AC45}"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1111A961-5705-436A-8F50-DE16F774260A}"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27B7C6A2-1765-4CC2-9586-7F629F215140}"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431CBD6F-7339-4F4D-8094-C660A95518E3}"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54356527-0BA1-4AA9-8724-6AD5ACCAC582}"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25E78B14-CC27-46C3-87A5-1EED958B5800}"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BBB94D1C-3524-4603-B77B-2B3B0C7D1D03}"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7A387797-DF09-4F79-86B7-F15EB80314DD}"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A15560D5-5801-4C28-BB05-C6CFBF586C6B}"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482B1112-78CA-42E4-BC81-ED002EC4C25F}"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1C85F697-1FC8-476A-A066-65C089F9934A}"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54AD5C57-1E39-44B5-BAB9-1A44226EA370}"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C79AC0AD-75D4-4E43-A16B-2C058E6532ED}"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25098941-FADA-4BF1-84E0-356C536BD579}"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B6A4092F-22BE-485D-A789-EB691211EF9C}"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43EFBEFE-7301-406D-8445-1CFE20C98154}"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0E00A3B1-C288-42F2-9FDE-556B65A276DA}"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BB716288-9ED2-4592-A29D-78EE9B9919D8}"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FF94F453-E56B-4C55-9C58-165183FB9A65}"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DF83B602-7D24-40BC-B1A0-598021EB10D4}"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3418013B-47DB-4BD1-A505-09FA0CC14987}"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023DA004-B574-44EC-B4CA-B22AAE70BF44}"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19C3C14E-6B56-406E-BED4-40809EE7D153}"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A16E10CA-544C-44C1-B376-F1CDE3D11106}"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D569BC19-FA0F-4EC1-B0EA-DF964CB208D6}"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5F7DFA7E-0B0A-4F67-85F3-41781CA9F9A2}"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E11F1D42-FBEB-4570-9949-AA4D9EFB2598}"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0078AA7E-DA3D-49E4-A90D-3AF9CCC7AE33}"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1A242A2B-E3EC-476E-AE06-B4543620F3F1}"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1472057C-AFC0-4ABE-AA18-B82DA3EC8DF1}"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0AAF6346-3BA4-4F4A-8F5A-D61BFCF7B9A1}"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AA63662A-3D17-4CA3-B3D3-6D3A7C0FF51A}"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3C54BCF4-28D8-4139-951F-218AABF3FC7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5CC7DD49-FECF-4AA7-AD53-368657D62C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0D72D8C-4D60-4013-9F9A-70850F68CEBE}"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0E4A05BD-D3D7-4576-A75B-21228FAE74C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0F6D75DB-B6E3-4DD8-B0B7-BA637B3FE3B2}"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CDBFE108-0C98-452B-A85A-F134BE1B56F9}"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0895EC9-EC39-4862-BDD1-8DE0162CCB1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F912A614-2A1F-4E4E-8948-8C7FFC4FAF1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75BB2B52-FB76-45F0-8FC6-479619F667C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438ED038-4390-45F1-8194-9724C0B6D99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8DFC1013-58FB-48D1-887E-C330581C9FD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E0EBF157-B70D-49E2-A42A-24510A24EAB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CAF8034B-351A-4858-A418-F630A7227D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72E5B7B-14D1-4364-AAC8-D72F7FC8FA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96D577B-50BB-4E79-8272-D6CDA4410600}"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9A69D103-FCDD-472F-9A00-6918CDAFF9B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81B23EC9-5C8F-4B39-9741-C276BDA278A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2000396F-F62E-4F7C-9083-E5E006390DF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D8D9B9CD-24E8-4751-9450-AA3CD66068D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D2F806D9-472C-4AD4-91AC-7B780F9C804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88A71D1-F522-4939-9036-3A588F921C0B}"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C1C54A60-F61C-4573-B4FA-0F877B460EA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7F9D2521-4B5B-4B86-B72F-597C9B04D47C}"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273E034D-0173-45C5-B29A-32A270787326}"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FE3DB3F7-F0B7-4D91-A8F9-5EA8A4AEAE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A4F2103-92F4-4C91-9E9A-51468D1FFF18}"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F7178D2F-5C2B-40D8-AD67-14F5CC9817F3}"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4DDB0124-887D-44EA-9F35-53031353A227}"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321BFFB9-3BBE-4EDD-98C4-9590C5F958B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8907BF86-4719-4A69-91F8-3591460AB067}"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BC1DE2AD-856D-424A-A3E2-74F51A2F33C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554B948B-F435-4D5C-9945-054810FBF78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A3EB5B1C-9F2B-4D9E-978D-437F26873AD2}"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EE0F564-BD4F-4A79-BAB1-9F5E4966F86A}"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59440F57-95A7-417B-8977-9E774B276ECB}"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F739D8C2-445A-42EC-9BE6-E35475E0EC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4040B50-A7D0-4A1C-A3B2-6A92728AD513}"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8384A583-54AE-48D0-AD67-35BF224FADB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626B051C-6334-4844-AC74-3A578A5AA89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51A84FD5-49CE-43F5-9EDD-8C802578265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DE6C745D-6709-437D-AD56-B8B3E334373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49F435C7-8DAF-4318-8CF5-5B096AFE0A8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1C0DFC4F-9E16-4BFA-9C8F-FE22353289F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94BDC1C9-5CBB-4F6C-8F4E-2116ECB17E3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E57051B2-4DD6-4F95-BBF3-D87235DA446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F53A261F-5D01-40AB-80D7-BB6E4CA3675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28E8473D-656C-4530-A4E2-E22E4B18B3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81B7A9A-9012-4BF1-B2F3-EAEC50129465}"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61972EC2-FBB1-4078-9CE8-4F91049A7DD4}"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7F7092FC-C550-4C30-B89E-5746BC22B99E}"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76D56547-DFB0-4E6F-8B23-F72A5B9A4DB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76CB0DC2-3682-4D06-8E66-EC32C66151C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52CBA0A9-F7F6-48BA-A529-ECBC41F38E2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F2FC5CFC-A8A1-44BC-9F80-4F4F303C624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DD25851A-3F9C-4447-BE8D-951F7F23868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35E787B5-1EF0-44F0-8A13-19237E56863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46AC96DC-F32D-4578-83BE-ADEE08D98C5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7C4B8F60-1412-49C2-A082-A5D353C3B8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C6F3013-A185-4CE0-B2B1-8B8C278EAFE3}"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9F45E975-D65C-4620-82C4-2EFBB68EA47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402E8FA-B60F-4DC0-9A3E-DCB19DB8999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FDB79E3A-31FB-4DD5-97FE-D6F86FBB993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F286F3E5-CBEF-4807-A0EE-88880B0695C1}"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77587591-B378-4D2D-B474-50E38116661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AF899A0A-4076-4F1F-B2BF-66F15F68869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9EB33382-805E-49C0-9585-FCE67DC9E83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2818549D-DDBF-4E61-9488-238C524A112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E3065D60-00B3-4267-9E3F-A9BDD8A3A249}"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064E9EE1-2CE9-41C1-974B-52935DD1C06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36363A6-B5BB-442F-8DFE-7DF2B6C52878}"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765FB0C5-11C0-441A-8F30-F18538569C0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1AA9D6AD-33C9-4BE9-8D11-93A887A2E0A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B36AACAC-2859-4612-B018-8D053E8FF53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05FA50A2-B57C-4CE2-840F-F21F253AC4C6}"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A97B886B-3262-4B81-8351-3B048270E8D3}"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E1689B09-3A84-4093-8B37-4D6E921E400D}"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492D48F1-DCAD-4FD3-8F5F-B272417B65E2}"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D8A918C5-D9D0-4439-A061-6AA8A408A1FB}"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D62A24BD-D69E-4A6B-9CAA-040F95F40815}"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B7F80EE2-7BAA-4028-93BF-85DD21A4AA5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5BE9AF-B4FF-4C5C-8302-CE9BABEAE92D}"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0522BBDD-5F2F-47D6-B35E-20C896C0A4C1}"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AF2488B5-AACB-46D1-B598-AE52DD6F2875}"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02CCEB20-BA9C-484F-A970-F772969F7FD5}"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168AA0DC-EACF-46D4-A09A-E61F343F3CF6}"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643CED04-906C-448F-87A2-D95A393B485C}"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0261108-9E6A-4DF3-919A-ADA46C31A667}"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73FEDFB3-41D8-46DC-94F7-E702A90B6D7B}"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DB7B3971-A25B-4517-8CB9-3DD7A7425F82}"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3046233F-26D2-4BCF-A042-AA2E9C2F246D}"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6968A700-DD24-410E-989E-4EC948990E7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E4A10B-5294-4DFF-BDF9-DDF234D72220}"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5CF27F9E-B065-4DE3-894F-F0B27B769C19}"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027A64E6-9A20-4174-9237-E31722F75881}"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67AFE499-3BEF-4A00-B9A3-36C78EB045AC}"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060603D0-0A59-4734-AD72-7629FC1B6172}"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CB27A64A-4E1B-4CEF-B732-F8803CA1E8BB}"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AB63C803-377E-4E1F-8548-C0DFCCD4E283}"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9533E148-57B1-4BA4-8A23-B011DA783626}"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9001ABC-AC9F-418B-9AA1-CA6FBAF49C06}"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BC9E4081-B013-455A-BC91-6D472B672754}"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0D08AE5E-9925-4C45-B262-D1779017531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89265107-DFFA-4AEC-A3E4-AB7008D52113}"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A9EE67E3-9DB7-42F7-9B73-5859D8223D3E}"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8271AC47-C67F-4403-BCA1-DC731FCD9F8D}"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3DB6B014-8727-443E-97FE-1928539C93D5}"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1BDABA64-E0E6-4069-BAD0-FE5E6282609C}"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4E80A4B0-14E6-4D45-A46C-94E225F7B80A}"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98735A40-CA05-41C3-B354-7BFFEFC0FDFB}"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333D9BA0-0F2C-4031-99B3-940F23E5E968}"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7B1C05B9-813B-4C3F-B050-23AA82A4BD12}"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B6627EA8-5517-400B-9980-584BE5F09B1F}"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415E982-65D3-4D43-BE68-63BF3EFC00A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6D74DE0-667B-47D5-95D5-53387BE46403}"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FB4D719E-58F7-4858-AB13-0AB8533AD148}"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E9B8C752-18F2-4478-8BEE-DA1F9DB38A6A}"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F3ECE960-9DCB-4CC6-9861-CCC6D5917410}"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71BE3757-D3AC-4EAD-9B35-3AD7CE1AB784}"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E067C70F-52E6-41C1-B291-DB5B08EEE797}"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F10F7B09-9515-4E19-A8FC-9AA047F619BE}"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E9FB86FE-1D8C-4652-8372-E655CC06F213}"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E4ECB3BE-2EA3-4D18-BFEC-1614C8594924}"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1628DA57-2BA6-463F-BECB-2355FCB5B07B}"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F6313F98-1C7A-4AAC-8EDB-EE4BCECFD8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528BFB4-58E8-4605-BCD0-31BFC774266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C4F78B8-3354-4C3D-AB87-F89C951633A8}"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041D87C0-4BDE-4438-B091-EDB2153841D4}"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FC56AA02-99D7-4327-B263-34C857B0E750}"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96AEF3DA-23DE-481E-BAD3-B7D6CFE6377E}"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73DB73F0-6F61-4C0E-953B-2933BF2FAC18}"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DCD8E701-8EDE-4D9F-994D-981D8DCF8B6F}"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16D3626F-B2ED-4F9E-BEBC-519EDB75F431}"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BCBB7ECD-168E-4CB3-9A3A-2F97497A474E}"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BDA9A4C7-3543-49D4-8CB4-074CF8118619}"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AC5AC5CF-6AA0-46BC-AE64-C57E8B6B5C31}"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0144F2FE-D740-41D3-A4D2-164FD236E32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E0C29BD-4ADE-4D35-866E-D06FBDF7F2BE}"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82403B8D-F608-4011-B2D8-B019B99EF7E6}"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38DC151A-1FCD-49E6-882D-1D5446DAB8B9}"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494F8E0E-86B1-4731-9377-0F43773343A2}"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0F492784-00B6-4C94-9D12-5A374D9118D2}"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08AE38E7-EEA0-4100-AFE8-0F8BFD1A3921}"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69F5B6E6-5552-432F-B3CD-C4DE657053E2}"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A0FB8EBA-0BE4-479A-8872-DC56B99705CA}"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3D9746B2-0475-4099-B0DE-C0EEE86D5A65}"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5A9EDED7-FB58-4B15-84DA-E3DF164A45E3}"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4421FF3A-0FD7-4929-A5F1-656CAD08A5F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44419FB-7C91-4B02-93CA-5B1C1837AF48}"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1D2DF24F-5D04-4469-81D1-FDF71EBE970B}"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97707776-8D68-4D15-8206-5D6E2C9F02F3}"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1BF5AB23-7D76-42E2-AF64-561398948A2F}"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5D0B5168-BB7F-4521-B4F8-5AE8218A6925}"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FE33ECB1-5765-4C76-8088-8E9B8CF92B25}"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E9A1D92C-16D1-4C33-8EE0-284285ACD0C3}"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01F5CA39-1E3D-4B3C-B241-2C7EA69C6CFF}"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988020CC-12C5-4A70-BE45-3D04D8FF141B}"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C6B296C1-5269-4BA5-B953-BEDA7B7EDADB}"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BA1DD50F-AAEB-4E2A-AE90-D622AA1A5D5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041ADCE-AA69-4FD2-8375-C8B4C210DD9A}"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26915340-A7C1-4580-AA17-B54E3B6C3AD7}"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864E9A48-408E-4208-A6F9-9E60A86116EA}"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8EE89A41-65C4-42B9-B2D8-72BD1E4E11A7}"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8198B44A-FC18-4160-8D25-0E82CC413413}"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E89143A7-A213-4E42-A292-17EC903168EA}"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AC61659B-E197-4B5E-BFD0-E2126BBCB4FA}"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71DB3BD8-F95C-41EB-BECD-CCFD76FEF007}"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9F363793-5DC0-403B-A1A3-7628EC544AF9}"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B43F7B9A-B5E1-4533-8E01-0901AAF46C7B}"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C8F10FD7-0248-49A0-81C4-C1977B2AF12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1F062D2-561B-4F1B-B730-5F8A0B6B027F}"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99F8E63B-1345-48E3-87FD-1D8FBF8D2A1F}"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A844E4F0-56F3-4BCF-88DF-F4566552010C}"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F26FFFDE-3D83-435E-B522-210641D2506C}"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6C08F9E6-4B4F-415F-A944-F20F9CD63F34}"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FED2167D-74E5-45EF-BAF9-E4235ACC400B}"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298D1655-45DC-48A7-A8F0-A8D5F9190D81}"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10BC2631-8320-4C8A-B3FF-98A687A0A07E}"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78A00DE4-CA5F-4252-A983-3C9365BF8C78}"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B615B3E8-85ED-4D95-94E0-85D15807E72D}"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FCF08F45-CB3E-4E33-9D00-3CC93758606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57EF2AB7-65AE-4D0A-A42D-A191ACA7954A}"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5172B346-5306-4700-AD04-08F9AE856B9D}"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E9721DEB-B676-4782-980E-E07A6C2E5152}"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9212BDAC-869C-4231-B440-09C37ACAE051}"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E5C77543-C20B-427F-9067-4CD4BFDBEB35}"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6A336EA6-BB99-4A83-BC4B-13363506CBE0}"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FC33D3AB-42AB-47FF-B7C7-3347CAA95770}"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3D0CBD1E-EA5E-4692-BC5D-67CFC2A5564B}"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07BE3C54-8E75-4EE2-A286-63A7BC22897E}"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A2CB799F-9FFD-4A5A-B42E-2A88E8152171}"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D15F0671-148F-4CB2-89D2-4FB997C53EC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B4FB2DFF-E598-4766-93D8-7F511EEB7E68}"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9B401519-BDE2-45E0-B0C9-9A237BADAE7A}"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AB989C66-8AFC-49B1-8FB0-350F54358FD4}"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579C8EAA-5557-45F1-BACE-0DC87B66787F}"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7823ABDA-296B-428B-AECC-0C3861168235}"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029D366F-459F-4E8C-8640-BE8F92759463}"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4A4F8E97-069A-459E-9E2A-D04D486AABBB}"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A8669489-41C2-4FB4-9D50-D6A7EE02E89D}"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841857E7-8A6E-4E90-99D8-E249C1CBB428}"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F597BE09-AA6A-4300-A2DB-C9BACA896D4D}"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AD3D8F89-11B7-4868-93D6-6F0E0C0ADF0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208668-0C21-4235-937E-E1006FBF97AF}"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7BCAAD63-8569-44ED-9AD9-FF65FE258A0A}"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5648B37A-C6FF-44CB-BC92-BC5222484D38}"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B9E9D0E2-8959-4504-AFC2-7E9A104696D9}"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642DF6FE-7FF0-4548-AD65-496406D55F5F}"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064D0E44-8F32-4F0D-AEFF-662FB59E1A42}"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39E5B1E3-5AFE-44F8-82CE-81B749AE0536}"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0642663C-84B2-47AD-A93D-55E409D94638}"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C536784B-058D-4153-B9F2-3074F5C3B70C}"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8F055D95-8CF1-4218-9305-D3FFC13D9202}"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2ED8738F-7D86-49D2-A677-44C6E8721D7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EEF29C6-9733-4F23-AA1D-D964F26C1D35}"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F7EAFB99-89DF-44C1-B1AD-59B0638960CF}"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12F1580A-8E64-4D82-9F2E-F6ED4BE2FE8E}"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12AC398D-15FD-4636-8AFD-7DA20F7EA488}"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7F3D28CD-4110-4829-B4F2-CA2D5CDEE499}"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2E1944B9-C79A-4BF2-B2FF-91CC826047AC}"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7769FC32-4EBF-450A-890A-73F084E2BE54}"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BFBBAB28-973A-49E2-9BA1-7CB747BA9323}"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35B2DCF5-96E3-4AAC-8F10-A8758FB54E71}"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5148ABA5-5D9A-4A7B-AD82-7043503340FB}"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54068F19-60E0-4A8C-A518-2C6A5BD6D07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5E596486-8656-4047-9649-70B34EEED837}"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0EAA8578-24A8-439C-AEFE-00D9040195B2}"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C6545EA7-57B6-4C58-9D8B-69E91C9A9587}"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4F4A3965-3C80-4989-94C7-83AE0235469B}"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ADD0B672-DE39-4A77-9EF9-47E8D7D26EB3}"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8BE7DA75-46A7-4F71-8586-628B67060D38}"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BDB002E5-9C60-4629-8458-CC9676EA8A34}"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CD7BC1E0-6D4D-4300-AE1B-5B2A06427FE9}"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FE038747-D3B4-42C3-B2BE-C101BE098CAC}"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F855F6A5-CABE-440E-BA17-5C1E7AB493A4}"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860CD520-07A5-4EDF-9518-4160897899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4976786-BC8F-4E42-9F3D-5B902C38E17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433A81EE-E5B0-46BF-BE50-B3E99D09248B}"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CE1410FE-2A7D-41D8-A480-D19021ABA0B4}"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E5BBD9BF-6213-4C2B-A6D0-0CBA4B413849}"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FC91D08F-DE90-4F8B-914A-CA75A080BA95}"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803FD580-5B76-48D8-99B1-D2BA1F1CAB63}"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DFA4E169-4BE2-49E9-B978-6AF57430F507}"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7881CF5E-813B-4D1D-B535-2C530C53C716}"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1D80EC39-FDCC-4E33-858D-994B04D0E09B}"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4CE7E82A-2208-4B87-9F0F-85E28B69054B}"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C8613AF0-2A52-4305-AED0-5355DFF909BB}"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D6F89679-4A65-4D65-96AA-108BFFF5BC0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0570306A-341A-4027-82FD-4EF6DB4E45A1}"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A65E60B7-57B4-4B90-B2D4-1B4580070D85}"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9E15DCC4-7F3B-4FE6-918D-EDEF46DB9AA6}"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2E1C3544-0680-46B5-B6C9-40DF48D61D0E}"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1894749E-4517-4AF1-8F97-382C1A58DDC7}"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533146A9-4931-4291-BADA-5D711722EE06}"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1115F0DE-8827-461C-9A11-6137C9F00740}"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791C92B1-F8D9-4D2B-99B5-7050F64E3E46}"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DD777BA6-9346-40B2-B6FA-4407F64810AE}"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CF137AAD-E58A-4B9B-9997-5011FC4CBA72}"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AC5BDF4D-D646-4994-A2F2-63195F1AB63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FA1A74F8-DF20-4769-BA2C-D147019D14B9}"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CFE92EA6-9149-4E7A-AFFC-7FD86FA0630C}"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1D9F08D8-039F-401E-B8BF-8DF5F0EA845F}"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5C9D205E-B6C4-447E-B737-19EDB778B47C}"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1E92F174-1EAD-47CB-B0F2-7BBCD384150F}"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091CB63D-C92B-454F-8601-07E58B218D99}"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03E257C5-4CB6-40A6-A7A3-E7B9959A76A8}"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B45DD9B3-74AA-4E53-93F9-D604991FD714}"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01C9FF1B-C4A5-40EB-9FAB-F5878D170FEF}"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C9713852-024D-408D-B6C6-66FF495F3412}"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C5690AE5-DCFA-462C-8909-0D420C0FE57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702C751-59DA-4B75-BE02-BFBC843184BE}"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998B9035-DCCA-46C3-9F24-194F048DDE5B}"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FE3BEDCF-2D0E-446D-9DB7-010C4B4BA730}"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1BF0E854-A237-42F3-9EDD-DEF19857967E}"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95D97000-138B-45D3-8126-EDFDE4B34116}"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90518035-9D4F-4D4B-B521-A6C359691C1F}"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342D3405-896F-4BDF-A274-01586C746E0F}"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FF4A223B-20F8-4CA5-8D93-0C9D12F4A5F2}"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A7C49EE4-7B28-4193-AE09-3F85706FD0DE}"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0CE0A8B2-782F-4B42-AF16-B4FCF5ADFD3C}"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66B3A7E-BAEE-48DD-A221-AD156D3F673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22609A9-FAA1-412D-8BB5-2BEF063DAA01}"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2F73B78-506E-4EE3-9DAC-8FFABE44F910}"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620772A-4C07-4070-91F7-2895EE8411B3}"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4110239F-3F8D-420F-8548-A92D0829CF83}"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D602ED8A-5C90-4026-AE45-A0F7D4C40802}"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1FA56957-5097-4A8E-9B55-D7DB002B07D3}"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85B41E4D-E910-43AA-A5FE-DC3AB3D723C3}"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1DDA8B2B-4D04-4157-8521-C4BDCFD7BD09}"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749A9113-2C94-44E4-A930-57802FEC728E}"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F78DF1FC-5DED-4E28-BFF6-0D60F370E66B}"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189EEDBE-21CD-4A10-8011-45998FF5BB9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07F99C5-C091-4E53-A406-61ACBA7BA792}"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A5FB60C4-2C3A-4AB0-A943-2C1BDA69F4A4}"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0ADD70F3-1C0E-4259-8485-64A1709EB873}"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E354D605-A324-4FCC-8A3A-E15B8B36099E}"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1B670179-3272-4FD5-9659-0B900262368B}"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179D17F7-2124-40F3-8187-6DB1510A2079}"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A3328326-E38A-42FB-A680-0E62FE9A4A77}"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977F7F84-D9EB-4C43-BE18-39609BC58348}"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61B165A6-3E40-4293-93C4-3C24F7AF41B0}"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C588337E-81DF-4AA2-9077-35556D7DE77C}"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8B54FAAB-93EE-46E5-A44F-764CF07308E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3627182B-B168-4D4C-B786-0585C20C066E}"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C165477C-E3B2-44CC-8A9E-A01D0DF23CF9}"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E3601361-F87B-4132-A205-264C24AED0BC}"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8CD50925-4805-4B52-B951-26208AE38856}"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19C377B2-8DAE-4F98-BF33-C6A55EDE0EB7}"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F065685E-2125-4605-A766-04F90C29778E}"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B520F79D-1672-4F67-BF62-D658C587E2C0}"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CAD9410E-F887-4BD3-91B2-C83F6955F264}"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BCF5B219-5A72-4EB7-B940-AED40DE61F64}"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C3B606EA-8E9F-4641-9E46-E0E2A5E98E7A}"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536C1CD9-FBBE-4155-AD27-F6DC724A4BB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D657404C-9B93-481F-A69C-BCCFC46600F5}"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48F7C9BB-9E4C-4FDE-96DF-DC6E4D5C3453}"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28CC465A-3016-4059-9301-2FC60480C573}"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0F154519-9794-49B5-AEA8-1A21AC5A1D58}"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123B413F-A6E3-40CF-8B20-5C28CD66C99A}"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9C6C470F-0974-430F-BD08-E7D9446FEFF6}"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7EAA4CEB-2BBE-4BBD-8762-A615084593A6}"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95649FAB-38E3-4C4E-AD25-5B0EB2E6BEA1}"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95D8C2AD-F474-4CD2-A73C-9BB2EA2834B4}"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A625DBA1-BAE0-43A8-BCAD-8F7220E679DD}"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CEE248F8-A2B9-48E1-8B3A-CE24EC50EAA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743EC21E-E9BB-4B34-8919-18D70F92A6A0}"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88AD749A-D2A5-4663-BA87-5732D8B25242}"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B5EA5F6A-26A3-4C8C-9DF7-07435A79126F}"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71C2ACED-4A65-402D-A219-38AAE7C0B96F}"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081D34DE-E534-45E1-A693-DD66C02B8BF7}"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EB3BF573-5CB0-4808-818A-094E80E44E43}"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60A1BDAC-57F4-4C7A-B30C-DAEFAC18FFFC}"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A8AF4371-8B0A-45DB-9822-1BA4E0535E8E}"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503645D4-2436-471D-A1B5-F55AB1F64D63}"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FC125613-B943-4069-AD93-E75D1AC588C6}"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23836A2D-0AF2-4348-BD10-660BCF979C7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98B6538-4F19-4885-8D9B-AE71D7849B08}"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37A1EB3C-AF3B-4A31-9C10-8BFC2CED1B9C}"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408EA341-ECE5-440F-BBA7-C076E916C29D}"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C31BACC6-BCBE-4B7C-8991-C02D0DCF470F}"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9CE48C5A-94DC-4031-AD6B-402B93E8555F}"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7AA81100-2ECC-48A2-8658-40AC599B5A96}"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094E7CFC-B551-474F-BE2D-666FEEF6EB5F}"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FD94AF81-23B8-405A-9CAA-AF82ADEB0D75}"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B0B99C2B-3FCD-4944-913E-520D4B6183BF}"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E477C798-04E8-4675-A401-349BFB4289AF}"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209C9596-9890-484C-894C-21FB47A86B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BE93D5F-7816-48B3-8EAD-35B55C343EA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D2C191EF-B34F-444A-9FDD-EDB9CE2265EA}"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B0F54A33-4D5A-44C8-B6D4-7DCCC76FFA93}"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E5F0BAFB-2D5A-4CEB-93D9-C2B7510313D5}"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6CEDDFEA-83B1-4B5B-8F79-560224C3A311}"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13B2ADDE-B18A-4879-839E-D7B483BF7C21}"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B9AC0B2A-709C-4959-A0E3-DE85F5EB79E0}"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30F361CD-2DD0-4BFF-93A5-27B17748A075}"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6566F138-1F76-4608-A703-640F42EA468C}"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DDD3C7F4-BBD1-4C2E-BEEA-0193B98673AD}"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CE713F0C-01D9-4BFC-8B41-2A20015FE63B}"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5C134019-81B1-4C19-AFD9-6148D9AC1D7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1BBC43F8-CCD3-4875-BF1D-A61EDB17827E}"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660E6AE0-B82E-447E-B5B9-891957DEAC60}"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C59EE609-50BC-4CCE-A458-46DF868FB0CB}"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634AF2E7-A700-404E-ABCB-CCA20EE9265B}"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5E483A0A-6F97-459B-9D8C-F4CC2667EF16}"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65B0A376-7B63-4F58-9D2A-018A8D5B7420}"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E67AA062-AEDE-4900-ACB0-1370D0983E58}"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CFA13BAE-ED8B-44A3-BDD8-CA1F1160B620}"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87885147-3FCB-4AC7-9969-DE7C055C2E81}"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FAF9C4DC-1C9F-4F25-81FC-B769C810C2BA}"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C9C9A750-525A-43E4-8728-012B0180CB4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B05E7DEE-A505-4CA3-965F-4AE99F286830}"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7747EBE6-923F-4B79-80E4-2CDA52DEB15F}"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124D8E4F-DDD5-4EB2-BA8A-4BBB6472F6DA}"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5A1FB1CD-2CB1-4ED9-8F30-A7B88F146E7E}"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1C7915AA-5311-42BA-92BC-F34DF13D4EED}"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0A4C8988-540C-4C28-B09A-550F9D37A6BE}"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813F02EC-C7FB-43E3-8FAB-E28332B67E53}"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DE0B536F-01BE-4F73-8997-CCB5FD7DCC68}"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779F6879-F260-437C-AF1B-ACFF41FF75EF}"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C7B95D10-02AE-4E73-9DA1-9A566716EA9E}"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D331B825-C3E1-442C-8353-DA48A09F5B8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8B1D9493-C898-43B3-BDDB-41EF605ACD8E}"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E6676791-8E4D-4DDB-9986-F831BE7D81E7}"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DD540833-9428-488F-9BEF-803BACDE028A}"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73DB4C98-CBA1-4E0A-B615-395301FB420D}"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B2DBDE45-7909-4D50-A1A4-BA515B773CEA}"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2CFBBEF4-5ED3-4B1B-81C3-D923A52486C1}"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1F9AAA70-4DDD-4252-9F82-AC2BF94C3A82}"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6AE3A419-EE64-4663-9D40-5B2A0814871A}"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E2FD05EA-8AD8-44E4-856C-08AE641AF4DD}"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6D4BCAFD-569C-49E6-BECE-B51EBA357C9A}"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60D8756D-2C10-4B33-87EA-9833418E9A0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641DB714-6530-4FDD-8BE3-23042AFA59E1}"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D1220251-A5FC-4FBA-B51A-55DA87030240}"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74F002AE-929C-420F-8874-00FF62297BF3}"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7CEA2A97-B548-4E22-A8B3-93594110AF40}"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4005A317-AABD-499E-93ED-DB6CF412AAAA}"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6930FFC4-BC64-4966-8452-1F5C85683A7E}"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669AFB3E-CEAC-4306-8897-0546FFBF382A}"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484516B5-AC9B-4DB5-8A99-E172485608A3}"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7636D490-933A-4D04-AE7E-B78B615CB522}"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25D01142-A292-4589-AD57-EC07D97BEAAC}"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C328C4DC-7E1A-41B5-B79F-465B1F776E6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0EEF7945-A4A9-44E2-8C43-EC79AF7B668B}"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DD03A392-320A-4D1A-A10F-AE41528711E5}"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F2446CE2-F71A-47BF-9CA1-60D343C4D8D3}"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E58D6847-0DAE-4FA1-9822-7801ABD80EDC}"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95352E0E-2EC4-42E5-A0C0-E39ED3048A3E}"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0385B4E3-E86F-4828-8D3E-ECFFCE28387C}"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29DB11D4-E219-4B24-80FD-B84886B70F10}"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262D4AF1-CC3E-4B01-8573-7F856451053C}"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DBDD2182-C12C-4747-B58D-D66D1D8A1F9C}"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AE5ACC73-8BEF-46F7-9FFA-2E9317FBF44F}"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466AE769-00E2-4D9A-8759-1DD5E0A15F0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B83BE92D-67C6-4A9E-9E88-21801B78AA4B}"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85959D43-7044-48B2-AB2F-DDAAE1AA286D}"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CD0B5E6F-BA3B-48CC-9941-28EE87EB4C3D}"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1C89FABB-2243-4191-B0BA-5A42811CE77E}"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CE78DE17-BD3A-4D2A-800D-274B16904B4C}"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8D2CCC14-F8E5-4738-AD9C-75DEBC56062E}"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9F62A940-3CDC-4848-BF98-6AD3F13DFC2F}"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2A1258C3-7D90-4477-A52E-D55185B73BA4}"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D76B273D-8E61-4632-A6AF-99BFC2E6CE0E}"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4C921485-5E8B-40D3-B3E4-E30588789593}"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E0DDB7DB-6CB8-40FF-BD69-FFB63109F57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BF3F89B2-ECE4-4CCA-8174-9543640E5A4A}"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2EE96605-BF78-4D76-80C5-F0338DF239EB}"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D83C54A7-AD08-43E2-9037-339768AEF2B0}"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68CEFABD-6073-43A8-9174-59A7B3E2128F}"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B2130075-8DE8-4E81-995B-F20B2F474877}"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2C8DA7E6-1046-4362-B413-A084AB8110C8}"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8B7AAD39-C89B-4BFB-8945-D5E064F680AB}"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35E4A32F-9405-4CB7-B6DE-494FDA20476D}"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CAD4BEE8-EFF3-48CF-9D5E-18B5BEC536B8}"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547EFAFC-10D0-4DB4-916C-84DB8B4C2AA5}"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6F777054-BA62-4C28-BFB8-0C5A06E7019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852DC7D8-5277-4823-B350-F78490BF2C12}"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6F7C7518-4868-4F24-B482-B00827366E7D}"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4E87D0F2-B558-442B-A5D2-D92A43905574}"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8C3CE73E-C0DB-4706-8B07-E0D69EFF7570}"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BD4D5E7B-987D-40BB-9404-FC74F2F0C8EB}"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8667093A-8134-420D-BFC2-E249483A6164}"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0D27F12F-1102-498E-91B8-3C1BAA014A41}"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57209101-6D94-4040-B09B-275FC95B046D}"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32FC0050-A269-4248-A588-5F7FA9B55CB7}"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E1330A19-CDF1-4601-BD58-9EAB692643F3}"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59A43773-C29C-4E18-A711-1D6E8D28E06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27993214-61BE-494E-9181-004B63F33DBC}"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EE6B9B03-7A2F-4747-8104-37E9B4300F90}"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90642D43-21D1-4011-931B-02E7F714EA08}"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FE72CD53-9B9F-4E33-B48B-FD312781CF98}"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5DA9E4EA-56A1-4B03-999E-C9271389F089}"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DEE89F90-D228-4A2E-A545-DC4B3C3664B3}"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ACB3DCC3-0C0D-4F27-94C8-4A72F614E283}"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777DAAB3-F45D-4C19-854C-2A5978EBF19D}"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41D58A4C-9DD6-41AB-B810-409890AE3C5C}"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B960E547-ADA0-4547-98F6-22851C57C2AC}"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67DE6B00-FFC2-4D5B-87F6-5FD77213EB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93B4131-A9FF-4859-8208-75E64389586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B5D5B014-7B54-4498-B09E-A4699D5AF39C}"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DDAFAE14-AFA8-40A8-AFFE-0B0B31131D1E}"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D996765E-67D6-4FB9-8D3C-7FADBE378AF7}"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B7CC8C04-DA37-4146-BDB5-9575C1A30440}"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E2374546-BF38-4852-97B3-7FBB15358B17}"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B6D39A5D-2EC1-499C-A926-B3CECC823BFD}"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8C08BF63-1A8A-4462-94EB-07EC7ECB6D6F}"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18CCE0BC-8DC1-4F68-B1F8-2727BE455790}"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29773499-0214-4E90-A717-4569803C038E}"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24401281-836F-4B16-AD73-ACBAA674B65D}"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4D8EAD54-EF81-46A6-AE38-55947932F91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8C4C047-6450-47C7-9FD0-D04D0D818578}"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D8065654-19D0-477C-8C82-9DD3AA08FA31}"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F57A499F-8BBA-4DF2-A07B-5E2D73A67FFC}"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FB4E3C37-280E-4B44-ACDE-76751C6944C9}"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EF9D1FF3-5CEE-4660-BB94-64C2AA9E9DDA}"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0B43B807-912A-4827-A1C1-13F89BB98992}"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954A1065-A721-487B-89DC-132CE96FDCBD}"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5A9D1988-EAAF-45FA-858D-C8ACD9678D7B}"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14207575-E40E-4984-863E-760362A08418}"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E82C94C3-1366-4067-8179-C1D1D07492EC}"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5E7AB791-7470-498E-AD50-BA623C993A8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D8992FB-B3CA-40E2-8526-1C301A2AE29F}"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584E4D95-2B27-436B-807C-C48AC52A4BD0}"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7A04E929-F6E1-4212-8453-073D96535508}"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9FF6CAD3-5B03-4972-B933-CED0C5C5CE3E}"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D7C0578D-A9EF-4D2D-9F6F-AF5708F97E69}"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DF2745B9-D788-414B-84E7-DDAAC6690BCC}"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0D81317D-8480-4F93-9345-9BB20DCDE646}"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04C9D13A-4579-45D5-8C11-2AEA99C43878}"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638ADB57-6046-4FE3-B41C-3002631A4755}"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DF9C90A8-DE05-4320-B4C1-18080C826C69}"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BA8253D2-F5E9-4C2E-9672-CE8618EE421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771E479-A8B6-4795-BBE6-54AE958E4AC9}"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07F2E98B-81A0-447A-A315-7964F95258CF}"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F2713441-FB5A-4197-A097-52961439A316}"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028AEE58-89CC-4071-A6C3-FE03F587CEB1}"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C874536E-08E8-4EE5-B232-5BBCA14F4331}"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AE2C0C2C-3E9F-4398-8956-D50FD0B0F6D4}"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88446644-51F1-4EB1-9ED3-64C7A03144D2}"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D6F995B9-51CE-485E-BA50-7D17837484F7}"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2BD762AA-46BA-4CC4-8F74-8738A557E25B}"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CCD10712-BD82-4875-8EF0-E3D36D3FE805}"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4948FCF6-4151-4244-9B96-401BBF816B3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4669D93C-28A1-499D-B329-A824421092DF}"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49501E38-6340-43C4-B0F2-16A459E13BFA}"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94B51409-D4B1-4EB4-8115-712AD168FF10}"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AD76A70A-47CA-43C8-B56D-A6C2751CDEE7}"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9C2AF72C-08C5-4455-9043-3BAF57BF4511}"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644584AC-2888-46A9-AA18-3ADD163ABEEC}"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FCF4C50C-D136-431E-8076-07A7FB03BCDC}"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17655486-A22A-4124-BA8C-5C129ECEA7D3}"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B61D5A04-53AB-4B76-8621-0538A8FE741F}"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33A8F013-C118-4F2A-A128-7D9F61377C83}"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FF4BABC2-45F0-45E9-AEB4-92158EAFB81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021626E9-1934-4FBA-B873-1546520D345B}"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8A07DD74-542A-41A0-B41E-DDC4576A65A4}"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803792FD-3D9C-462B-B837-6107410FC29B}"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4F359BC7-BDA5-4297-91AB-55E025C85B2D}"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D5B08503-8B0F-461B-89F3-8F6E72BA8CFE}"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9B610CDD-1602-46E5-9152-4D54FA590B55}"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4B391AA0-9056-452F-90BB-C70E4CCF1A01}"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C191526D-23F2-47A4-B0C0-C11DA950A74B}"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A72F41AF-2B02-4104-AA0F-B6D72E37CB4F}"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CBA2078A-0405-4909-97C9-93D8BDC2007A}"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B6E5862C-CCFF-4281-AE8E-86DF49EBB20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F625B58E-477A-4BB1-A53D-1F5BAE07FB98}"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110CE23A-36D2-4D64-A2D7-1AD8FB42BE2E}"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1E6F94B9-BECD-46F3-B5EA-8865F921A587}"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291E7CEE-C45C-4948-81B9-E4296D78185A}"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F835A7BC-E55F-4A43-89CD-8583FC3B22AE}"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3F6D12FC-CCA9-46EE-AD10-4BBB6380D777}"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A56BAC5C-8F52-43E6-B2B8-CDD8C794DF3B}"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448E2D00-454A-4AFB-B532-F31C7EA6788A}"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F493C22A-1F74-4C1F-9346-2D672367565E}"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D00E5828-440B-4593-9DC1-5C76A72A830F}"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9FB9D004-9744-41A6-9B27-08F851C6519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57DDB16-AFB1-465A-AAB6-D025F2942391}"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B906C452-FD60-45EF-885C-8E03E444AD0A}"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2EB0A268-BC11-4BB7-BAB6-6D232F00DC22}"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D0056586-9E14-4D59-8E56-23E1F08DCB07}"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53895309-EED1-480C-B5D6-2946092AEAA2}"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FA66A199-B9BC-49A3-A6B5-9D86F53C25DB}"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E1FB6F80-1665-444F-9659-608FFBF27C3D}"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E0455F07-BFF8-4166-AA99-2E9A4F561D71}"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256310EC-6F7C-4DEF-84D0-224860755FB5}"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AE30FA74-6FA0-4D55-A21F-ADB34FDEAA6C}"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0009AF00-90A7-4E68-823F-8425B0D1841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9F9F558C-BD8C-4653-BD7E-936FC71CBA88}"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7F7882D1-E680-4415-9207-0418108B85D2}"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0FFE4B23-A246-4CB8-810C-178E3B377419}"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211D6903-E7F3-4AB5-8563-7E65B2867E61}"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DD5DEB88-BC5E-41C9-8364-135D7FD877FF}"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528B8B8F-64B2-4AF9-969E-AABB72B55C53}"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5F5FBAEB-C799-455D-B6B1-69977626F9F1}"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E830B826-B1BE-4EB6-8D02-5CC2C0C42CE4}"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1C481DB8-612C-4F29-A218-1FBB7C888964}"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C08B917E-D8B2-4ADF-AEAB-946930EABD6E}"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A4CD2588-C772-49E5-A49E-5AB7834299E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C294817-9287-48E6-A644-41BA27BB0E62}"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3EFB7E7E-7952-4114-B5E0-5E6EE8EE7D2F}"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E148169D-128C-4AF8-B9A5-7A829397744E}"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E66D73B7-95EC-4185-8CDA-271923110816}"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7ED9EEAE-89B7-4CCD-AD55-6FA44AAB8EBB}"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21023093-DE2F-4929-A318-2F4F088CBD42}"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0F93656E-4777-44C0-81F6-0A5EBB924E18}"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CACEBB82-4CC2-42F0-81C9-741B5E5B086A}"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CEE077E6-7294-4842-BE08-D5F77402A041}"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872AA732-7237-4E2A-92BC-CC947E85DBF1}"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39319175-01FB-4206-ABEE-150FC1089C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2CF2346-576A-48A2-ABF0-F1611152D81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7AC67450-4AA6-4931-A418-11866C1BB906}"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BDBBF224-9D3D-42E7-AE8A-7CB94116BB38}"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D2C93893-BB79-4E50-BC4C-6460E7CB2989}"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2D71EE02-865E-463E-8AF8-4B9795BD344B}"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C57BDBD4-3261-4127-92EE-E68A35C9C956}"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8FEEA073-B37F-4CD2-8ED8-7625C48D7168}"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5B3066FA-D23A-48AB-826D-5C040D7C1147}"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68A3D1FE-E402-4821-9CB9-415ED310C7C4}"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3C1F5733-E39D-4CB6-9C70-8A7C6016D690}"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6408795A-76A8-4C34-B29F-C280B6010C7A}"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C7A566F6-DBF4-4C54-9DBA-E45DC0D3306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73F4B7E5-4317-4B22-8909-625E031CA81A}"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80697B21-8E00-4E13-98C1-C0937571A5C8}"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893D1EA4-358E-4699-AEF2-3A15F92BA18B}"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EFC89B61-22DA-40B1-A41D-5ADE6E364073}"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6D81EC0C-00F4-4A0F-8468-162D78ACC968}"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A40CF7AF-708D-4FEE-8EC1-1182D9D07231}"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D8D5BB09-749C-499C-A72C-A7D8EBF206F6}"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C718A193-7C49-4435-AC36-B0A1B6D94D7A}"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15A6FDDA-6877-48F4-9716-9CD1A784D988}"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0F42CD90-2676-485C-8765-36B7F8AF229D}"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F10F8D57-951C-4E2F-BEBB-5C2728F2D66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24FEA0EA-1E14-4F0D-BD3D-4046BA35EC8B}"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F44E2AA4-29F3-4B25-B480-6F00BC2A7785}"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21060CB7-6922-4353-A474-745D74C0B29F}"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BB3FEB34-95E3-4346-9EC3-19B91B9DE10C}"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762D15D3-3516-4E8D-896A-F7696380A59E}"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EBB53AD6-9FA9-42AA-9174-70D5EDDD0A88}"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3E051331-0F0E-4A42-A739-B687FBA07B87}"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191CC8F4-6D55-43A1-8B60-33B458B3B814}"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DA81E605-F869-410B-85A6-3F4E0D3328C7}"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5A1F78F9-4278-4E50-85C8-C91683F91491}"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B6A66E4C-21D7-4068-891E-B200FDAA536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26C814B-9E79-44C6-9F99-D6B3C7ABF5D4}"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B780BE2F-15FB-4F62-BA62-A765C32EFC43}"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2A4A145D-9AEE-4241-B393-4DE8BEBC9B5A}"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A3DDEDD7-1AD7-4FA3-BA37-492B24683921}"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90DCF15B-A815-4575-8A87-65E12A2110B8}"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6DCBC40C-0560-46BC-8E3F-3556B49AF7AE}"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40B6254F-2DB2-42ED-A168-0912C8A75E70}"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0AC4C21B-7EF0-4F29-86C9-BDF93FB37A4D}"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7457BB82-7F2E-4E27-816F-3FD86F5EC996}"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C221870A-2A66-4983-952C-A9739B842DD7}"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BDDF89D7-74BF-40D5-8BC0-3F0DF19A46B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4131AFF-5638-434A-ADD3-A8CF18F586C2}"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463310BC-0ED6-4348-8D6E-91458DFBA2ED}"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761FA401-CE59-4292-8F3C-96D9100C7F20}"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52B43045-A0DC-46E2-9F18-06EE9BD50F26}"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A273974F-C215-4FD6-A499-ED1D887DA5DE}"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CA1E7677-F5BE-4603-9AAA-965A3AECFEDD}"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5320278D-D924-45F9-B900-EB2DE6D6A228}"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A03C1121-8E4A-479A-A16D-5709E5ADFB14}"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47B5EC4E-D1B3-492E-8146-91DCA765E90F}"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36125D5A-B9F0-4838-9A3D-4AB63CA9C9B6}"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87A82536-8C88-438F-9EC8-43D3B136AC9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46CA0D48-8239-47CA-AE91-501BE3D809BC}"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8E375E3F-73DB-4397-AF74-0C37E208A54C}"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04BE4491-EFA2-412E-AD35-505809574A71}"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538524A2-8CDE-4CA5-AC31-BF7A05356137}"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F16CFC5D-10D5-4513-B48F-79790B1C754C}"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E81B5B01-0B29-46AA-AB1E-9C8E319F42EC}"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6629D325-F618-4742-8389-1CD310805E07}"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F5C41726-BA70-47A4-810E-84413C605B52}"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3C96046D-9FB8-440B-9906-C2EFA56815F7}"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2CCD7704-8D0E-46CD-8A9E-34886FCC3DF9}"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1E2D0825-304D-4617-AB38-43F601FF78A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A518CE9B-807C-4D96-9FB3-F99BDDA6F114}"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9E9383C9-F0EE-4A05-B204-FB64FD2DBB4B}"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E498F52E-866C-4EA1-89D9-A587B8C0BE24}"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C679ABB5-BD3E-4091-A331-21F4C997478B}"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4CDD58A2-108D-4BB8-9EC4-96A39A5046B0}"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B36B8870-9EB6-4547-85B8-20ACBE635186}"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48DC9820-BE36-4E30-BB66-3281A33639C4}"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5FE0609A-1053-4342-A997-8A9D34BE0F97}"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8CC0242A-FBD2-486B-9513-3942875138AF}"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65B0EAE0-121B-4234-8F57-22E960842D02}"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2E2F489C-8D98-4F0C-BEF6-E39DB88C050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29E3CA7F-39F4-4761-880F-71D2359F9D15}"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C67496A3-F20A-49DC-9D41-7FCDBBAE36D9}"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E9A5CFF5-0ACD-4F54-90E9-509D588AE459}"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3973C2BA-4347-4301-8D9C-E0E1CC3AFF31}"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EDBF462E-DEA8-4D8E-98A0-B63E39950C53}"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605AAD85-8665-4DAC-8C93-9131D3F7F784}"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594B67C4-4E4F-4408-99B7-DF1D155E7F2C}"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04581133-181F-42CC-9437-42E87140A7A2}"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48AC0B70-6FFF-45CA-A790-20ACAD81A245}"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73C307AD-5578-4928-80ED-646930C8071E}"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2F43A788-7C32-4BE2-92E4-082CF8F0489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ED2651E3-8B53-460B-96E6-CCBF9D1D081C}"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72072F65-32A4-493A-B460-FC618F066419}"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2BD5016E-D30C-4A5E-8B91-B08B1707BA34}"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4BD3EC93-F682-42EB-AF05-E7D09B005A9C}"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0002358E-ACB7-4429-A750-59079051C2AD}"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D3506B32-26E7-4B83-9191-71C459EBFACD}"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DD962CD7-A30C-4E7D-99A4-6D6F122CD588}"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1CDCEF65-48B2-4833-97BE-D0FCE32ACDB0}"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6A37BA21-93D0-4D29-A145-5D0D64E68914}"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F58B41DA-FF73-473C-BB99-115777D4A45B}"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9A82628D-2468-4021-BC43-456D64E45C2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9798E21-30F1-4073-BD0D-7EDEA149712A}"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4E5CED5C-10B8-4B25-B65F-4C18AE668726}"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39816AE4-6053-4B3B-A1DC-05B19924FC6E}"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6A448384-A10C-4511-AB31-435C89D5F1D1}"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5D9D1FCC-95CC-4B75-8723-401107041394}"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E534F0BD-0D70-4878-8F40-5AA44CC97BFC}"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38E8E33C-143F-4D62-B885-D4A426DF3D63}"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FA5DA5B9-E6FE-4A6D-B3CC-DDDE6A2D491F}"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45E00F87-5E56-4F4C-AB74-5FCE790929A5}"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550B1EBE-5243-4262-BA49-964DEFF54DD2}"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CF45943C-290A-4EB5-9CF7-589D8F4253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055CA42-7F3C-406C-8A1B-12F7686F1A9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73ED122-AE96-4CFB-94FD-790E396DCDAB}"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1923CCB9-8C20-4603-9D14-8E872C75010A}"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3B3813A7-6D33-4C87-98B9-5C370B63E13D}"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6075F2C0-90DA-4421-973B-9AF33951FA6B}"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2BF88CD1-FB64-466C-A5B3-19550580C990}"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420177F8-CDA3-48DF-85E8-C136D3B633F9}"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E8B80C38-276A-4A66-A4D4-DBE65249ABC2}"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E5F7FE5E-0325-4DF6-BFEA-8CB02A618C08}"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0D7150DD-F313-4527-B3C9-A8555B7010DA}"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FF32F3E9-C728-4C5D-A78B-9D408EED8F7F}"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D6D175E7-0D5C-4790-8239-18E4601BBAE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C8C9811-065F-44BF-9ECE-AE14AFCE01DC}"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62BAA1AE-F7EB-48D3-A342-2DAF619473D7}"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67C36E43-070D-4900-952F-629903D7049F}"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CEDA4D3F-27B6-49A1-AC32-40A8D871F5A5}"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F72D36E8-62EF-4C2D-A597-83C555588E8D}"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DCC3B776-1282-4DBB-A826-DA94304DE2B9}"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03AE6F48-0BBF-4E68-9A96-B216DFF829AC}"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AFAF1DE9-96C3-4CC0-8B27-C8D473E20559}"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6058D0B1-EABF-4F02-96F6-B1B40DBB1F0E}"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1E173A09-A03B-406F-8627-8BFC7CD03CAB}"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2E3140E1-2E5E-4C50-BC74-E90713DCEC6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D18C2BB6-6955-4985-A4E6-2E1F8EA24111}"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38E7AEB8-C0AF-4EBF-B43D-597535A63D54}"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00BFE133-7D39-4CA5-A52F-25ACFF992E59}"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6FB4C462-8019-43D3-A34A-FC5100AE2E70}"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433BB183-F9A6-4BA0-82B7-0246F5D16D43}"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60DAD420-FBFE-4DB1-8599-FBEFDC7E7CC1}"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F36B5F62-76E4-4273-97F0-64DC8D931500}"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B1FA9FC6-D36C-41C5-BC08-99098A577437}"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383C6D89-0853-4AC5-9779-7E4628CEFA26}"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12E22740-777C-4B23-9DDD-715EBBBC5EF0}"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9DE185A4-1D62-4CFE-AD7F-87C3AF11CAA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F581C334-FC7E-42E4-8D54-D0B552E8A60B}"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41EA931E-34E7-4E39-B64C-29012A96490B}"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8F8B004A-E122-4DEF-8A93-FEC8C1B81D01}"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3B4C4A04-98C1-4780-B678-9ADE05F746CC}"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36BD9569-1E1B-484F-A85E-1863F82FDB73}"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6D3EE481-D1CE-43D8-94C9-BA47B09AB1C2}"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59DEB266-0FB8-4D0B-B28E-3796FFD89312}"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440F123A-3B8A-415E-BCAC-10D0E014977B}"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92F75C1D-59D4-4745-AA63-0B81C0AFD5E4}"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DD799290-5D05-4E47-A631-88BCC1EE0C2B}"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6A2F9F0E-CDE9-4EAB-8E54-A7C796D0D9E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BFC0CA06-9ED4-4F8A-9E6C-AE9F626BAB58}"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D51A8AFA-2531-4993-87D4-4FC8ABA69E5C}"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D875BD6B-419E-4C00-8AC3-7E052D6CBEEF}"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80A1533E-3BA8-4B31-91E9-681ED4D31F2E}"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E2702C19-9D1F-4D25-8506-D15BCA2EC601}"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1FD1FE9C-B387-43E6-AC9E-40637DD4E37C}"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8701FE2C-7A4C-4F20-9F42-A097641712B1}"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075B685C-42B6-4FCF-8E0C-5E7F441A9D0C}"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ADE55D8B-0609-48FC-AF66-4CB7D223DFE7}"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6611AEC1-D149-4AF4-AE5D-762ADD222785}"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F0971338-1A2A-41D2-B11C-0C01B47781A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E16D378-0F34-400A-AE26-843CEC0CEC7E}"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5368D230-C5AB-4AB7-9E37-2F79E455F994}"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A3EED04C-F557-4052-8CE3-88049473F643}"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3BF3CD3F-46A2-40E9-9533-1CC9729041E3}"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5A768361-06D7-448B-A98F-EFFD806E7D2E}"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9E8ACC64-FFA8-4111-9EC2-7FE0FB6F15D2}"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CF0547A0-9E23-4465-B1C1-2C8725829DE9}"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E62A664C-E11A-4676-A447-2E034C480942}"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3FE635CD-3B98-4FFC-B8F5-EFF501D3397A}"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765DEE4B-B2A3-48F9-BFE3-48577C4E7013}"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1D1E9EF8-2B0B-4038-B9A3-34EF696948E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3AB8D3DD-E135-401D-AAC5-EA35B7D08A0E}"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FF35DAEF-BE5E-47B8-AE3D-0199422BFA63}"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23EA62F3-C777-45EB-A584-7B867A42A08E}"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A1D78740-BB0A-4EF6-87F5-D50390BDD196}"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B6804C73-544C-4F3D-8BCE-7147594E53DA}"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B3141B3C-B56C-48B7-A38D-4E50D3A1B7DD}"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02BC7F8F-B761-40F0-8B92-30DF9F4572D2}"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3F82E374-45F2-4BE8-B831-D7CC27568A18}"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24CBD5D7-2339-496A-BE7D-C8296511E672}"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14B2EADE-780A-409C-B082-0184F7889A59}"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398B1F6B-069C-4247-B0F7-B7202D02228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80E72221-4012-4B38-80D8-13F6EDA916E4}"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3488BBB8-1A57-4067-B374-FEFA7500852F}"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CD920B47-B4E6-4EA1-B101-5F3DB0D1FD29}"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9425783A-51D0-4B59-82D2-CD628378ED76}"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1BC4131E-560E-4CC5-9D95-3BDABD266230}"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33EF3682-4FDD-47B3-9503-DD86AC34EE45}"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435CF4B9-6B75-4785-8C70-FF40932D761C}"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E1C43B5C-3745-4298-9135-7C4234990648}"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BD7148EC-CEB7-47E2-B355-8528410588A2}"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B510DC64-971E-416F-92CE-F1BF5DFA4AD5}"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46FB7DAB-EB76-408D-B708-97848FB1C37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49F42E31-F19A-4729-8954-745C2DBE8B64}"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6CA9B150-EB54-4AA7-A41C-54AF63B01172}"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02F9DA4B-6721-407B-9F10-40450E32668D}"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671CDFD2-2595-4212-ADD4-8D973A051F3D}"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100FBB08-D144-4778-BB89-368783EB53A2}"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E7E5B6A9-CFA1-4EBA-8436-58D0E66053C7}"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C2E7603C-D98D-4730-A9AB-C45460BE1372}"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0844AB0F-1B73-49B6-9605-9BD76F0E21D2}"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9FF8047E-EE77-4628-B7A2-FC51091E6BD5}"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F93209E1-16B7-4B17-AFC0-1F87E282D1C9}"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33A49C68-EBCD-44B0-8A0F-FA191C3743D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1CA33AE6-787C-46BD-8A12-55C0671DFF77}"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A5D4416D-68E7-467A-A898-9E4D258CB7CE}"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2FF48698-08BA-4421-B358-AF970917D31D}"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1E2C7A1B-4D8B-4452-877F-913A6ECBD811}"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5A08B89E-AC75-497C-90E5-2AD608DED59C}"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B2289521-5135-4035-964E-E0C7F0508270}"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1A339DCF-C8F3-42B0-B323-1923F508A44D}"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22BC5344-8871-43C5-940F-CC374F8EB67C}"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1E6EAAE0-A50D-404B-A06C-DF2EABD8B8C7}"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4F771942-748D-403C-AE74-48D4486EDA07}"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4F3ED146-6122-48E0-9F05-5E4F639A27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E368DEE-34BA-4E97-A194-653C54298AA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D461AE21-801B-4BFD-97AA-E91308B1D54B}"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FCD0D1D6-374A-4F87-B64A-4EC5C2E94DE4}"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AD564C51-2F1E-4E64-8BA0-A97FAF1FBFA1}"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489AF5B4-D63C-4E5C-A3DB-4C8372A07D61}"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89C139EF-5592-4442-B397-2B6F9443A7AD}"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576601D2-7573-40BC-8413-F00E05235B4D}"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25ED8A0E-6FF0-4A3A-85CA-BE98922EB83C}"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BB38D5E7-CACE-4F84-81AF-2228EC015435}"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23EFC054-5DBB-4E58-97D3-68234C32124B}"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FA2BF004-15B6-4C55-B7E4-DD920A9420B2}"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042E6B32-2AD0-4509-A7B0-23F457D40D6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253BCBC-94B3-4B0B-9E93-0E7933084CB6}"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B68AD833-8A32-4C97-889C-C20C06C0C15C}"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5E537874-EB42-4199-B68D-2A9AFFFFBF62}"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41B7E66B-C975-49A2-9744-EA227CB474B7}"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CEA490AC-7EEF-46F9-8C3B-A789F3C624CB}"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87FDF8E9-917B-4C0E-BC72-C2C31B235531}"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25C85812-CCD7-45E4-A8F3-3BE740C0A178}"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84D01AB1-1A99-4626-B57B-57D406A7BBF9}"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4EC27F56-9085-4AAF-80A9-29967FF1B265}"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52DD5C76-4641-4748-8EE9-741B3D9BE3AD}"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6767542F-E3C7-428E-8ACD-94CDD346BF4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6B810C0-72B6-4146-A64B-17B970C1EE78}"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3526650A-7474-4433-913D-BB20B435991B}"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049B9DEC-A801-4127-A7A2-37B49731EDAD}"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2B1028F8-C87A-4FF8-9011-4E20DF2951DA}"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8A13F52B-58D1-46E2-8E49-DDB235D0129A}"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1F3CBFEE-E958-4121-A337-8599127D790A}"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5D9B9726-B8F6-4594-98CB-86561812E654}"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C635A0E1-AF6C-4F9B-A06C-5EEC5ED3F56E}"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C844105E-4BC1-4BE4-93A6-C4D4F3B121FE}"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5A0D9BEA-35C0-4EBA-8043-9D404729BF22}"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92B001FE-706D-4914-BC1B-C77FFB151F4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5B8BA26-F48E-42E7-A0F9-58AE9AC7FA00}"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489C3497-953F-4D9D-B8F7-9AB4ACEE1ED8}"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1109B848-EACC-4DE6-A3A8-2F18BC28CB5F}"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FB158EFD-5872-4188-97F3-764DE1B096A0}"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CF7F9EA3-E9F1-41C5-9D72-7FE8CF46FEF3}"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52BFCCEE-8387-41E6-8DD0-AAC648E1CFF1}"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09651C85-86A2-4AB9-A4A9-3259727AD205}"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DCFD72FB-1019-41EB-9537-393CFD444C88}"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A69B8B00-DDB0-4146-87A7-C63934C2CC55}"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F3D6CD6B-F237-4D22-9EDA-D406A86DE990}"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72D44DF4-BA71-44CF-83D8-8DBED1BEF51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75EBE6F2-A74F-43DE-8D16-5304718C8706}"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3368A862-B3D1-49F5-85A6-9BBEB765861B}"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144FB46F-97AE-419F-8092-AD625CFC4D1C}"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FAB9F7D2-FF11-40AF-8AD2-8BABCD0463CA}"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BA06C131-D932-4FE1-ACCB-8E47C50F747F}"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DCC84518-55C5-4556-B632-24533221FC15}"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C47012F1-05A7-41DD-B7BD-C4FADA0AF5CB}"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A4A61213-C986-40CD-826F-133C6D43F274}"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DFA441A6-E562-4871-8C20-9881EDBA8CC4}"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4CA941A9-F32D-4F39-8424-74DD93434FA2}"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403C914A-3274-4CDD-BD3B-C17985D0B06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1DB689FC-951D-4FEC-A017-C4A63F58928D}"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F895A6C4-5B6B-4EDE-BABE-8E4393B895A4}"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2ED9E50C-7302-4CBC-A12B-EF1D62634805}"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991C98EF-4D69-4226-90A1-97AD015143B2}"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ACD9E00B-C2F4-4860-9556-C544C26D40D9}"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14BFD149-B496-4624-AFFE-6D680183FDF1}"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832F25E6-B04E-4091-AC45-60FB7CD1B067}"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CB8327D2-0C10-41CD-BEDA-74937D17ACB8}"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4AE9F4C5-481F-48C1-97F8-57102EDEFADA}"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E75E5085-EE3D-4091-BEFA-90113F565BF0}"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47FB6191-72E6-4A36-8C96-72282DB3C0D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8FBB76B1-A590-47BF-8D1E-7A0A0F3BB344}"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6021F6DB-598D-49CE-91E5-98573B8C02DF}"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C6C34FBD-8B5D-48C0-80D6-19DAAA27C093}"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D2018F93-969C-4E36-B39E-A11F3AABECB7}"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42C9C954-9B2B-47F9-A243-758ACE424E15}"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F839575A-10EF-40C9-BA90-2F40E2162DFF}"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295CDDAA-A0F2-436D-88A4-8C01898CAF66}"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E2678B39-F63C-4771-B722-6392D0DC9DDA}"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6059FF18-3274-4828-BA89-0D48F692840D}"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D6D0E237-3DC2-4B75-8A69-ED03D01473D2}"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7B479D13-14B0-4808-9ECD-9ED9D0E934B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1B2ACF6-1E4E-4766-ACF4-36A5911EE978}"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51A87BDC-80A4-469B-8731-B99BD1ACC254}"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B4580D1F-6EAA-4F38-A93E-BD155072A2FB}"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1A86570E-CF22-44B7-AA06-C87405DC5A9E}"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7019D5CF-1BD2-4038-8BD1-7DE52BB57ACE}"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CF39D745-4DD2-4574-BCFF-6E2E52E84889}"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B4F6B796-D577-4562-9AF6-62082F6696F5}"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461C222D-68B0-4556-AF68-11B63CD1F069}"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B6ED16BF-64A4-4C73-BA3D-08D27C4996DD}"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9C6BDDDE-75C6-4FC2-A8B4-4124857C8570}"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B49681C7-C52A-473D-A985-BAADEE8B653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C608F0C1-2D34-45D2-8582-9A44EEB76791}"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0736C94A-D17B-401C-A432-75BF381E83FB}"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99A98C54-E0D0-498B-9F19-E75839082998}"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F4F8E344-398F-49D1-A0C9-B16F80560AC1}"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49600E8A-9575-49D0-A1DA-14BC8D02DA5D}"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F6C3FC10-4BA1-4D6D-8426-5A23964E82A7}"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ECC07F9C-094C-45CF-BC4F-4E0BAE69C399}"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217A8960-8857-4884-B3C6-456CC75FE1FC}"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F2E3E386-2D2C-4E5E-B4ED-591146F4420D}"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F2B42A5D-FFAE-41FD-BFF2-4B195339327B}"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C7B8D2A3-DF27-459E-BDD1-96CF7B7927B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3EF6D63-18C4-4C59-8A6C-F0F41E504E30}"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BD11B63D-AF13-4D45-8354-6DAC4F63EEA1}"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2CD05211-E961-413F-B6C1-0E85D389D247}"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C2C9FED6-5DDC-4355-8CFB-8C0048D893E6}"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805155B0-4C33-43F0-A8F5-D7CDE34FFC69}"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BE135985-C021-4A8F-B00E-A54BF40D9F18}"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86B4D272-4458-46CB-9F74-FD2FD433D599}"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F6AF5633-1D99-47DD-88E3-69918ECAA5AA}"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C1EF7741-BD1F-4914-A569-D2AD73B4EB65}"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FA8599C6-32D7-4DE6-95E6-DDACAFA29FB7}"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0F3FF254-4688-4E5C-9E55-8AD47DDDCA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C24490-7651-4476-8043-B68DF78EBE3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B479CF-3BA9-428D-9A85-84E6A14018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56C292-7E28-4100-BDB6-9430110A243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A002C8-EDD8-404D-9486-4A79468A17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EE9DAA-8F42-40D7-99FE-89FCB0C009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4FFB8F-54F8-419F-890B-9DD97DDEBF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CD711E-940F-4E2E-BFF1-8D91093E27D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BCDC5D-955C-45F3-BFD8-3D44B17C1A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BB7DBE-1008-4CC3-BAF0-8500C7BA998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0C784D-94D0-4EC7-B9BD-1EA660533BA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45D017-F134-4159-8319-C9B6F491AB8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DAE3A2-2B16-491D-86DC-4972AF7972A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AFC421-A5D2-44B2-BC80-BBD989FE626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C6D5D2-2DF2-49EF-BB97-BDB5551AF0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79B5EE-95CC-4C19-A5E1-FC50203D00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B303D8-38F2-4C5E-9FB5-4C5415C5B4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B2B51C-7C21-41A0-8214-17F6F3A243B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27560B-ADB9-47F4-A47C-7C17635DE1C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126C01-4A4C-4482-9D89-7044A168BA4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798F61-A26B-476E-86A5-5F3B49728BF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3B06FF-933F-4C4F-9D32-B1B279F2109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2EFB20-2992-4F8A-9737-038465FD953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ADB9AB-D17A-4D2D-BD76-BDC269B41F7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375E7D-C1A8-48B4-B8D1-5CE410079E2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593414-53B8-4F38-82CE-0E81778F37B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DB2879-1008-42C6-B69A-99A9FFF30CD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D90D81-9048-4031-8BD0-DBA4CF08F4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13A4F7-F395-41F0-A736-C82F6DBBF6A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6A8236-AE1F-4FF0-872F-86422A2E86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815B24-9040-4417-B108-205D5B183F3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0360EB-7A60-4C8D-8071-B7C7B8C0380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E20D73-C431-45D3-8B4F-F68E5972B3D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153B58-DC07-4367-9947-0E47E513C9D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B1509B-2A8B-4F6A-9158-660E6DBE03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7F95D3-B568-4976-92F9-49C9E42DBDB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09FE47-0EEA-4076-B9A9-5B3A6E12B7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28F5E6-ADF9-4FCA-B904-C78332269C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A14920-24F4-478E-B7C5-9EB24BA485A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F92DDE-C6E8-43D9-9DA6-21225CB489E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D5C39B-3C60-4EC0-A386-DE1CE3275A0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0F1E41-F0DB-4B91-90EE-B16C6A0395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89937F-C1D7-431A-949A-9CE0824E4F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0F92A2-B1A0-412C-A779-E20E7E15428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7E4F18-9417-42DD-B903-2299280C9B7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6D82AB-283B-4BC1-A99A-9D5BFF8F28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E0ABD3-9104-48D5-9444-CA888EA871D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6AF1B2-3634-4B16-9763-2B6C249C39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2620C6-5BCD-4161-902C-7E4E007E463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77E9A8-6EB8-450E-811F-5622D160B6B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533D37-F44C-46FC-B6CD-598E880907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6904BF-8A20-4E07-A144-E311E9308C7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337513-626C-4E88-8358-47CA57B7795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4762E4-B947-46DE-A137-15671E1419A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5541CB-2887-46C3-991A-7C88A0800AF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C56133-59D7-401F-A25D-D9FE69AD41A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A514EA-060A-474D-9938-D1D0F11BE26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84FDF5-63E9-451E-936C-02A2A2B0F61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B5A5DF-AF1F-4AD5-A6FD-48FA30CD66D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77DC4C-6E93-4D3D-B770-BE69BD2AF71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F07467-D486-4549-B14C-BD9A4763DCC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2C782D-0282-42AB-ADCB-AFAA209AEB1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9C3A0C-902D-4B99-A10C-FE66E60EB063}"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19710D-F383-4497-A7F6-99C97582EEC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6856C3-05D2-4AEC-B55F-5B6BEC4A7F3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959ABA-DC93-4A38-8A11-CEDB7BDA785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2DDAD2-4A16-44F6-A5B6-A7BE7EE92D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F4B580-8722-4686-8B80-3F971F57FAF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321481-8D09-4301-B34D-338C7C9A870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77E899-968F-4A0C-BFC0-A4632A2E5D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BC2031-0551-43A5-964E-D98A47E44E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C270AA-D884-4C59-9BB4-848B50EA711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A431B0-7E08-4CB5-8011-E2926AD207D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2088B3-035C-4B5B-B068-D344481F024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A3756B-9668-4A63-875F-A1D9C14F499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959DEB-63B0-48B1-9439-9D918ADA8C4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E83FD1-8060-4786-BF31-1C7528AA9DA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26B0AA-BAE5-4DE8-A15A-36FA32367B1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D5120E-81E5-40E8-A734-65273C5AF51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832DBA-F4C3-4B2B-AAC6-7C362C8D0F4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9DC3F4-9DDF-4647-AFEA-5D3306FAB2A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6090A9-733F-472F-B4FC-84871586F9F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CF20ED-0ED1-4ACA-96CD-283020A7E9E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E153DD-01E0-450C-AC29-5B1D199E072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D0548C-4157-434A-B687-E818718B516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908723-615B-4276-9BD7-98E42A5BCF3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D6635B-9164-4044-9328-F847C01F4A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076989-F2B4-4E4F-AE2B-92504FDB8AE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6F91CF-473A-4AA9-AE47-3CAFAA27124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A71D3D-CBD5-4DB2-AC9A-402458B9FD4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7D7A85-83CE-4943-B15C-B9EA27F33D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047008-D6B4-4CFE-8D91-6D29720E099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5067EE-C79F-4134-84F8-843E751A2C8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1900E9-98C7-4BE5-AAD0-91B6BB7EDFB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710A61-DAF9-4BB5-901A-95CEA025A93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508140-B952-4D5F-A87C-738CA3E749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31E725-C718-4A73-83B4-FBAFEFD41E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CF851A-72CD-4DEE-ACF9-805655C5AB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522186-6D7A-433F-8248-7628B181CFB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EB9835-3B27-43DC-971A-4D6569C8D41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F71203-116E-4D49-981F-6C4B0F3E8B4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571FBA-CCAB-42D2-A619-CAD395CAD09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925A39-B019-4D59-ABFA-529E1F8974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08E60A-332E-4082-BC1D-FBB5D58A39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334EAE-32F7-4ACE-9248-0780645F0D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BB72E2-27DB-4279-B45D-65E8223659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E1AD0D-B7B9-4029-8EDF-18ED8D340FA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A2471E-3278-43B4-8DD8-EAA2BB1D31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677E2C-E4F7-4532-A190-84B19BF6A9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04D1C3-2CBA-434D-A3F3-D67D24118DB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768A08-E745-4D56-8A9C-0CB2BE3C59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F56CF2-1E62-45BB-86DA-7948CB04FE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0123A1-BC93-4FC4-9061-4DB8658B5B3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7F8AB5-0465-4F81-B226-0A92D7CA6EC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32F6E7-C8ED-4838-B72C-B7F1DB5402C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829956-B381-4741-A0C7-F4BC536FC96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2D0C5C-71F4-40F7-9252-2D6858F2E2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685FFD-F308-467E-88E8-01189D7644D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FB52C6-A3E9-4CD8-B6BC-82D8ADE8D5D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624021-58D0-4FC6-8035-5E4655560AA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D322CA-B961-4700-A110-77D2A60524D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6D558E-19CE-4454-BD70-F5A4E9BCE94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9492C1-DF7F-4831-AAF7-EC9C462D92C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FE5C0C-79BF-4B4F-BECA-4D351EEA06D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9058B1-1FD8-484C-AF60-8A4B3FD120C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E0336D-B233-4C5F-A9E8-A1319539F39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9514C5-C870-4793-A309-00E96CFC06F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997432-D104-4021-81CC-87D5094E885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AFDB0A-5C4D-439D-832F-3C3975ED8AD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FB2CB6-5B9B-4A04-B16F-FFFA41E0CCF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B1546E-AC51-442C-9F99-3A0441D90B6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F63D8D-02F6-496F-97F7-06C0B75D87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FAE6BC-CA8F-4B8B-AB8B-9E4322D0D0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A207C0-B36B-4DD8-A98B-CC85FE9015A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6E0D0C-1236-4D4E-9850-0236DA2A13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E71AAD-FEF5-4EE6-82E2-074F5B4C7C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4EF808-AFEB-4505-BC96-5A3F04803A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6027DA-1024-4133-82DA-8ED550FE8B6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525B48-851F-4E58-8BE7-51D7C35B37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14C230-FBDD-4493-AAFD-376811E8F2A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DBFF05-46BD-424C-A13A-F990996D77F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C6769E-F500-4BDD-A82B-472F789F875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24F98C-867E-4125-99D6-359B1C3DC7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B086E7-B80C-402F-96CF-046599944B6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BACAF9-BD19-4621-A0AE-78EB13C9E6B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B74CBE-262F-4C5C-8B5D-ED8EB1148E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C8B2B7-5387-4141-B5BB-258F3CD4C9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043FBC-BCF5-409D-B5D2-C0CEBD19306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DE8DC5-D731-45C8-BA41-FE59136019F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54706D-BB7C-4D3D-B499-053AD0EDC5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5BEFFE-3D9D-4F5D-A60A-F5384F2797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71EBDC-26CD-4E0F-877B-0DF67777761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95F8BD-6EDD-4689-B7E7-A7015A17A9E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044841-46EF-44DD-BC9D-F92DF339F11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108850-BE50-4875-A6D4-CA0F362E3E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1D5207-169E-4A16-AA1B-46257C0B5E6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33DA4C-D491-45D3-B54E-B0E6674673C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κουλτούρα ενός σχολικού οργανισμού αναπτύσσεται μέσα από τη συμβολή όλων όσων εμπλέκονται στη λειτουργία του, </a:t>
            </a:r>
            <a:br>
              <a:rPr sz="2800"/>
            </a:br>
            <a:r>
              <a:rPr b="0" lang="el-GR" sz="2800" spc="-1" strike="noStrike">
                <a:solidFill>
                  <a:srgbClr val="000000"/>
                </a:solidFill>
                <a:latin typeface="Times New Roman"/>
              </a:rPr>
              <a:t>όπως είναι ο διευθυντής</a:t>
            </a:r>
            <a:r>
              <a:rPr b="0" lang="en-US" sz="2800" spc="-1" strike="noStrike">
                <a:solidFill>
                  <a:srgbClr val="000000"/>
                </a:solidFill>
                <a:latin typeface="Times New Roman"/>
              </a:rPr>
              <a:t> </a:t>
            </a:r>
            <a:r>
              <a:rPr b="0" lang="el-GR" sz="2800" spc="-1" strike="noStrike">
                <a:solidFill>
                  <a:srgbClr val="000000"/>
                </a:solidFill>
                <a:latin typeface="Times New Roman"/>
              </a:rPr>
              <a:t> του σχολείου, </a:t>
            </a:r>
            <a:br>
              <a:rPr sz="2800"/>
            </a:br>
            <a:r>
              <a:rPr b="0" lang="el-GR" sz="2800" spc="-1" strike="noStrike">
                <a:solidFill>
                  <a:srgbClr val="000000"/>
                </a:solidFill>
                <a:latin typeface="Times New Roman"/>
              </a:rPr>
              <a:t>οι εκπαιδευτικοί, το εξειδικευμένο προσωπικό που υπηρετεί στο σχολείο, οι μαθητές και οι γονείς. </a:t>
            </a:r>
            <a:endParaRPr b="0" lang="en-US" sz="2800" spc="-1" strike="noStrike">
              <a:solidFill>
                <a:srgbClr val="ffffff"/>
              </a:solidFill>
              <a:latin typeface="Times New Roman"/>
            </a:endParaRPr>
          </a:p>
        </p:txBody>
      </p:sp>
      <p:grpSp>
        <p:nvGrpSpPr>
          <p:cNvPr id="6474" name="Group 2"/>
          <p:cNvGrpSpPr/>
          <p:nvPr/>
        </p:nvGrpSpPr>
        <p:grpSpPr>
          <a:xfrm>
            <a:off x="0" y="115920"/>
            <a:ext cx="9140760" cy="6548400"/>
            <a:chOff x="0" y="115920"/>
            <a:chExt cx="9140760" cy="6548400"/>
          </a:xfrm>
        </p:grpSpPr>
        <p:grpSp>
          <p:nvGrpSpPr>
            <p:cNvPr id="6475" name="Group 3"/>
            <p:cNvGrpSpPr/>
            <p:nvPr/>
          </p:nvGrpSpPr>
          <p:grpSpPr>
            <a:xfrm>
              <a:off x="0" y="115920"/>
              <a:ext cx="9140760" cy="6548400"/>
              <a:chOff x="0" y="115920"/>
              <a:chExt cx="9140760" cy="6548400"/>
            </a:xfrm>
          </p:grpSpPr>
          <p:sp>
            <p:nvSpPr>
              <p:cNvPr id="64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1"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2" name="Text Box 1"/>
          <p:cNvSpPr/>
          <p:nvPr/>
        </p:nvSpPr>
        <p:spPr>
          <a:xfrm>
            <a:off x="395280" y="773280"/>
            <a:ext cx="8353440" cy="50320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έννοια της σχολικής κουλτούρας,</a:t>
            </a:r>
            <a:r>
              <a:rPr b="0" lang="el-GR" sz="2800" spc="-1" strike="noStrike">
                <a:solidFill>
                  <a:srgbClr val="000000"/>
                </a:solidFill>
                <a:latin typeface="Times New Roman"/>
              </a:rPr>
              <a:t> η οποία θα μπορούσαμε να πούμε ότι είναι συνώνυμη </a:t>
            </a:r>
            <a:br>
              <a:rPr sz="2800"/>
            </a:br>
            <a:r>
              <a:rPr b="0" lang="el-GR" sz="2800" spc="-1" strike="noStrike">
                <a:solidFill>
                  <a:srgbClr val="000000"/>
                </a:solidFill>
                <a:latin typeface="Times New Roman"/>
              </a:rPr>
              <a:t>με τον όρο «σχολικό κλίμα», </a:t>
            </a:r>
            <a:br>
              <a:rPr sz="2800"/>
            </a:br>
            <a:r>
              <a:rPr b="0" lang="el-GR" sz="2800" spc="-1" strike="noStrike">
                <a:solidFill>
                  <a:srgbClr val="000000"/>
                </a:solidFill>
                <a:latin typeface="Times New Roman"/>
              </a:rPr>
              <a:t>εκφράζει όλα τα εσωτερικά χαρακτηριστικά που συμμετέχουν στη διαμόρφωση της ταυτότητας της σχολικής μονάδας, όπως η ατμόσφαιρα που επικρατεί, </a:t>
            </a:r>
            <a:br>
              <a:rPr sz="2800"/>
            </a:br>
            <a:r>
              <a:rPr b="0" lang="el-GR" sz="2800" spc="-1" strike="noStrike">
                <a:solidFill>
                  <a:srgbClr val="000000"/>
                </a:solidFill>
                <a:latin typeface="Times New Roman"/>
              </a:rPr>
              <a:t>οι ανθρώπινες σχέσεις που αναπτύσσονται μέσα στο συγκεκριμένο πλαίσιο ενός σχολείου </a:t>
            </a:r>
            <a:br>
              <a:rPr sz="2800"/>
            </a:br>
            <a:r>
              <a:rPr b="0" lang="el-GR" sz="2800" spc="-1" strike="noStrike">
                <a:solidFill>
                  <a:srgbClr val="000000"/>
                </a:solidFill>
                <a:latin typeface="Times New Roman"/>
              </a:rPr>
              <a:t>(Ανδρέου &amp; Μαντζούφας, 1999). </a:t>
            </a:r>
            <a:endParaRPr b="0" lang="en-US" sz="2800" spc="-1" strike="noStrike">
              <a:solidFill>
                <a:srgbClr val="ffffff"/>
              </a:solidFill>
              <a:latin typeface="Times New Roman"/>
            </a:endParaRPr>
          </a:p>
        </p:txBody>
      </p:sp>
      <p:grpSp>
        <p:nvGrpSpPr>
          <p:cNvPr id="6483" name="Group 2"/>
          <p:cNvGrpSpPr/>
          <p:nvPr/>
        </p:nvGrpSpPr>
        <p:grpSpPr>
          <a:xfrm>
            <a:off x="0" y="115920"/>
            <a:ext cx="9140760" cy="6548400"/>
            <a:chOff x="0" y="115920"/>
            <a:chExt cx="9140760" cy="6548400"/>
          </a:xfrm>
        </p:grpSpPr>
        <p:grpSp>
          <p:nvGrpSpPr>
            <p:cNvPr id="6484" name="Group 3"/>
            <p:cNvGrpSpPr/>
            <p:nvPr/>
          </p:nvGrpSpPr>
          <p:grpSpPr>
            <a:xfrm>
              <a:off x="0" y="115920"/>
              <a:ext cx="9140760" cy="6548400"/>
              <a:chOff x="0" y="115920"/>
              <a:chExt cx="9140760" cy="6548400"/>
            </a:xfrm>
          </p:grpSpPr>
          <p:sp>
            <p:nvSpPr>
              <p:cNvPr id="64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0"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91" name="Group 1"/>
          <p:cNvGrpSpPr/>
          <p:nvPr/>
        </p:nvGrpSpPr>
        <p:grpSpPr>
          <a:xfrm>
            <a:off x="0" y="115920"/>
            <a:ext cx="9140760" cy="6548400"/>
            <a:chOff x="0" y="115920"/>
            <a:chExt cx="9140760" cy="6548400"/>
          </a:xfrm>
        </p:grpSpPr>
        <p:grpSp>
          <p:nvGrpSpPr>
            <p:cNvPr id="6492" name="Group 2"/>
            <p:cNvGrpSpPr/>
            <p:nvPr/>
          </p:nvGrpSpPr>
          <p:grpSpPr>
            <a:xfrm>
              <a:off x="0" y="115920"/>
              <a:ext cx="9140760" cy="6548400"/>
              <a:chOff x="0" y="115920"/>
              <a:chExt cx="9140760" cy="6548400"/>
            </a:xfrm>
          </p:grpSpPr>
          <p:sp>
            <p:nvSpPr>
              <p:cNvPr id="6493"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4"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5"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6"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7"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8" name="Picture 8" descr=""/>
          <p:cNvPicPr/>
          <p:nvPr/>
        </p:nvPicPr>
        <p:blipFill>
          <a:blip r:embed="rId3"/>
          <a:stretch/>
        </p:blipFill>
        <p:spPr>
          <a:xfrm>
            <a:off x="250920" y="333360"/>
            <a:ext cx="1417680" cy="879480"/>
          </a:xfrm>
          <a:prstGeom prst="rect">
            <a:avLst/>
          </a:prstGeom>
          <a:ln w="0">
            <a:noFill/>
          </a:ln>
        </p:spPr>
      </p:pic>
      <p:sp>
        <p:nvSpPr>
          <p:cNvPr id="6499" name="Text Box 9"/>
          <p:cNvSpPr/>
          <p:nvPr/>
        </p:nvSpPr>
        <p:spPr>
          <a:xfrm>
            <a:off x="395280" y="1938240"/>
            <a:ext cx="8280360" cy="26161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Η κουλτούρα προσδιορίζει τις στάσεις, τις συμπεριφορές, τις αποφάσεις, τις επιλογές και τις προτεραιότητες των συμμετεχόντων σε έναν οργανισμό σε σχέση με ζητήματα κρίσιμης σημασίας (Μπουραντάς, 2005). </a:t>
            </a:r>
            <a:br>
              <a:rPr sz="2800"/>
            </a:b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00" name="Group 1"/>
          <p:cNvGrpSpPr/>
          <p:nvPr/>
        </p:nvGrpSpPr>
        <p:grpSpPr>
          <a:xfrm>
            <a:off x="0" y="115920"/>
            <a:ext cx="9140760" cy="6548400"/>
            <a:chOff x="0" y="115920"/>
            <a:chExt cx="9140760" cy="6548400"/>
          </a:xfrm>
        </p:grpSpPr>
        <p:grpSp>
          <p:nvGrpSpPr>
            <p:cNvPr id="6501" name="Group 2"/>
            <p:cNvGrpSpPr/>
            <p:nvPr/>
          </p:nvGrpSpPr>
          <p:grpSpPr>
            <a:xfrm>
              <a:off x="0" y="115920"/>
              <a:ext cx="9140760" cy="6548400"/>
              <a:chOff x="0" y="115920"/>
              <a:chExt cx="9140760" cy="6548400"/>
            </a:xfrm>
          </p:grpSpPr>
          <p:sp>
            <p:nvSpPr>
              <p:cNvPr id="6502"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3"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4"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5"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6"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7" name="Picture 8" descr=""/>
          <p:cNvPicPr/>
          <p:nvPr/>
        </p:nvPicPr>
        <p:blipFill>
          <a:blip r:embed="rId3"/>
          <a:stretch/>
        </p:blipFill>
        <p:spPr>
          <a:xfrm>
            <a:off x="250920" y="333360"/>
            <a:ext cx="1417680" cy="879480"/>
          </a:xfrm>
          <a:prstGeom prst="rect">
            <a:avLst/>
          </a:prstGeom>
          <a:ln w="0">
            <a:noFill/>
          </a:ln>
        </p:spPr>
      </p:pic>
      <p:sp>
        <p:nvSpPr>
          <p:cNvPr id="6508" name="Text Box 9"/>
          <p:cNvSpPr/>
          <p:nvPr/>
        </p:nvSpPr>
        <p:spPr>
          <a:xfrm>
            <a:off x="611280" y="1076400"/>
            <a:ext cx="8064360" cy="43401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Times-Italic"/>
              </a:rPr>
              <a:t>Οι τομείς στους οποίους φαίνεται η θετική επίδραση της σχολικής κουλτούρας είναι </a:t>
            </a:r>
            <a:br>
              <a:rPr sz="2800"/>
            </a:br>
            <a:r>
              <a:rPr b="0" lang="el-GR" sz="2800" spc="-1" strike="noStrike">
                <a:solidFill>
                  <a:srgbClr val="000000"/>
                </a:solidFill>
                <a:latin typeface="Times New Roman"/>
                <a:ea typeface="Times-Italic"/>
              </a:rPr>
              <a:t>η αποτελεσματικότητα και η αποδοτικότητα του σχολικού οργανισμού, </a:t>
            </a:r>
            <a:br>
              <a:rPr sz="2800"/>
            </a:br>
            <a:r>
              <a:rPr b="0" lang="el-GR" sz="2800" spc="-1" strike="noStrike">
                <a:solidFill>
                  <a:srgbClr val="000000"/>
                </a:solidFill>
                <a:latin typeface="Times New Roman"/>
                <a:ea typeface="Times-Italic"/>
              </a:rPr>
              <a:t>Άλλοι τομείς αφορούν τις προσπάθειες για αλλαγή και βελτίωση του σχολείου , οι δραστηριότητες συναδελφικότητας ή συνεργασίας. </a:t>
            </a:r>
            <a:br>
              <a:rPr sz="2800"/>
            </a:br>
            <a:r>
              <a:rPr b="0" lang="el-GR" sz="2800" spc="-1" strike="noStrike">
                <a:solidFill>
                  <a:srgbClr val="000000"/>
                </a:solidFill>
                <a:latin typeface="Times New Roman"/>
                <a:ea typeface="Times-Italic"/>
              </a:rPr>
              <a:t>αλλά και την ταύτιση των μελών του σχολείου με το ίδιο το σχολείο (Χατζηπαναγιώτου, 2008).</a:t>
            </a:r>
            <a:endParaRPr b="0" lang="en-US" sz="2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Text Box 1"/>
          <p:cNvSpPr/>
          <p:nvPr/>
        </p:nvSpPr>
        <p:spPr>
          <a:xfrm>
            <a:off x="539640" y="1392120"/>
            <a:ext cx="813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ης κουλτούρας αφορά την υποστήριξη ή παρεμπόδιση ως προς την εφαρμογή μιας στρατηγικής, (π.χ. Παιδαγωγικές και διδακτικές παρεμβάσεις ).</a:t>
            </a:r>
            <a:br>
              <a:rPr sz="2800"/>
            </a:br>
            <a:br>
              <a:rPr sz="2800"/>
            </a:br>
            <a:r>
              <a:rPr b="0" lang="el-GR" sz="2800" spc="-1" strike="noStrike">
                <a:solidFill>
                  <a:srgbClr val="000000"/>
                </a:solidFill>
                <a:latin typeface="Times New Roman"/>
              </a:rPr>
              <a:t>Η κουλτούρα όταν είναι δημιουργική και κατάλληλη συμβάλλει θετικά ενώ όταν είναι ακατάλληλη συμβάλλει αρνητικά στην εφαρμογή στρατηγικών ή την λήψη στρατηγικών αποφάσεων. ,</a:t>
            </a:r>
            <a:endParaRPr b="0" lang="en-US" sz="2800" spc="-1" strike="noStrike">
              <a:solidFill>
                <a:srgbClr val="ffffff"/>
              </a:solidFill>
              <a:latin typeface="Times New Roman"/>
            </a:endParaRPr>
          </a:p>
        </p:txBody>
      </p:sp>
      <p:grpSp>
        <p:nvGrpSpPr>
          <p:cNvPr id="6510" name="Group 2"/>
          <p:cNvGrpSpPr/>
          <p:nvPr/>
        </p:nvGrpSpPr>
        <p:grpSpPr>
          <a:xfrm>
            <a:off x="0" y="115920"/>
            <a:ext cx="9140760" cy="6548400"/>
            <a:chOff x="0" y="115920"/>
            <a:chExt cx="9140760" cy="6548400"/>
          </a:xfrm>
        </p:grpSpPr>
        <p:grpSp>
          <p:nvGrpSpPr>
            <p:cNvPr id="6511" name="Group 3"/>
            <p:cNvGrpSpPr/>
            <p:nvPr/>
          </p:nvGrpSpPr>
          <p:grpSpPr>
            <a:xfrm>
              <a:off x="0" y="115920"/>
              <a:ext cx="9140760" cy="6548400"/>
              <a:chOff x="0" y="115920"/>
              <a:chExt cx="9140760" cy="6548400"/>
            </a:xfrm>
          </p:grpSpPr>
          <p:sp>
            <p:nvSpPr>
              <p:cNvPr id="65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7"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8" name="Text Box 1"/>
          <p:cNvSpPr/>
          <p:nvPr/>
        </p:nvSpPr>
        <p:spPr>
          <a:xfrm>
            <a:off x="611280" y="1392120"/>
            <a:ext cx="8137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ολική κουλτούρα ενισχύει και ενδυναμώνει την ατομική πρωτοβουλία και ταυτόχρονα την αυτοπειθαρχία, ενώ περιορίζει την κοινωνική αβεβαιότητα οδηγώντας τους ανθρώπους σε μια κοινή κατεύθυνση και συνεργασία. </a:t>
            </a:r>
            <a:br>
              <a:rPr sz="2800"/>
            </a:br>
            <a:r>
              <a:rPr b="0" lang="el-GR" sz="2800" spc="-1" strike="noStrike">
                <a:solidFill>
                  <a:srgbClr val="000000"/>
                </a:solidFill>
                <a:latin typeface="Times New Roman"/>
              </a:rPr>
              <a:t>Με αυτό τον τρόπο, μπορεί να ενισχύει ή να παρεμποδίζει την συνεχή προσαρμογή και την αλλαγή, στη συγκεκριμένη περίπτωση στο σχολικό περιβάλλον </a:t>
            </a:r>
            <a:br>
              <a:rPr sz="2800"/>
            </a:br>
            <a:r>
              <a:rPr b="0" lang="el-GR" sz="2800" spc="-1" strike="noStrike">
                <a:solidFill>
                  <a:srgbClr val="000000"/>
                </a:solidFill>
                <a:latin typeface="Times New Roman"/>
              </a:rPr>
              <a:t>(Μπουραντάς, 2005).</a:t>
            </a:r>
            <a:endParaRPr b="0" lang="en-US" sz="2800" spc="-1" strike="noStrike">
              <a:solidFill>
                <a:srgbClr val="ffffff"/>
              </a:solidFill>
              <a:latin typeface="Times New Roman"/>
            </a:endParaRPr>
          </a:p>
        </p:txBody>
      </p:sp>
      <p:grpSp>
        <p:nvGrpSpPr>
          <p:cNvPr id="6519" name="Group 2"/>
          <p:cNvGrpSpPr/>
          <p:nvPr/>
        </p:nvGrpSpPr>
        <p:grpSpPr>
          <a:xfrm>
            <a:off x="0" y="115920"/>
            <a:ext cx="9140760" cy="6548400"/>
            <a:chOff x="0" y="115920"/>
            <a:chExt cx="9140760" cy="6548400"/>
          </a:xfrm>
        </p:grpSpPr>
        <p:grpSp>
          <p:nvGrpSpPr>
            <p:cNvPr id="6520" name="Group 3"/>
            <p:cNvGrpSpPr/>
            <p:nvPr/>
          </p:nvGrpSpPr>
          <p:grpSpPr>
            <a:xfrm>
              <a:off x="0" y="115920"/>
              <a:ext cx="9140760" cy="6548400"/>
              <a:chOff x="0" y="115920"/>
              <a:chExt cx="9140760" cy="6548400"/>
            </a:xfrm>
          </p:grpSpPr>
          <p:sp>
            <p:nvSpPr>
              <p:cNvPr id="65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6"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27" name="Group 1"/>
          <p:cNvGrpSpPr/>
          <p:nvPr/>
        </p:nvGrpSpPr>
        <p:grpSpPr>
          <a:xfrm>
            <a:off x="0" y="115920"/>
            <a:ext cx="9140760" cy="6548400"/>
            <a:chOff x="0" y="115920"/>
            <a:chExt cx="9140760" cy="6548400"/>
          </a:xfrm>
        </p:grpSpPr>
        <p:grpSp>
          <p:nvGrpSpPr>
            <p:cNvPr id="6528" name="Group 2"/>
            <p:cNvGrpSpPr/>
            <p:nvPr/>
          </p:nvGrpSpPr>
          <p:grpSpPr>
            <a:xfrm>
              <a:off x="0" y="115920"/>
              <a:ext cx="9140760" cy="6548400"/>
              <a:chOff x="0" y="115920"/>
              <a:chExt cx="9140760" cy="6548400"/>
            </a:xfrm>
          </p:grpSpPr>
          <p:sp>
            <p:nvSpPr>
              <p:cNvPr id="6529"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0"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1"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2"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3"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4" name="Picture 8" descr=""/>
          <p:cNvPicPr/>
          <p:nvPr/>
        </p:nvPicPr>
        <p:blipFill>
          <a:blip r:embed="rId3"/>
          <a:stretch/>
        </p:blipFill>
        <p:spPr>
          <a:xfrm>
            <a:off x="250920" y="333360"/>
            <a:ext cx="1417680" cy="879480"/>
          </a:xfrm>
          <a:prstGeom prst="rect">
            <a:avLst/>
          </a:prstGeom>
          <a:ln w="0">
            <a:noFill/>
          </a:ln>
        </p:spPr>
      </p:pic>
      <p:sp>
        <p:nvSpPr>
          <p:cNvPr id="6535" name="Text Box 9"/>
          <p:cNvSpPr/>
          <p:nvPr/>
        </p:nvSpPr>
        <p:spPr>
          <a:xfrm>
            <a:off x="395280" y="1711440"/>
            <a:ext cx="8064360" cy="2651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Οι παράγοντες , οι οποίοι σε  σχέση με τη σχολική κουλτούρα  επηρεάζουν την υλοποίηση της ένταξης </a:t>
            </a:r>
            <a:br>
              <a:rPr sz="2800"/>
            </a:br>
            <a:r>
              <a:rPr b="0" lang="el-GR" sz="2800" spc="-1" strike="noStrike">
                <a:solidFill>
                  <a:srgbClr val="000000"/>
                </a:solidFill>
                <a:latin typeface="Times New Roman"/>
                <a:ea typeface="Times-Italic"/>
              </a:rPr>
              <a:t>συμπεριλαμβάνονται </a:t>
            </a:r>
            <a:br>
              <a:rPr sz="2800"/>
            </a:br>
            <a:r>
              <a:rPr b="0" lang="el-GR" sz="2800" spc="-1" strike="noStrike">
                <a:solidFill>
                  <a:srgbClr val="000000"/>
                </a:solidFill>
                <a:latin typeface="Times New Roman"/>
                <a:ea typeface="Times-Italic"/>
              </a:rPr>
              <a:t>οι θεσμικοί και οι προσωπικοί παράγοντες, </a:t>
            </a:r>
            <a:br>
              <a:rPr sz="2800"/>
            </a:br>
            <a:r>
              <a:rPr b="0" lang="el-GR" sz="2800" spc="-1" strike="noStrike">
                <a:solidFill>
                  <a:srgbClr val="000000"/>
                </a:solidFill>
                <a:latin typeface="Times New Roman"/>
                <a:ea typeface="Times-Italic"/>
              </a:rPr>
              <a:t>σύμφωνα με τον </a:t>
            </a:r>
            <a:r>
              <a:rPr b="0" lang="en-US" sz="2800" spc="-1" strike="noStrike">
                <a:solidFill>
                  <a:srgbClr val="000000"/>
                </a:solidFill>
                <a:latin typeface="Times New Roman"/>
                <a:ea typeface="Times-Italic"/>
              </a:rPr>
              <a:t>Thomas</a:t>
            </a:r>
            <a:r>
              <a:rPr b="0" lang="el-GR" sz="2800" spc="-1" strike="noStrike">
                <a:solidFill>
                  <a:srgbClr val="000000"/>
                </a:solidFill>
                <a:latin typeface="Times New Roman"/>
                <a:ea typeface="Times-Italic"/>
              </a:rPr>
              <a:t> </a:t>
            </a:r>
            <a:br>
              <a:rPr sz="2800"/>
            </a:b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36" name="Group 1"/>
          <p:cNvGrpSpPr/>
          <p:nvPr/>
        </p:nvGrpSpPr>
        <p:grpSpPr>
          <a:xfrm>
            <a:off x="0" y="115920"/>
            <a:ext cx="9140760" cy="6548400"/>
            <a:chOff x="0" y="115920"/>
            <a:chExt cx="9140760" cy="6548400"/>
          </a:xfrm>
        </p:grpSpPr>
        <p:grpSp>
          <p:nvGrpSpPr>
            <p:cNvPr id="6537" name="Group 2"/>
            <p:cNvGrpSpPr/>
            <p:nvPr/>
          </p:nvGrpSpPr>
          <p:grpSpPr>
            <a:xfrm>
              <a:off x="0" y="115920"/>
              <a:ext cx="9140760" cy="6548400"/>
              <a:chOff x="0" y="115920"/>
              <a:chExt cx="9140760" cy="6548400"/>
            </a:xfrm>
          </p:grpSpPr>
          <p:sp>
            <p:nvSpPr>
              <p:cNvPr id="6538"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9"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0"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1"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2"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3" name="Picture 8" descr=""/>
          <p:cNvPicPr/>
          <p:nvPr/>
        </p:nvPicPr>
        <p:blipFill>
          <a:blip r:embed="rId3"/>
          <a:stretch/>
        </p:blipFill>
        <p:spPr>
          <a:xfrm>
            <a:off x="250920" y="333360"/>
            <a:ext cx="1417680" cy="879480"/>
          </a:xfrm>
          <a:prstGeom prst="rect">
            <a:avLst/>
          </a:prstGeom>
          <a:ln w="0">
            <a:noFill/>
          </a:ln>
        </p:spPr>
      </p:pic>
      <p:sp>
        <p:nvSpPr>
          <p:cNvPr id="6544" name="Text Box 9"/>
          <p:cNvSpPr/>
          <p:nvPr/>
        </p:nvSpPr>
        <p:spPr>
          <a:xfrm>
            <a:off x="395280" y="1482840"/>
            <a:ext cx="8209080" cy="31082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Άλλοι παράγοντες, οι οποίοι επηρεάζουν τη σχολική κουλτούρα είναι η σχολική πολιτική, </a:t>
            </a:r>
            <a:br>
              <a:rPr sz="2800"/>
            </a:br>
            <a:r>
              <a:rPr b="0" lang="el-GR" sz="2800" spc="-1" strike="noStrike">
                <a:solidFill>
                  <a:srgbClr val="000000"/>
                </a:solidFill>
                <a:latin typeface="Times New Roman"/>
                <a:ea typeface="Times-Italic"/>
              </a:rPr>
              <a:t>ο τρόπος κατανομής των μαθητών μέσα στην τάξη, δηλ. εάν είναι κανονικά ή μεικτά κατανεμημένοι, </a:t>
            </a:r>
            <a:br>
              <a:rPr sz="2800"/>
            </a:br>
            <a:r>
              <a:rPr b="0" lang="el-GR" sz="2800" spc="-1" strike="noStrike">
                <a:solidFill>
                  <a:srgbClr val="000000"/>
                </a:solidFill>
                <a:latin typeface="Times New Roman"/>
                <a:ea typeface="Times-Italic"/>
              </a:rPr>
              <a:t> οι στάσεις των διευθυντών σε σχέση με την ένταξη,</a:t>
            </a:r>
            <a:br>
              <a:rPr sz="2800"/>
            </a:br>
            <a:r>
              <a:rPr b="0" lang="el-GR" sz="2800" spc="-1" strike="noStrike">
                <a:solidFill>
                  <a:srgbClr val="000000"/>
                </a:solidFill>
                <a:latin typeface="Times New Roman"/>
                <a:ea typeface="Times-Italic"/>
              </a:rPr>
              <a:t>οι στάσεις των εκπαιδευτικών σε σχέση με την ένταξη,</a:t>
            </a:r>
            <a:br>
              <a:rPr sz="2800"/>
            </a:br>
            <a:r>
              <a:rPr b="0" lang="el-GR" sz="2800" spc="-1" strike="noStrike">
                <a:solidFill>
                  <a:srgbClr val="000000"/>
                </a:solidFill>
                <a:latin typeface="Times New Roman"/>
                <a:ea typeface="Times-Italic"/>
              </a:rPr>
              <a:t>οι στάσεις των γονέων σε σχέση με την ένταξη. </a:t>
            </a: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5" name="Group 1"/>
          <p:cNvGrpSpPr/>
          <p:nvPr/>
        </p:nvGrpSpPr>
        <p:grpSpPr>
          <a:xfrm>
            <a:off x="0" y="190440"/>
            <a:ext cx="9140760" cy="6548400"/>
            <a:chOff x="0" y="190440"/>
            <a:chExt cx="9140760" cy="6548400"/>
          </a:xfrm>
        </p:grpSpPr>
        <p:grpSp>
          <p:nvGrpSpPr>
            <p:cNvPr id="6546" name="Group 2"/>
            <p:cNvGrpSpPr/>
            <p:nvPr/>
          </p:nvGrpSpPr>
          <p:grpSpPr>
            <a:xfrm>
              <a:off x="0" y="190440"/>
              <a:ext cx="9140760" cy="6548400"/>
              <a:chOff x="0" y="190440"/>
              <a:chExt cx="9140760" cy="6548400"/>
            </a:xfrm>
          </p:grpSpPr>
          <p:sp>
            <p:nvSpPr>
              <p:cNvPr id="6547" name="Line 3"/>
              <p:cNvSpPr/>
              <p:nvPr/>
            </p:nvSpPr>
            <p:spPr>
              <a:xfrm>
                <a:off x="179280" y="19044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8" name="Rectangle 4"/>
              <p:cNvSpPr/>
              <p:nvPr/>
            </p:nvSpPr>
            <p:spPr>
              <a:xfrm>
                <a:off x="1692360" y="26208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9" name="Rectangle 5"/>
              <p:cNvSpPr/>
              <p:nvPr/>
            </p:nvSpPr>
            <p:spPr>
              <a:xfrm>
                <a:off x="0" y="602280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0" name="Line 6"/>
            <p:cNvSpPr/>
            <p:nvPr/>
          </p:nvSpPr>
          <p:spPr>
            <a:xfrm>
              <a:off x="179280" y="190440"/>
              <a:ext cx="0" cy="1365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1"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2" name="Picture 8" descr=""/>
          <p:cNvPicPr/>
          <p:nvPr/>
        </p:nvPicPr>
        <p:blipFill>
          <a:blip r:embed="rId3"/>
          <a:stretch/>
        </p:blipFill>
        <p:spPr>
          <a:xfrm>
            <a:off x="250920" y="333360"/>
            <a:ext cx="1417680" cy="879480"/>
          </a:xfrm>
          <a:prstGeom prst="rect">
            <a:avLst/>
          </a:prstGeom>
          <a:ln w="0">
            <a:noFill/>
          </a:ln>
        </p:spPr>
      </p:pic>
      <p:sp>
        <p:nvSpPr>
          <p:cNvPr id="6553" name="Text Box 9"/>
          <p:cNvSpPr/>
          <p:nvPr/>
        </p:nvSpPr>
        <p:spPr>
          <a:xfrm>
            <a:off x="468360" y="944640"/>
            <a:ext cx="7991280" cy="44020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Περιλαμβάνονται  επίσης οι παράγοντες που σχετίζονται με την ποιότητα των υπηρεσιών που παρέχονται από τον ειδικό παιδαγωγό, </a:t>
            </a:r>
            <a:br>
              <a:rPr sz="2800"/>
            </a:br>
            <a:r>
              <a:rPr b="0" lang="el-GR" sz="2800" spc="-1" strike="noStrike">
                <a:solidFill>
                  <a:srgbClr val="000000"/>
                </a:solidFill>
                <a:latin typeface="Times New Roman"/>
                <a:ea typeface="Times-Italic"/>
              </a:rPr>
              <a:t>το είδος της σχέσης  συνεργασίας ανάμεσα στον εκπαιδευτικό της γενικής και στον εκπαιδευτικό της ειδικής αγωγής, </a:t>
            </a:r>
            <a:br>
              <a:rPr sz="2800"/>
            </a:br>
            <a:r>
              <a:rPr b="0" lang="el-GR" sz="2800" spc="-1" strike="noStrike">
                <a:solidFill>
                  <a:srgbClr val="000000"/>
                </a:solidFill>
                <a:latin typeface="Times New Roman"/>
                <a:ea typeface="Times-Italic"/>
              </a:rPr>
              <a:t>ο ρόλος και οι αρμοδιότητές τους, </a:t>
            </a:r>
            <a:br>
              <a:rPr sz="2800"/>
            </a:br>
            <a:r>
              <a:rPr b="0" lang="el-GR" sz="2800" spc="-1" strike="noStrike">
                <a:solidFill>
                  <a:srgbClr val="000000"/>
                </a:solidFill>
                <a:latin typeface="Times New Roman"/>
                <a:ea typeface="Times-Italic"/>
              </a:rPr>
              <a:t>αλλά και  ο βαθμός αυτοπεποίθησης των εκπαιδευτικών ως προς την επιλογή των κατάλληλων μεθόδων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a:t>
            </a: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παράγοντες εκτός σχολικού συστήματος που επηρεάζουν την ένταξη. Τέτοιοι παράγοντες είναι  οι κοινές αξίες που συν-διαμορφώνονται μέσα σε μια σχολική κοινότητα , που επηρεάζουν την αποδοχή της διαφορετικότητας και επομένως, την εφαρμογή της ένταξης.  </a:t>
            </a:r>
            <a:endParaRPr b="0" lang="en-US" sz="2800" spc="-1" strike="noStrike">
              <a:solidFill>
                <a:srgbClr val="ffffff"/>
              </a:solidFill>
              <a:latin typeface="Times New Roman"/>
            </a:endParaRPr>
          </a:p>
        </p:txBody>
      </p:sp>
      <p:grpSp>
        <p:nvGrpSpPr>
          <p:cNvPr id="6555" name="Group 2"/>
          <p:cNvGrpSpPr/>
          <p:nvPr/>
        </p:nvGrpSpPr>
        <p:grpSpPr>
          <a:xfrm>
            <a:off x="0" y="115920"/>
            <a:ext cx="9140760" cy="6548400"/>
            <a:chOff x="0" y="115920"/>
            <a:chExt cx="9140760" cy="6548400"/>
          </a:xfrm>
        </p:grpSpPr>
        <p:grpSp>
          <p:nvGrpSpPr>
            <p:cNvPr id="6556" name="Group 3"/>
            <p:cNvGrpSpPr/>
            <p:nvPr/>
          </p:nvGrpSpPr>
          <p:grpSpPr>
            <a:xfrm>
              <a:off x="0" y="115920"/>
              <a:ext cx="9140760" cy="6548400"/>
              <a:chOff x="0" y="115920"/>
              <a:chExt cx="9140760" cy="6548400"/>
            </a:xfrm>
          </p:grpSpPr>
          <p:sp>
            <p:nvSpPr>
              <p:cNvPr id="65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2"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br>
              <a:rPr sz="3200"/>
            </a:br>
            <a:r>
              <a:rPr b="1" lang="el-GR" sz="3200" spc="-1" strike="noStrike">
                <a:solidFill>
                  <a:srgbClr val="000000"/>
                </a:solidFill>
                <a:latin typeface="Times New Roman"/>
                <a:ea typeface="Arial"/>
              </a:rPr>
              <a:t>Η Σχολική Κουλτούρα</a:t>
            </a:r>
            <a:br>
              <a:rPr sz="2800"/>
            </a:br>
            <a:br>
              <a:rPr sz="2800"/>
            </a:br>
            <a:r>
              <a:rPr b="1" lang="el-GR" sz="2000" spc="-1" strike="noStrike">
                <a:solidFill>
                  <a:srgbClr val="000099"/>
                </a:solidFill>
                <a:latin typeface="Arial"/>
                <a:ea typeface="Arial"/>
              </a:rPr>
              <a:t>ΕΙΣΗΓΗΤΗΣ: Γούπος Θεόδωρος,  δρ. Παιδαγωγικών</a:t>
            </a:r>
            <a:br>
              <a:rPr sz="2800"/>
            </a:br>
            <a:br>
              <a:rPr sz="2800"/>
            </a:br>
            <a:endParaRPr b="0" lang="en-US" sz="20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1547640" y="227664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άδειγμα αποτελεί ένα σχολείο που βρίσκεται σε μια πολυπολιτισμική περιοχή στο οποίο φοιτούν μαθητές με εντελώς διαφορετικές εκπαιδευτικές ανάγκες, με αποτέλεσμα η δυσλειτουργία του να θεωρείται από τους εκπαιδευτικούς και τους μαθητές του ως μια άλλη διάσταση της διαφορετικ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arrington</a:t>
            </a:r>
            <a:r>
              <a:rPr b="0" lang="el-GR" sz="2800" spc="-1" strike="noStrike">
                <a:solidFill>
                  <a:srgbClr val="000000"/>
                </a:solidFill>
                <a:latin typeface="Times New Roman"/>
              </a:rPr>
              <a:t>, 1999). </a:t>
            </a:r>
            <a:endParaRPr b="0" lang="en-US" sz="2800" spc="-1" strike="noStrike">
              <a:solidFill>
                <a:srgbClr val="ffffff"/>
              </a:solidFill>
              <a:latin typeface="Times New Roman"/>
            </a:endParaRPr>
          </a:p>
        </p:txBody>
      </p:sp>
      <p:grpSp>
        <p:nvGrpSpPr>
          <p:cNvPr id="6564" name="Group 2"/>
          <p:cNvGrpSpPr/>
          <p:nvPr/>
        </p:nvGrpSpPr>
        <p:grpSpPr>
          <a:xfrm>
            <a:off x="0" y="115920"/>
            <a:ext cx="9140760" cy="6548400"/>
            <a:chOff x="0" y="115920"/>
            <a:chExt cx="9140760" cy="6548400"/>
          </a:xfrm>
        </p:grpSpPr>
        <p:grpSp>
          <p:nvGrpSpPr>
            <p:cNvPr id="6565" name="Group 3"/>
            <p:cNvGrpSpPr/>
            <p:nvPr/>
          </p:nvGrpSpPr>
          <p:grpSpPr>
            <a:xfrm>
              <a:off x="0" y="115920"/>
              <a:ext cx="9140760" cy="6548400"/>
              <a:chOff x="0" y="115920"/>
              <a:chExt cx="9140760" cy="6548400"/>
            </a:xfrm>
          </p:grpSpPr>
          <p:sp>
            <p:nvSpPr>
              <p:cNvPr id="65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0"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1"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2" name="Group 1"/>
          <p:cNvGrpSpPr/>
          <p:nvPr/>
        </p:nvGrpSpPr>
        <p:grpSpPr>
          <a:xfrm>
            <a:off x="0" y="115920"/>
            <a:ext cx="9140760" cy="6548400"/>
            <a:chOff x="0" y="115920"/>
            <a:chExt cx="9140760" cy="6548400"/>
          </a:xfrm>
        </p:grpSpPr>
        <p:grpSp>
          <p:nvGrpSpPr>
            <p:cNvPr id="6573" name="Group 2"/>
            <p:cNvGrpSpPr/>
            <p:nvPr/>
          </p:nvGrpSpPr>
          <p:grpSpPr>
            <a:xfrm>
              <a:off x="0" y="115920"/>
              <a:ext cx="9140760" cy="6548400"/>
              <a:chOff x="0" y="115920"/>
              <a:chExt cx="9140760" cy="6548400"/>
            </a:xfrm>
          </p:grpSpPr>
          <p:sp>
            <p:nvSpPr>
              <p:cNvPr id="657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9" name="Picture 8" descr=""/>
          <p:cNvPicPr/>
          <p:nvPr/>
        </p:nvPicPr>
        <p:blipFill>
          <a:blip r:embed="rId3"/>
          <a:stretch/>
        </p:blipFill>
        <p:spPr>
          <a:xfrm>
            <a:off x="250920" y="333360"/>
            <a:ext cx="1417680" cy="879480"/>
          </a:xfrm>
          <a:prstGeom prst="rect">
            <a:avLst/>
          </a:prstGeom>
          <a:ln w="0">
            <a:noFill/>
          </a:ln>
        </p:spPr>
      </p:pic>
      <p:sp>
        <p:nvSpPr>
          <p:cNvPr id="6580" name="Text Box 9"/>
          <p:cNvSpPr/>
          <p:nvPr/>
        </p:nvSpPr>
        <p:spPr>
          <a:xfrm>
            <a:off x="539640" y="1473120"/>
            <a:ext cx="8209080" cy="3970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Για να επιτευχθεί η ένταξη μέσω της σχολικής κουλτούρας, απαραίτητη είναι η εφαρμογή ορισμένων βασικών αρχών. Σύμφωνα με  ερευνητές (</a:t>
            </a:r>
            <a:r>
              <a:rPr b="0" lang="en-US" sz="2800" spc="-1" strike="noStrike">
                <a:solidFill>
                  <a:srgbClr val="000000"/>
                </a:solidFill>
                <a:latin typeface="Times New Roman"/>
                <a:ea typeface="Times-Italic"/>
              </a:rPr>
              <a:t>Humphrey</a:t>
            </a:r>
            <a:r>
              <a:rPr b="0" lang="el-GR" sz="2800" spc="-1" strike="noStrike">
                <a:solidFill>
                  <a:srgbClr val="000000"/>
                </a:solidFill>
                <a:latin typeface="Times New Roman"/>
                <a:ea typeface="Times-Italic"/>
              </a:rPr>
              <a:t> (2008,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βασική αρχή είναι η παρουσία  εκείνων των προσώπων, που αντιμετωπίζουν τον κίνδυνο του αποκλεισμού από δραστηριότητες των συνομιλήκων τους σε ένα κανονικό μαθησιακό πλαίσιο, αποτρέποντας την απόσυρσή τους στις ειδικές τάξεις ή γενικότερα, τις πρακτικές διαχωρισμού. </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81" name="Group 1"/>
          <p:cNvGrpSpPr/>
          <p:nvPr/>
        </p:nvGrpSpPr>
        <p:grpSpPr>
          <a:xfrm>
            <a:off x="0" y="115920"/>
            <a:ext cx="9140760" cy="6548400"/>
            <a:chOff x="0" y="115920"/>
            <a:chExt cx="9140760" cy="6548400"/>
          </a:xfrm>
        </p:grpSpPr>
        <p:grpSp>
          <p:nvGrpSpPr>
            <p:cNvPr id="6582" name="Group 2"/>
            <p:cNvGrpSpPr/>
            <p:nvPr/>
          </p:nvGrpSpPr>
          <p:grpSpPr>
            <a:xfrm>
              <a:off x="0" y="115920"/>
              <a:ext cx="9140760" cy="6548400"/>
              <a:chOff x="0" y="115920"/>
              <a:chExt cx="9140760" cy="6548400"/>
            </a:xfrm>
          </p:grpSpPr>
          <p:sp>
            <p:nvSpPr>
              <p:cNvPr id="6583"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4"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5"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6"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7"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8" name="Picture 8" descr=""/>
          <p:cNvPicPr/>
          <p:nvPr/>
        </p:nvPicPr>
        <p:blipFill>
          <a:blip r:embed="rId3"/>
          <a:stretch/>
        </p:blipFill>
        <p:spPr>
          <a:xfrm>
            <a:off x="250920" y="333360"/>
            <a:ext cx="1417680" cy="879480"/>
          </a:xfrm>
          <a:prstGeom prst="rect">
            <a:avLst/>
          </a:prstGeom>
          <a:ln w="0">
            <a:noFill/>
          </a:ln>
        </p:spPr>
      </p:pic>
      <p:sp>
        <p:nvSpPr>
          <p:cNvPr id="6589" name="Text Box 9"/>
          <p:cNvSpPr/>
          <p:nvPr/>
        </p:nvSpPr>
        <p:spPr>
          <a:xfrm>
            <a:off x="539640" y="1511280"/>
            <a:ext cx="7920000" cy="26766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Αναγκαία για την ένταξη είναι η αποδοχή, καθώς αναφέρεται στον βαθμό στον οποίο μια κοινότητα ή κοινωνία αναγνωρίζει την διαφορετικότητα και τα δικαιώματα όσων είναι διαφορετικοί λειτουργώντας με τον ίδιο τρόπο σε παρόμοια εκπαιδευτικά και κοινωνικά πλαίσια. </a:t>
            </a:r>
            <a:endParaRPr b="0" lang="en-US" sz="2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90" name="Group 1"/>
          <p:cNvGrpSpPr/>
          <p:nvPr/>
        </p:nvGrpSpPr>
        <p:grpSpPr>
          <a:xfrm>
            <a:off x="0" y="115920"/>
            <a:ext cx="9140760" cy="6548400"/>
            <a:chOff x="0" y="115920"/>
            <a:chExt cx="9140760" cy="6548400"/>
          </a:xfrm>
        </p:grpSpPr>
        <p:grpSp>
          <p:nvGrpSpPr>
            <p:cNvPr id="6591" name="Group 2"/>
            <p:cNvGrpSpPr/>
            <p:nvPr/>
          </p:nvGrpSpPr>
          <p:grpSpPr>
            <a:xfrm>
              <a:off x="0" y="115920"/>
              <a:ext cx="9140760" cy="6548400"/>
              <a:chOff x="0" y="115920"/>
              <a:chExt cx="9140760" cy="6548400"/>
            </a:xfrm>
          </p:grpSpPr>
          <p:sp>
            <p:nvSpPr>
              <p:cNvPr id="6592"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3"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94"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95"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6" name="Rectangle 7"/>
          <p:cNvSpPr/>
          <p:nvPr/>
        </p:nvSpPr>
        <p:spPr>
          <a:xfrm>
            <a:off x="611280" y="1701720"/>
            <a:ext cx="8277120" cy="446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97" name="Picture 8" descr=""/>
          <p:cNvPicPr/>
          <p:nvPr/>
        </p:nvPicPr>
        <p:blipFill>
          <a:blip r:embed="rId3"/>
          <a:stretch/>
        </p:blipFill>
        <p:spPr>
          <a:xfrm>
            <a:off x="250920" y="333360"/>
            <a:ext cx="1417680" cy="879480"/>
          </a:xfrm>
          <a:prstGeom prst="rect">
            <a:avLst/>
          </a:prstGeom>
          <a:ln w="0">
            <a:noFill/>
          </a:ln>
        </p:spPr>
      </p:pic>
      <p:sp>
        <p:nvSpPr>
          <p:cNvPr id="6598" name="Text Box 9"/>
          <p:cNvSpPr/>
          <p:nvPr/>
        </p:nvSpPr>
        <p:spPr>
          <a:xfrm>
            <a:off x="395280" y="2465280"/>
            <a:ext cx="8209080" cy="22464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Βασική επίσης αρχή είναι η δυνατότητα  συμμετοχής που αναφέρεται στην εμπλοκή μαθητών με εντελώς διαφοροποιημένες ανάγκες και ιδιαιτερότητες  στις μαθησιακές δραστηριότητες και στην ποιότητα των  μαθησιακών εμπειριών. </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99" name="Group 1"/>
          <p:cNvGrpSpPr/>
          <p:nvPr/>
        </p:nvGrpSpPr>
        <p:grpSpPr>
          <a:xfrm>
            <a:off x="0" y="115920"/>
            <a:ext cx="9140760" cy="6548400"/>
            <a:chOff x="0" y="115920"/>
            <a:chExt cx="9140760" cy="6548400"/>
          </a:xfrm>
        </p:grpSpPr>
        <p:grpSp>
          <p:nvGrpSpPr>
            <p:cNvPr id="6600" name="Group 2"/>
            <p:cNvGrpSpPr/>
            <p:nvPr/>
          </p:nvGrpSpPr>
          <p:grpSpPr>
            <a:xfrm>
              <a:off x="0" y="115920"/>
              <a:ext cx="9140760" cy="6548400"/>
              <a:chOff x="0" y="115920"/>
              <a:chExt cx="9140760" cy="6548400"/>
            </a:xfrm>
          </p:grpSpPr>
          <p:sp>
            <p:nvSpPr>
              <p:cNvPr id="6601"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2"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03"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04"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5" name="Rectangle 7"/>
          <p:cNvSpPr/>
          <p:nvPr/>
        </p:nvSpPr>
        <p:spPr>
          <a:xfrm>
            <a:off x="611280" y="1628640"/>
            <a:ext cx="8277120" cy="446436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06" name="Picture 8" descr=""/>
          <p:cNvPicPr/>
          <p:nvPr/>
        </p:nvPicPr>
        <p:blipFill>
          <a:blip r:embed="rId3"/>
          <a:stretch/>
        </p:blipFill>
        <p:spPr>
          <a:xfrm>
            <a:off x="250920" y="333360"/>
            <a:ext cx="1417680" cy="879480"/>
          </a:xfrm>
          <a:prstGeom prst="rect">
            <a:avLst/>
          </a:prstGeom>
          <a:ln w="0">
            <a:noFill/>
          </a:ln>
        </p:spPr>
      </p:pic>
      <p:sp>
        <p:nvSpPr>
          <p:cNvPr id="6607" name="Text Box 9"/>
          <p:cNvSpPr/>
          <p:nvPr/>
        </p:nvSpPr>
        <p:spPr>
          <a:xfrm>
            <a:off x="395280" y="2033640"/>
            <a:ext cx="8209080" cy="3110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Σημασία έχει και η ποιότητα καθώς σχετίζεται με την επίτευξη υψηλότερου επιπέδου ακαδημαϊκής προόδου των ατόμων με διαφοροποιημένες ανάγκες, ενώ συνδυάζεται με τη βελτίωση των κοινωνικών και συναισθηματικών τους αλλελεπιδράσεων στα πλαίσια της συμπεριληπτικής εκπαίδευσης και της ένταξης (Haihambo &amp; Louis, 2014). </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08" name="Group 1"/>
          <p:cNvGrpSpPr/>
          <p:nvPr/>
        </p:nvGrpSpPr>
        <p:grpSpPr>
          <a:xfrm>
            <a:off x="0" y="115920"/>
            <a:ext cx="9140760" cy="6548400"/>
            <a:chOff x="0" y="115920"/>
            <a:chExt cx="9140760" cy="6548400"/>
          </a:xfrm>
        </p:grpSpPr>
        <p:grpSp>
          <p:nvGrpSpPr>
            <p:cNvPr id="6609" name="Group 2"/>
            <p:cNvGrpSpPr/>
            <p:nvPr/>
          </p:nvGrpSpPr>
          <p:grpSpPr>
            <a:xfrm>
              <a:off x="0" y="115920"/>
              <a:ext cx="9140760" cy="6548400"/>
              <a:chOff x="0" y="115920"/>
              <a:chExt cx="9140760" cy="6548400"/>
            </a:xfrm>
          </p:grpSpPr>
          <p:sp>
            <p:nvSpPr>
              <p:cNvPr id="6610"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1"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12"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13"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14"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15" name="Picture 8" descr=""/>
          <p:cNvPicPr/>
          <p:nvPr/>
        </p:nvPicPr>
        <p:blipFill>
          <a:blip r:embed="rId3"/>
          <a:stretch/>
        </p:blipFill>
        <p:spPr>
          <a:xfrm>
            <a:off x="250920" y="333360"/>
            <a:ext cx="1417680" cy="879480"/>
          </a:xfrm>
          <a:prstGeom prst="rect">
            <a:avLst/>
          </a:prstGeom>
          <a:ln w="0">
            <a:noFill/>
          </a:ln>
        </p:spPr>
      </p:pic>
      <p:sp>
        <p:nvSpPr>
          <p:cNvPr id="6616" name="Text Box 9"/>
          <p:cNvSpPr/>
          <p:nvPr/>
        </p:nvSpPr>
        <p:spPr>
          <a:xfrm>
            <a:off x="971640" y="1603440"/>
            <a:ext cx="7488000" cy="3970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Η σχολική μονάδα όπως υποστηρίζει ο </a:t>
            </a:r>
            <a:r>
              <a:rPr b="0" lang="en-US" sz="2800" spc="-1" strike="noStrike">
                <a:solidFill>
                  <a:srgbClr val="000000"/>
                </a:solidFill>
                <a:latin typeface="Times New Roman"/>
                <a:ea typeface="Times-Italic"/>
              </a:rPr>
              <a:t>Weick</a:t>
            </a:r>
            <a:r>
              <a:rPr b="0" lang="el-GR" sz="2800" spc="-1" strike="noStrike">
                <a:solidFill>
                  <a:srgbClr val="000000"/>
                </a:solidFill>
                <a:latin typeface="Times New Roman"/>
                <a:ea typeface="Times-Italic"/>
              </a:rPr>
              <a:t> (1985,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μπορεί να αλλάξει όταν οι ασάφειες στην εκπαιδευτική πολιτική και τις πρακτικές αντιμετωπίζονται από ισχυρούς και επίμονους ανθρώπους με αυτοπεποίθηση, οι οποίοι επιτυγχάνουν να πείσουν τους εαυτούς τους και τους άλλους να υιοθετήσουν νέες πρακτικές που μπορούν να οδηγήσουν  σε νέες συμπεριφορές  και να επηρεάσουν την στην αλλαγή. </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17" name="Group 1"/>
          <p:cNvGrpSpPr/>
          <p:nvPr/>
        </p:nvGrpSpPr>
        <p:grpSpPr>
          <a:xfrm>
            <a:off x="0" y="115920"/>
            <a:ext cx="9140760" cy="6548400"/>
            <a:chOff x="0" y="115920"/>
            <a:chExt cx="9140760" cy="6548400"/>
          </a:xfrm>
        </p:grpSpPr>
        <p:grpSp>
          <p:nvGrpSpPr>
            <p:cNvPr id="6618" name="Group 2"/>
            <p:cNvGrpSpPr/>
            <p:nvPr/>
          </p:nvGrpSpPr>
          <p:grpSpPr>
            <a:xfrm>
              <a:off x="0" y="115920"/>
              <a:ext cx="9140760" cy="6548400"/>
              <a:chOff x="0" y="115920"/>
              <a:chExt cx="9140760" cy="6548400"/>
            </a:xfrm>
          </p:grpSpPr>
          <p:sp>
            <p:nvSpPr>
              <p:cNvPr id="6619"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0"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1"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22"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23"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24" name="Picture 8" descr=""/>
          <p:cNvPicPr/>
          <p:nvPr/>
        </p:nvPicPr>
        <p:blipFill>
          <a:blip r:embed="rId3"/>
          <a:stretch/>
        </p:blipFill>
        <p:spPr>
          <a:xfrm>
            <a:off x="250920" y="333360"/>
            <a:ext cx="1417680" cy="879480"/>
          </a:xfrm>
          <a:prstGeom prst="rect">
            <a:avLst/>
          </a:prstGeom>
          <a:ln w="0">
            <a:noFill/>
          </a:ln>
        </p:spPr>
      </p:pic>
      <p:sp>
        <p:nvSpPr>
          <p:cNvPr id="6625" name="Text Box 9"/>
          <p:cNvSpPr/>
          <p:nvPr/>
        </p:nvSpPr>
        <p:spPr>
          <a:xfrm>
            <a:off x="395280" y="2249640"/>
            <a:ext cx="8064360" cy="2678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Εάν λοιπόν κατά τον </a:t>
            </a:r>
            <a:r>
              <a:rPr b="0" lang="en-US" sz="2800" spc="-1" strike="noStrike">
                <a:solidFill>
                  <a:srgbClr val="000000"/>
                </a:solidFill>
                <a:latin typeface="Times New Roman"/>
                <a:ea typeface="Times-Italic"/>
              </a:rPr>
              <a:t>Scrtic</a:t>
            </a:r>
            <a:r>
              <a:rPr b="0" lang="el-GR" sz="2800" spc="-1" strike="noStrike">
                <a:solidFill>
                  <a:srgbClr val="000000"/>
                </a:solidFill>
                <a:latin typeface="Times New Roman"/>
                <a:ea typeface="Times-Italic"/>
              </a:rPr>
              <a:t> (1991,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παρουσιασθούν  αστοχίες και δυσαρμονίες, οι οποίες έρχονται σε σύγκρουση με το κυρίαρχο εκπαιδευτικό παράδειγμα, μπορεί να εμφανισθεί ένα καινούργιο παράδειγμα, εφ' όσον ταυτόχρονα έχουν αλλάξει οι προτιμήσεις και οι αξίες μιας κοινωνίας. </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χολικές μονάδες που υιοθετούν  μια εξελισσόμενη πορεία είναι δυναμικές γιατί  αναλαμβάνουν την ευθύνη της αλλαγής (</a:t>
            </a:r>
            <a:r>
              <a:rPr b="0" lang="en-US" sz="2800" spc="-1" strike="noStrike">
                <a:solidFill>
                  <a:srgbClr val="000000"/>
                </a:solidFill>
                <a:latin typeface="Times New Roman"/>
              </a:rPr>
              <a:t>Smit</a:t>
            </a:r>
            <a:r>
              <a:rPr b="0" lang="el-GR" sz="2800" spc="-1" strike="noStrike">
                <a:solidFill>
                  <a:srgbClr val="000000"/>
                </a:solidFill>
                <a:latin typeface="Times New Roman"/>
              </a:rPr>
              <a:t>, </a:t>
            </a:r>
            <a:r>
              <a:rPr b="0" lang="en-US" sz="2800" spc="-1" strike="noStrike">
                <a:solidFill>
                  <a:srgbClr val="000000"/>
                </a:solidFill>
                <a:latin typeface="Times New Roman"/>
              </a:rPr>
              <a:t>Moerel</a:t>
            </a:r>
            <a:r>
              <a:rPr b="0" lang="el-GR" sz="2800" spc="-1" strike="noStrike">
                <a:solidFill>
                  <a:srgbClr val="000000"/>
                </a:solidFill>
                <a:latin typeface="Times New Roman"/>
              </a:rPr>
              <a:t>, &amp; </a:t>
            </a:r>
            <a:r>
              <a:rPr b="0" lang="en-US" sz="2800" spc="-1" strike="noStrike">
                <a:solidFill>
                  <a:srgbClr val="000000"/>
                </a:solidFill>
                <a:latin typeface="Times New Roman"/>
              </a:rPr>
              <a:t>Sleegers</a:t>
            </a:r>
            <a:r>
              <a:rPr b="0" lang="el-GR" sz="2800" spc="-1" strike="noStrike">
                <a:solidFill>
                  <a:srgbClr val="000000"/>
                </a:solidFill>
                <a:latin typeface="Times New Roman"/>
              </a:rPr>
              <a:t>, 1999). </a:t>
            </a:r>
            <a:br>
              <a:rPr sz="2800"/>
            </a:br>
            <a:r>
              <a:rPr b="0" lang="el-GR" sz="2800" spc="-1" strike="noStrike">
                <a:solidFill>
                  <a:srgbClr val="000000"/>
                </a:solidFill>
                <a:latin typeface="Times New Roman"/>
              </a:rPr>
              <a:t>Ένα παράδειγμα των αλλαγών που χρειάζονται τα σχολεία αφορά τον τρόπο που οι εκπαιδευτικοί και οι υπόλοιποι εμπλεκόμενοι εκπαιδευτικοί φορείς αντιλαμβάνονται την διαφορετικότητα και ειδικότερα τη σχολική αποτυχία. </a:t>
            </a:r>
            <a:endParaRPr b="0" lang="en-US" sz="2800" spc="-1" strike="noStrike">
              <a:solidFill>
                <a:srgbClr val="ffffff"/>
              </a:solidFill>
              <a:latin typeface="Times New Roman"/>
            </a:endParaRPr>
          </a:p>
        </p:txBody>
      </p:sp>
      <p:grpSp>
        <p:nvGrpSpPr>
          <p:cNvPr id="6627" name="Group 2"/>
          <p:cNvGrpSpPr/>
          <p:nvPr/>
        </p:nvGrpSpPr>
        <p:grpSpPr>
          <a:xfrm>
            <a:off x="0" y="115920"/>
            <a:ext cx="9140760" cy="6548400"/>
            <a:chOff x="0" y="115920"/>
            <a:chExt cx="9140760" cy="6548400"/>
          </a:xfrm>
        </p:grpSpPr>
        <p:grpSp>
          <p:nvGrpSpPr>
            <p:cNvPr id="6628" name="Group 3"/>
            <p:cNvGrpSpPr/>
            <p:nvPr/>
          </p:nvGrpSpPr>
          <p:grpSpPr>
            <a:xfrm>
              <a:off x="0" y="115920"/>
              <a:ext cx="9140760" cy="6548400"/>
              <a:chOff x="0" y="115920"/>
              <a:chExt cx="9140760" cy="6548400"/>
            </a:xfrm>
          </p:grpSpPr>
          <p:sp>
            <p:nvSpPr>
              <p:cNvPr id="66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34"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ξίες και οι πεποιθήσεις των εκπαιδευτικών είναι πιθανό να ασκούν επίδραση στην καινούργια φιλοσοφία του  σχολικού οργανισμού, που υιοθετεί νέες πρακτικές για την «ένταξη» ή τη «συμπεριληπτική εκπαίδευση». </a:t>
            </a:r>
            <a:br>
              <a:rPr sz="2800"/>
            </a:br>
            <a:endParaRPr b="0" lang="en-US" sz="2800" spc="-1" strike="noStrike">
              <a:solidFill>
                <a:srgbClr val="ffffff"/>
              </a:solidFill>
              <a:latin typeface="Times New Roman"/>
            </a:endParaRPr>
          </a:p>
        </p:txBody>
      </p:sp>
      <p:grpSp>
        <p:nvGrpSpPr>
          <p:cNvPr id="6636" name="Group 2"/>
          <p:cNvGrpSpPr/>
          <p:nvPr/>
        </p:nvGrpSpPr>
        <p:grpSpPr>
          <a:xfrm>
            <a:off x="0" y="115920"/>
            <a:ext cx="9140760" cy="6548400"/>
            <a:chOff x="0" y="115920"/>
            <a:chExt cx="9140760" cy="6548400"/>
          </a:xfrm>
        </p:grpSpPr>
        <p:grpSp>
          <p:nvGrpSpPr>
            <p:cNvPr id="6637" name="Group 3"/>
            <p:cNvGrpSpPr/>
            <p:nvPr/>
          </p:nvGrpSpPr>
          <p:grpSpPr>
            <a:xfrm>
              <a:off x="0" y="115920"/>
              <a:ext cx="9140760" cy="6548400"/>
              <a:chOff x="0" y="115920"/>
              <a:chExt cx="9140760" cy="6548400"/>
            </a:xfrm>
          </p:grpSpPr>
          <p:sp>
            <p:nvSpPr>
              <p:cNvPr id="66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43"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44" name="Group 1"/>
          <p:cNvGrpSpPr/>
          <p:nvPr/>
        </p:nvGrpSpPr>
        <p:grpSpPr>
          <a:xfrm>
            <a:off x="0" y="115920"/>
            <a:ext cx="9140760" cy="6548400"/>
            <a:chOff x="0" y="115920"/>
            <a:chExt cx="9140760" cy="6548400"/>
          </a:xfrm>
        </p:grpSpPr>
        <p:grpSp>
          <p:nvGrpSpPr>
            <p:cNvPr id="6645" name="Group 2"/>
            <p:cNvGrpSpPr/>
            <p:nvPr/>
          </p:nvGrpSpPr>
          <p:grpSpPr>
            <a:xfrm>
              <a:off x="0" y="115920"/>
              <a:ext cx="9140760" cy="6548400"/>
              <a:chOff x="0" y="115920"/>
              <a:chExt cx="9140760" cy="6548400"/>
            </a:xfrm>
          </p:grpSpPr>
          <p:sp>
            <p:nvSpPr>
              <p:cNvPr id="6646"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7"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8"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9"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0"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1" name="Picture 8" descr=""/>
          <p:cNvPicPr/>
          <p:nvPr/>
        </p:nvPicPr>
        <p:blipFill>
          <a:blip r:embed="rId3"/>
          <a:stretch/>
        </p:blipFill>
        <p:spPr>
          <a:xfrm>
            <a:off x="250920" y="333360"/>
            <a:ext cx="1417680" cy="879480"/>
          </a:xfrm>
          <a:prstGeom prst="rect">
            <a:avLst/>
          </a:prstGeom>
          <a:ln w="0">
            <a:noFill/>
          </a:ln>
        </p:spPr>
      </p:pic>
      <p:sp>
        <p:nvSpPr>
          <p:cNvPr id="6652" name="Text Box 9"/>
          <p:cNvSpPr/>
          <p:nvPr/>
        </p:nvSpPr>
        <p:spPr>
          <a:xfrm>
            <a:off x="539640" y="1819440"/>
            <a:ext cx="8209080" cy="3538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σχολική κουλτούρα φαίνεται να αποτελεί τον καθοριστικότερο παράγοντα για την προώθηση της κοινωνικής ένταξης των αμεα στο γενικό σχολείο. </a:t>
            </a:r>
            <a:br>
              <a:rPr sz="2800"/>
            </a:br>
            <a:r>
              <a:rPr b="0" lang="el-GR" sz="2800" spc="-1" strike="noStrike">
                <a:solidFill>
                  <a:srgbClr val="000000"/>
                </a:solidFill>
                <a:latin typeface="Times New Roman"/>
                <a:ea typeface="Calibri"/>
              </a:rPr>
              <a:t>Η κουλτούρα της σχολικής μονάδας αποτελεί μια ουσιώδη παράμετρο για την ανάπτυξη και την ποιοτική αναβάθμιση  της σχολικής μονάδας και έχει άμεση σχέση με την καθοδήγηση του εκπαιδευτικού προσωπικού από το διευθυντή της μονάδας.</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Σχολική Κουλτούρα</a:t>
            </a:r>
            <a:br>
              <a:rPr sz="2000"/>
            </a:br>
            <a:br>
              <a:rPr sz="2000"/>
            </a:br>
            <a:r>
              <a:rPr b="0" lang="el-GR" sz="2800" spc="-1" strike="noStrike">
                <a:solidFill>
                  <a:srgbClr val="000000"/>
                </a:solidFill>
                <a:latin typeface="Times New Roman"/>
              </a:rPr>
              <a:t>Η Σχολική Κουλτούρα φαίνεται </a:t>
            </a:r>
            <a:br>
              <a:rPr sz="2800"/>
            </a:br>
            <a:r>
              <a:rPr b="0" lang="el-GR" sz="2800" spc="-1" strike="noStrike">
                <a:solidFill>
                  <a:srgbClr val="000000"/>
                </a:solidFill>
                <a:latin typeface="Times New Roman"/>
              </a:rPr>
              <a:t>να αποτελεί τον καθοριστικότερο παράγοντα </a:t>
            </a:r>
            <a:br>
              <a:rPr sz="2800"/>
            </a:br>
            <a:r>
              <a:rPr b="0" lang="el-GR" sz="2800" spc="-1" strike="noStrike">
                <a:solidFill>
                  <a:srgbClr val="000000"/>
                </a:solidFill>
                <a:latin typeface="Times New Roman"/>
              </a:rPr>
              <a:t>για την προώθηση  της κοινωνικής ένταξης </a:t>
            </a:r>
            <a:br>
              <a:rPr sz="2800"/>
            </a:br>
            <a:r>
              <a:rPr b="0" lang="el-GR" sz="2800" spc="-1" strike="noStrike">
                <a:solidFill>
                  <a:srgbClr val="000000"/>
                </a:solidFill>
                <a:latin typeface="Times New Roman"/>
              </a:rPr>
              <a:t>των αμεα στο γενικό σχολείο. </a:t>
            </a:r>
            <a:br>
              <a:rPr sz="2800"/>
            </a:br>
            <a:br>
              <a:rPr sz="2800"/>
            </a:br>
            <a:endParaRPr b="0" lang="en-US" sz="2800" spc="-1" strike="noStrike">
              <a:solidFill>
                <a:srgbClr val="ffffff"/>
              </a:solidFill>
              <a:latin typeface="Times New Roman"/>
            </a:endParaRPr>
          </a:p>
        </p:txBody>
      </p:sp>
      <p:grpSp>
        <p:nvGrpSpPr>
          <p:cNvPr id="6411" name="Group 2"/>
          <p:cNvGrpSpPr/>
          <p:nvPr/>
        </p:nvGrpSpPr>
        <p:grpSpPr>
          <a:xfrm>
            <a:off x="0" y="115920"/>
            <a:ext cx="9140760" cy="6548400"/>
            <a:chOff x="0" y="115920"/>
            <a:chExt cx="9140760" cy="6548400"/>
          </a:xfrm>
        </p:grpSpPr>
        <p:grpSp>
          <p:nvGrpSpPr>
            <p:cNvPr id="6412" name="Group 3"/>
            <p:cNvGrpSpPr/>
            <p:nvPr/>
          </p:nvGrpSpPr>
          <p:grpSpPr>
            <a:xfrm>
              <a:off x="0" y="115920"/>
              <a:ext cx="9140760" cy="6548400"/>
              <a:chOff x="0" y="115920"/>
              <a:chExt cx="9140760" cy="6548400"/>
            </a:xfrm>
          </p:grpSpPr>
          <p:sp>
            <p:nvSpPr>
              <p:cNvPr id="64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3"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επισημαίνουν οι Κιούση και Κοντάκος (2006) «η έρευνα για τη Σχολική Βελτίωση υποστηρίζει ότι η κουλτούρα ενός εκπαιδευτικού οργανισμού δεν είναι απλά μία συλλογή επιφανειακών ιδιοτήτων αλλά η αντανάκλαση βαθύτερων και βασικότερων υποθέσεων και πεποιθήσεων […] </a:t>
            </a:r>
            <a:endParaRPr b="0" lang="en-US" sz="2800" spc="-1" strike="noStrike">
              <a:solidFill>
                <a:srgbClr val="ffffff"/>
              </a:solidFill>
              <a:latin typeface="Times New Roman"/>
            </a:endParaRPr>
          </a:p>
        </p:txBody>
      </p:sp>
      <p:grpSp>
        <p:nvGrpSpPr>
          <p:cNvPr id="6654" name="Group 2"/>
          <p:cNvGrpSpPr/>
          <p:nvPr/>
        </p:nvGrpSpPr>
        <p:grpSpPr>
          <a:xfrm>
            <a:off x="0" y="115920"/>
            <a:ext cx="9140760" cy="6548400"/>
            <a:chOff x="0" y="115920"/>
            <a:chExt cx="9140760" cy="6548400"/>
          </a:xfrm>
        </p:grpSpPr>
        <p:grpSp>
          <p:nvGrpSpPr>
            <p:cNvPr id="6655" name="Group 3"/>
            <p:cNvGrpSpPr/>
            <p:nvPr/>
          </p:nvGrpSpPr>
          <p:grpSpPr>
            <a:xfrm>
              <a:off x="0" y="115920"/>
              <a:ext cx="9140760" cy="6548400"/>
              <a:chOff x="0" y="115920"/>
              <a:chExt cx="9140760" cy="6548400"/>
            </a:xfrm>
          </p:grpSpPr>
          <p:sp>
            <p:nvSpPr>
              <p:cNvPr id="665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5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1"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2" name="Text Box 1"/>
          <p:cNvSpPr/>
          <p:nvPr/>
        </p:nvSpPr>
        <p:spPr>
          <a:xfrm>
            <a:off x="863640" y="1392120"/>
            <a:ext cx="7956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εποιθήσεις και οι αξίες οι οποίες ενεργοποιούνται, διαμορφώνουν την κουλτούρα του σχολείου και αποτελούν θεμέλιο για την διαδικασία βελτίωσης του εκπαιδευτικού οργανισμού». </a:t>
            </a:r>
            <a:endParaRPr b="0" lang="en-US" sz="2800" spc="-1" strike="noStrike">
              <a:solidFill>
                <a:srgbClr val="ffffff"/>
              </a:solidFill>
              <a:latin typeface="Times New Roman"/>
            </a:endParaRPr>
          </a:p>
        </p:txBody>
      </p:sp>
      <p:grpSp>
        <p:nvGrpSpPr>
          <p:cNvPr id="6663" name="Group 2"/>
          <p:cNvGrpSpPr/>
          <p:nvPr/>
        </p:nvGrpSpPr>
        <p:grpSpPr>
          <a:xfrm>
            <a:off x="0" y="115920"/>
            <a:ext cx="9140760" cy="6548400"/>
            <a:chOff x="0" y="115920"/>
            <a:chExt cx="9140760" cy="6548400"/>
          </a:xfrm>
        </p:grpSpPr>
        <p:grpSp>
          <p:nvGrpSpPr>
            <p:cNvPr id="6664" name="Group 3"/>
            <p:cNvGrpSpPr/>
            <p:nvPr/>
          </p:nvGrpSpPr>
          <p:grpSpPr>
            <a:xfrm>
              <a:off x="0" y="115920"/>
              <a:ext cx="9140760" cy="6548400"/>
              <a:chOff x="0" y="115920"/>
              <a:chExt cx="9140760" cy="6548400"/>
            </a:xfrm>
          </p:grpSpPr>
          <p:sp>
            <p:nvSpPr>
              <p:cNvPr id="66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0"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1" name="Group 1"/>
          <p:cNvGrpSpPr/>
          <p:nvPr/>
        </p:nvGrpSpPr>
        <p:grpSpPr>
          <a:xfrm>
            <a:off x="0" y="115920"/>
            <a:ext cx="9140760" cy="6548400"/>
            <a:chOff x="0" y="115920"/>
            <a:chExt cx="9140760" cy="6548400"/>
          </a:xfrm>
        </p:grpSpPr>
        <p:grpSp>
          <p:nvGrpSpPr>
            <p:cNvPr id="6672" name="Group 2"/>
            <p:cNvGrpSpPr/>
            <p:nvPr/>
          </p:nvGrpSpPr>
          <p:grpSpPr>
            <a:xfrm>
              <a:off x="0" y="115920"/>
              <a:ext cx="9140760" cy="6548400"/>
              <a:chOff x="0" y="115920"/>
              <a:chExt cx="9140760" cy="6548400"/>
            </a:xfrm>
          </p:grpSpPr>
          <p:sp>
            <p:nvSpPr>
              <p:cNvPr id="6673"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4"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75"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76"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77" name="Rectangle 7"/>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8" name="Picture 8" descr=""/>
          <p:cNvPicPr/>
          <p:nvPr/>
        </p:nvPicPr>
        <p:blipFill>
          <a:blip r:embed="rId3"/>
          <a:stretch/>
        </p:blipFill>
        <p:spPr>
          <a:xfrm>
            <a:off x="250920" y="333360"/>
            <a:ext cx="1417680" cy="879480"/>
          </a:xfrm>
          <a:prstGeom prst="rect">
            <a:avLst/>
          </a:prstGeom>
          <a:ln w="0">
            <a:noFill/>
          </a:ln>
        </p:spPr>
      </p:pic>
      <p:sp>
        <p:nvSpPr>
          <p:cNvPr id="6679" name="Text Box 9"/>
          <p:cNvSpPr/>
          <p:nvPr/>
        </p:nvSpPr>
        <p:spPr>
          <a:xfrm>
            <a:off x="1042920" y="1819440"/>
            <a:ext cx="7416720" cy="3538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άλλους ερευνητές όπως αναφέρει η Πασιαρδή (2008), η κουλτούρα ορίζεται ως «</a:t>
            </a:r>
            <a:r>
              <a:rPr b="0" i="1" lang="el-GR" sz="2800" spc="-1" strike="noStrike">
                <a:solidFill>
                  <a:srgbClr val="000000"/>
                </a:solidFill>
                <a:latin typeface="Times New Roman"/>
              </a:rPr>
              <a:t>ένα σύστημα κοινών αντιλήψεων που ξεχωρίζει τον ένα οργανισμό από τον άλλο»</a:t>
            </a:r>
            <a:r>
              <a:rPr b="0" lang="el-GR" sz="2800" spc="-1" strike="noStrike">
                <a:solidFill>
                  <a:srgbClr val="000000"/>
                </a:solidFill>
                <a:latin typeface="Times New Roman"/>
              </a:rPr>
              <a:t>,</a:t>
            </a:r>
            <a:br>
              <a:rPr sz="2800"/>
            </a:br>
            <a:r>
              <a:rPr b="0" lang="el-GR" sz="2800" spc="-1" strike="noStrike">
                <a:solidFill>
                  <a:srgbClr val="000000"/>
                </a:solidFill>
                <a:latin typeface="Times New Roman"/>
              </a:rPr>
              <a:t> ή ακόμα και ως </a:t>
            </a:r>
            <a:br>
              <a:rPr sz="2800"/>
            </a:br>
            <a:r>
              <a:rPr b="0" lang="el-GR" sz="2800" spc="-1" strike="noStrike">
                <a:solidFill>
                  <a:srgbClr val="000000"/>
                </a:solidFill>
                <a:latin typeface="Times New Roman"/>
              </a:rPr>
              <a:t>η «</a:t>
            </a:r>
            <a:r>
              <a:rPr b="0" i="1" lang="el-GR" sz="2800" spc="-1" strike="noStrike">
                <a:solidFill>
                  <a:srgbClr val="000000"/>
                </a:solidFill>
                <a:latin typeface="Times New Roman"/>
              </a:rPr>
              <a:t>ιδεολογία του οργανισμού και η οποία περιλαμβάνει τις αντιλήψεις και τις </a:t>
            </a:r>
            <a:r>
              <a:rPr b="0" i="1" lang="el-GR" sz="2800" spc="-1" strike="noStrike">
                <a:solidFill>
                  <a:srgbClr val="000000"/>
                </a:solidFill>
                <a:latin typeface="Times New Roman"/>
                <a:ea typeface="Calibri"/>
              </a:rPr>
              <a:t>συνήθειές του που τον διαφοροποιούν από άλλους οργανισμούς</a:t>
            </a:r>
            <a:r>
              <a:rPr b="0" lang="el-GR" sz="2800" spc="-1" strike="noStrike">
                <a:solidFill>
                  <a:srgbClr val="000000"/>
                </a:solidFill>
                <a:latin typeface="Times New Roman"/>
                <a:ea typeface="Calibri"/>
              </a:rPr>
              <a:t>». </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80" name="Group 1"/>
          <p:cNvGrpSpPr/>
          <p:nvPr/>
        </p:nvGrpSpPr>
        <p:grpSpPr>
          <a:xfrm>
            <a:off x="0" y="115920"/>
            <a:ext cx="9140760" cy="6548400"/>
            <a:chOff x="0" y="115920"/>
            <a:chExt cx="9140760" cy="6548400"/>
          </a:xfrm>
        </p:grpSpPr>
        <p:grpSp>
          <p:nvGrpSpPr>
            <p:cNvPr id="6681" name="Group 2"/>
            <p:cNvGrpSpPr/>
            <p:nvPr/>
          </p:nvGrpSpPr>
          <p:grpSpPr>
            <a:xfrm>
              <a:off x="0" y="115920"/>
              <a:ext cx="9140760" cy="6548400"/>
              <a:chOff x="0" y="115920"/>
              <a:chExt cx="9140760" cy="6548400"/>
            </a:xfrm>
          </p:grpSpPr>
          <p:sp>
            <p:nvSpPr>
              <p:cNvPr id="6682"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3"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84"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85"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86" name="Rectangle 7"/>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87" name="Picture 8" descr=""/>
          <p:cNvPicPr/>
          <p:nvPr/>
        </p:nvPicPr>
        <p:blipFill>
          <a:blip r:embed="rId3"/>
          <a:stretch/>
        </p:blipFill>
        <p:spPr>
          <a:xfrm>
            <a:off x="250920" y="333360"/>
            <a:ext cx="1417680" cy="879480"/>
          </a:xfrm>
          <a:prstGeom prst="rect">
            <a:avLst/>
          </a:prstGeom>
          <a:ln w="0">
            <a:noFill/>
          </a:ln>
        </p:spPr>
      </p:pic>
      <p:sp>
        <p:nvSpPr>
          <p:cNvPr id="6688" name="Text Box 9"/>
          <p:cNvSpPr/>
          <p:nvPr/>
        </p:nvSpPr>
        <p:spPr>
          <a:xfrm>
            <a:off x="1042920" y="2033640"/>
            <a:ext cx="7416720" cy="3110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Κυθραιώτη και συν. (2010) καθορίζουν την κουλτούρα ως την ταυτότητα του σχολικού οργανισμού, καθώς και τους κοινούς προσανατολισμούς του σχολείου που συμβάλλουν στην ενότητά του, όπως είναι οι παραδόσεις, οι κανόνες συμπεριφοράς, οι αξίες και κυρίως το όραμα της σχολικής μονάδας.</a:t>
            </a:r>
            <a:endParaRPr b="0" lang="en-US" sz="2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89" name="Group 1"/>
          <p:cNvGrpSpPr/>
          <p:nvPr/>
        </p:nvGrpSpPr>
        <p:grpSpPr>
          <a:xfrm>
            <a:off x="0" y="115920"/>
            <a:ext cx="9140760" cy="6548400"/>
            <a:chOff x="0" y="115920"/>
            <a:chExt cx="9140760" cy="6548400"/>
          </a:xfrm>
        </p:grpSpPr>
        <p:grpSp>
          <p:nvGrpSpPr>
            <p:cNvPr id="6690" name="Group 2"/>
            <p:cNvGrpSpPr/>
            <p:nvPr/>
          </p:nvGrpSpPr>
          <p:grpSpPr>
            <a:xfrm>
              <a:off x="0" y="115920"/>
              <a:ext cx="9140760" cy="6548400"/>
              <a:chOff x="0" y="115920"/>
              <a:chExt cx="9140760" cy="6548400"/>
            </a:xfrm>
          </p:grpSpPr>
          <p:sp>
            <p:nvSpPr>
              <p:cNvPr id="6691"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2"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93"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94"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95"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96" name="Picture 8" descr=""/>
          <p:cNvPicPr/>
          <p:nvPr/>
        </p:nvPicPr>
        <p:blipFill>
          <a:blip r:embed="rId3"/>
          <a:stretch/>
        </p:blipFill>
        <p:spPr>
          <a:xfrm>
            <a:off x="250920" y="333360"/>
            <a:ext cx="1417680" cy="879480"/>
          </a:xfrm>
          <a:prstGeom prst="rect">
            <a:avLst/>
          </a:prstGeom>
          <a:ln w="0">
            <a:noFill/>
          </a:ln>
        </p:spPr>
      </p:pic>
      <p:sp>
        <p:nvSpPr>
          <p:cNvPr id="6697" name="Text Box 9"/>
          <p:cNvSpPr/>
          <p:nvPr/>
        </p:nvSpPr>
        <p:spPr>
          <a:xfrm>
            <a:off x="971640" y="2465280"/>
            <a:ext cx="7488000" cy="22464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σχολική κουλτούρα δεν είναι  μια στατική αλλά μια δυναμική  διαδικασία λόγω της φύσεώς της και αντανακλά τις πεποιθήσεις, τις αξίες και τα πιστεύω των ατόμων που εργάζονται στο πλαίσιο του σχολείου. </a:t>
            </a:r>
            <a:endParaRPr b="0" lang="en-US" sz="28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98" name="Group 1"/>
          <p:cNvGrpSpPr/>
          <p:nvPr/>
        </p:nvGrpSpPr>
        <p:grpSpPr>
          <a:xfrm>
            <a:off x="0" y="115920"/>
            <a:ext cx="9140760" cy="6548400"/>
            <a:chOff x="0" y="115920"/>
            <a:chExt cx="9140760" cy="6548400"/>
          </a:xfrm>
        </p:grpSpPr>
        <p:grpSp>
          <p:nvGrpSpPr>
            <p:cNvPr id="6699" name="Group 2"/>
            <p:cNvGrpSpPr/>
            <p:nvPr/>
          </p:nvGrpSpPr>
          <p:grpSpPr>
            <a:xfrm>
              <a:off x="0" y="115920"/>
              <a:ext cx="9140760" cy="6548400"/>
              <a:chOff x="0" y="115920"/>
              <a:chExt cx="9140760" cy="6548400"/>
            </a:xfrm>
          </p:grpSpPr>
          <p:sp>
            <p:nvSpPr>
              <p:cNvPr id="6700"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1"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02"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03"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04"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05" name="Picture 8" descr=""/>
          <p:cNvPicPr/>
          <p:nvPr/>
        </p:nvPicPr>
        <p:blipFill>
          <a:blip r:embed="rId3"/>
          <a:stretch/>
        </p:blipFill>
        <p:spPr>
          <a:xfrm>
            <a:off x="250920" y="333360"/>
            <a:ext cx="1417680" cy="879480"/>
          </a:xfrm>
          <a:prstGeom prst="rect">
            <a:avLst/>
          </a:prstGeom>
          <a:ln w="0">
            <a:noFill/>
          </a:ln>
        </p:spPr>
      </p:pic>
      <p:sp>
        <p:nvSpPr>
          <p:cNvPr id="6706" name="Text Box 9"/>
          <p:cNvSpPr/>
          <p:nvPr/>
        </p:nvSpPr>
        <p:spPr>
          <a:xfrm>
            <a:off x="971640" y="2465280"/>
            <a:ext cx="7632720" cy="22464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πεποιθήσεις, οι αξίες και τα πιστεύω είναι που ουσιαστικά κρατούν ενωμένο τον σχολικό οργανισμό, δίνοντάς του μία κοινή ταυτότητα και συμβάλλοντας στη διαμόρφωση του χαρακτήρα του (Πασιαρδή, 2008).</a:t>
            </a:r>
            <a:endParaRPr b="0" lang="en-US" sz="2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ερευνητές, ( </a:t>
            </a:r>
            <a:r>
              <a:rPr b="0" lang="en-US" sz="2800" spc="-1" strike="noStrike">
                <a:solidFill>
                  <a:srgbClr val="000000"/>
                </a:solidFill>
                <a:latin typeface="Times New Roman"/>
              </a:rPr>
              <a:t>Zollers</a:t>
            </a:r>
            <a:r>
              <a:rPr b="0" lang="el-GR" sz="2800" spc="-1" strike="noStrike">
                <a:solidFill>
                  <a:srgbClr val="000000"/>
                </a:solidFill>
                <a:latin typeface="Times New Roman"/>
              </a:rPr>
              <a:t>, </a:t>
            </a:r>
            <a:r>
              <a:rPr b="0" lang="en-US" sz="2800" spc="-1" strike="noStrike">
                <a:solidFill>
                  <a:srgbClr val="000000"/>
                </a:solidFill>
                <a:latin typeface="Times New Roman"/>
              </a:rPr>
              <a:t>Ramanathan </a:t>
            </a:r>
            <a:r>
              <a:rPr b="0" lang="el-GR" sz="2800" spc="-1" strike="noStrike">
                <a:solidFill>
                  <a:srgbClr val="000000"/>
                </a:solidFill>
                <a:latin typeface="Times New Roman"/>
              </a:rPr>
              <a:t>και </a:t>
            </a:r>
            <a:r>
              <a:rPr b="0" lang="en-US" sz="2800" spc="-1" strike="noStrike">
                <a:solidFill>
                  <a:srgbClr val="000000"/>
                </a:solidFill>
                <a:latin typeface="Times New Roman"/>
              </a:rPr>
              <a:t>Yu</a:t>
            </a:r>
            <a:r>
              <a:rPr b="0" lang="el-GR" sz="2800" spc="-1" strike="noStrike">
                <a:solidFill>
                  <a:srgbClr val="000000"/>
                </a:solidFill>
                <a:latin typeface="Times New Roman"/>
              </a:rPr>
              <a:t>) με τον όρο σχολική κουλτούρα αναφέρονται </a:t>
            </a:r>
            <a:br>
              <a:rPr sz="2800"/>
            </a:br>
            <a:r>
              <a:rPr b="1" lang="el-GR" sz="2800" spc="-1" strike="noStrike">
                <a:solidFill>
                  <a:srgbClr val="000000"/>
                </a:solidFill>
                <a:latin typeface="Times New Roman"/>
              </a:rPr>
              <a:t>στις αξίες, τις στάσεις και τους κανόνες συμπεριφοράς που διέπουν τη λειτουργία μιας σχολικής μονάδα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σκοπό την προαγωγή ενός κοινού και λειτουργικού τρόπου διαχείρισης της σχολικής καθημερινότητας και των δυσκολιών που τυχόν προκύπτουν</a:t>
            </a:r>
            <a:endParaRPr b="0" lang="en-US" sz="2800" spc="-1" strike="noStrike">
              <a:solidFill>
                <a:srgbClr val="ffffff"/>
              </a:solidFill>
              <a:latin typeface="Times New Roman"/>
            </a:endParaRPr>
          </a:p>
        </p:txBody>
      </p:sp>
      <p:grpSp>
        <p:nvGrpSpPr>
          <p:cNvPr id="6708" name="Group 2"/>
          <p:cNvGrpSpPr/>
          <p:nvPr/>
        </p:nvGrpSpPr>
        <p:grpSpPr>
          <a:xfrm>
            <a:off x="0" y="115920"/>
            <a:ext cx="9140760" cy="6548400"/>
            <a:chOff x="0" y="115920"/>
            <a:chExt cx="9140760" cy="6548400"/>
          </a:xfrm>
        </p:grpSpPr>
        <p:grpSp>
          <p:nvGrpSpPr>
            <p:cNvPr id="6709" name="Group 3"/>
            <p:cNvGrpSpPr/>
            <p:nvPr/>
          </p:nvGrpSpPr>
          <p:grpSpPr>
            <a:xfrm>
              <a:off x="0" y="115920"/>
              <a:ext cx="9140760" cy="6548400"/>
              <a:chOff x="0" y="115920"/>
              <a:chExt cx="9140760" cy="6548400"/>
            </a:xfrm>
          </p:grpSpPr>
          <p:sp>
            <p:nvSpPr>
              <p:cNvPr id="671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1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1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1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15"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16" name="Group 1"/>
          <p:cNvGrpSpPr/>
          <p:nvPr/>
        </p:nvGrpSpPr>
        <p:grpSpPr>
          <a:xfrm>
            <a:off x="0" y="115920"/>
            <a:ext cx="9140760" cy="6548400"/>
            <a:chOff x="0" y="115920"/>
            <a:chExt cx="9140760" cy="6548400"/>
          </a:xfrm>
        </p:grpSpPr>
        <p:grpSp>
          <p:nvGrpSpPr>
            <p:cNvPr id="6717" name="Group 2"/>
            <p:cNvGrpSpPr/>
            <p:nvPr/>
          </p:nvGrpSpPr>
          <p:grpSpPr>
            <a:xfrm>
              <a:off x="0" y="115920"/>
              <a:ext cx="9140760" cy="6548400"/>
              <a:chOff x="0" y="115920"/>
              <a:chExt cx="9140760" cy="6548400"/>
            </a:xfrm>
          </p:grpSpPr>
          <p:sp>
            <p:nvSpPr>
              <p:cNvPr id="6718"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9"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20"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1"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22"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23" name="Picture 8" descr=""/>
          <p:cNvPicPr/>
          <p:nvPr/>
        </p:nvPicPr>
        <p:blipFill>
          <a:blip r:embed="rId3"/>
          <a:stretch/>
        </p:blipFill>
        <p:spPr>
          <a:xfrm>
            <a:off x="250920" y="333360"/>
            <a:ext cx="1417680" cy="879480"/>
          </a:xfrm>
          <a:prstGeom prst="rect">
            <a:avLst/>
          </a:prstGeom>
          <a:ln w="0">
            <a:noFill/>
          </a:ln>
        </p:spPr>
      </p:pic>
      <p:sp>
        <p:nvSpPr>
          <p:cNvPr id="6724" name="Text Box 9"/>
          <p:cNvSpPr/>
          <p:nvPr/>
        </p:nvSpPr>
        <p:spPr>
          <a:xfrm>
            <a:off x="755640" y="1484280"/>
            <a:ext cx="7812000" cy="41101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ιαμόρφωση της σχολικής κουλτούρας από τους εμπλεκόμενους ενήλικες (εκπαιδευτικούς, γονείς, υποστηρικτικό εκπαιδευτικό και βοηθητικό προσωπικό) 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αντιστοιχούν στην αντίστοιχη τοπική κοινωνία</a:t>
            </a:r>
            <a:r>
              <a:rPr b="0" lang="el-GR" sz="1200" spc="-1" strike="noStrike">
                <a:solidFill>
                  <a:srgbClr val="000000"/>
                </a:solidFill>
                <a:latin typeface="Times New Roman"/>
                <a:ea typeface="Calibri"/>
              </a:rPr>
              <a:t>.</a:t>
            </a:r>
            <a:endParaRPr b="0" lang="en-US" sz="1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5" name="Text Box 1"/>
          <p:cNvSpPr/>
          <p:nvPr/>
        </p:nvSpPr>
        <p:spPr>
          <a:xfrm>
            <a:off x="395280" y="1125360"/>
            <a:ext cx="828036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διαμόρφωση της σχολικής κουλτούρας </a:t>
            </a:r>
            <a:br>
              <a:rPr sz="2800"/>
            </a:br>
            <a:r>
              <a:rPr b="0" lang="el-GR" sz="2800" spc="-1" strike="noStrike">
                <a:solidFill>
                  <a:srgbClr val="000000"/>
                </a:solidFill>
                <a:latin typeface="Times New Roman"/>
              </a:rPr>
              <a:t>από τους εμπλεκόμενους ενήλικες </a:t>
            </a:r>
            <a:br>
              <a:rPr sz="2800"/>
            </a:br>
            <a:r>
              <a:rPr b="0" lang="el-GR" sz="2800" spc="-1" strike="noStrike">
                <a:solidFill>
                  <a:srgbClr val="000000"/>
                </a:solidFill>
                <a:latin typeface="Times New Roman"/>
              </a:rPr>
              <a:t>(εκπαιδευτικούς, γονείς, υποστηρικτικό  εκπαιδευτικό και βοηθητικό προσωπικό) </a:t>
            </a:r>
            <a:br>
              <a:rPr sz="2800"/>
            </a:br>
            <a:r>
              <a:rPr b="0" lang="el-GR" sz="2800" spc="-1" strike="noStrike">
                <a:solidFill>
                  <a:srgbClr val="000000"/>
                </a:solidFill>
                <a:latin typeface="Times New Roman"/>
              </a:rPr>
              <a:t>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κυριαρχούν στην αντίστοιχη τοπική κοινωνία. </a:t>
            </a:r>
            <a:br>
              <a:rPr sz="2800"/>
            </a:br>
            <a:endParaRPr b="0" lang="en-US" sz="2800" spc="-1" strike="noStrike">
              <a:solidFill>
                <a:srgbClr val="ffffff"/>
              </a:solidFill>
              <a:latin typeface="Times New Roman"/>
            </a:endParaRPr>
          </a:p>
        </p:txBody>
      </p:sp>
      <p:grpSp>
        <p:nvGrpSpPr>
          <p:cNvPr id="6726" name="Group 2"/>
          <p:cNvGrpSpPr/>
          <p:nvPr/>
        </p:nvGrpSpPr>
        <p:grpSpPr>
          <a:xfrm>
            <a:off x="0" y="115920"/>
            <a:ext cx="9140760" cy="6548400"/>
            <a:chOff x="0" y="115920"/>
            <a:chExt cx="9140760" cy="6548400"/>
          </a:xfrm>
        </p:grpSpPr>
        <p:grpSp>
          <p:nvGrpSpPr>
            <p:cNvPr id="6727" name="Group 3"/>
            <p:cNvGrpSpPr/>
            <p:nvPr/>
          </p:nvGrpSpPr>
          <p:grpSpPr>
            <a:xfrm>
              <a:off x="0" y="115920"/>
              <a:ext cx="9140760" cy="6548400"/>
              <a:chOff x="0" y="115920"/>
              <a:chExt cx="9140760" cy="6548400"/>
            </a:xfrm>
          </p:grpSpPr>
          <p:sp>
            <p:nvSpPr>
              <p:cNvPr id="672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3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33" name="Picture 9"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4" name="Text Box 1"/>
          <p:cNvSpPr/>
          <p:nvPr/>
        </p:nvSpPr>
        <p:spPr>
          <a:xfrm>
            <a:off x="39528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προσδιορισμός των χαρακτηριστικών που διέπουν την κουλτούρα ενός σχολείου </a:t>
            </a:r>
            <a:br>
              <a:rPr sz="2800"/>
            </a:br>
            <a:r>
              <a:rPr b="0" lang="el-GR" sz="2800" spc="-1" strike="noStrike">
                <a:solidFill>
                  <a:srgbClr val="000000"/>
                </a:solidFill>
                <a:latin typeface="Times New Roman"/>
              </a:rPr>
              <a:t>φαίνεται πως γίνεται σε δύο επίπεδα. </a:t>
            </a:r>
            <a:br>
              <a:rPr sz="2800"/>
            </a:br>
            <a:br>
              <a:rPr sz="2800"/>
            </a:br>
            <a:r>
              <a:rPr b="1" lang="el-GR" sz="2800" spc="-1" strike="noStrike">
                <a:solidFill>
                  <a:srgbClr val="000000"/>
                </a:solidFill>
                <a:latin typeface="Times New Roman"/>
              </a:rPr>
              <a:t>Το πρώτο επίπεδο(το δηλωτικό )</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αφορά τις αναφορές και τη συμπεριφορά των εμπλεκομένων</a:t>
            </a:r>
            <a:br>
              <a:rPr sz="2800"/>
            </a:br>
            <a:r>
              <a:rPr b="0" lang="el-GR" sz="2800" spc="-1" strike="noStrike">
                <a:solidFill>
                  <a:srgbClr val="000000"/>
                </a:solidFill>
                <a:latin typeface="Times New Roman"/>
              </a:rPr>
              <a:t>ενώ το </a:t>
            </a:r>
            <a:r>
              <a:rPr b="1" lang="el-GR" sz="2800" spc="-1" strike="noStrike">
                <a:solidFill>
                  <a:srgbClr val="000000"/>
                </a:solidFill>
                <a:latin typeface="Times New Roman"/>
              </a:rPr>
              <a:t>δεύτερο επίπεδο</a:t>
            </a:r>
            <a:r>
              <a:rPr b="0" lang="el-GR" sz="2800" spc="-1" strike="noStrike">
                <a:solidFill>
                  <a:srgbClr val="000000"/>
                </a:solidFill>
                <a:latin typeface="Times New Roman"/>
              </a:rPr>
              <a:t>, (άδηλο), </a:t>
            </a:r>
            <a:br>
              <a:rPr sz="2800"/>
            </a:br>
            <a:r>
              <a:rPr b="0" lang="el-GR" sz="2800" spc="-1" strike="noStrike">
                <a:solidFill>
                  <a:srgbClr val="000000"/>
                </a:solidFill>
                <a:latin typeface="Times New Roman"/>
              </a:rPr>
              <a:t>αφορά την ερμηνεία  και τους λόγους για τους οποίους εκδηλώνονται οι συγκεκριμένες συμπεριφορές.</a:t>
            </a:r>
            <a:endParaRPr b="0" lang="en-US" sz="2800" spc="-1" strike="noStrike">
              <a:solidFill>
                <a:srgbClr val="ffffff"/>
              </a:solidFill>
              <a:latin typeface="Times New Roman"/>
            </a:endParaRPr>
          </a:p>
        </p:txBody>
      </p:sp>
      <p:grpSp>
        <p:nvGrpSpPr>
          <p:cNvPr id="6735" name="Group 2"/>
          <p:cNvGrpSpPr/>
          <p:nvPr/>
        </p:nvGrpSpPr>
        <p:grpSpPr>
          <a:xfrm>
            <a:off x="0" y="115920"/>
            <a:ext cx="9140760" cy="6548400"/>
            <a:chOff x="0" y="115920"/>
            <a:chExt cx="9140760" cy="6548400"/>
          </a:xfrm>
        </p:grpSpPr>
        <p:grpSp>
          <p:nvGrpSpPr>
            <p:cNvPr id="6736" name="Group 3"/>
            <p:cNvGrpSpPr/>
            <p:nvPr/>
          </p:nvGrpSpPr>
          <p:grpSpPr>
            <a:xfrm>
              <a:off x="0" y="115920"/>
              <a:ext cx="9140760" cy="6548400"/>
              <a:chOff x="0" y="115920"/>
              <a:chExt cx="9140760" cy="6548400"/>
            </a:xfrm>
          </p:grpSpPr>
          <p:sp>
            <p:nvSpPr>
              <p:cNvPr id="673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41" name="Rectangle 8"/>
          <p:cNvSpPr/>
          <p:nvPr/>
        </p:nvSpPr>
        <p:spPr>
          <a:xfrm>
            <a:off x="1042920" y="206064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42"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250920" y="981000"/>
            <a:ext cx="856908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την εύρυθμη λειτουργία ενός εκπαιδευτικού οργανισμού  βαρύνουσα σημασία έχει </a:t>
            </a:r>
            <a:r>
              <a:rPr b="1" lang="el-GR" sz="2800" spc="-1" strike="noStrike">
                <a:solidFill>
                  <a:srgbClr val="000000"/>
                </a:solidFill>
                <a:latin typeface="Times New Roman"/>
              </a:rPr>
              <a:t>η σχολική κουλτούρα που επικρατεί σε έναν εκπαιδευτικό οργανισμό.</a:t>
            </a:r>
            <a:r>
              <a:rPr b="0" lang="el-GR" sz="2800" spc="-1" strike="noStrike">
                <a:solidFill>
                  <a:srgbClr val="000000"/>
                </a:solidFill>
                <a:latin typeface="Times New Roman"/>
              </a:rPr>
              <a:t> </a:t>
            </a:r>
            <a:br>
              <a:rPr sz="2800"/>
            </a:br>
            <a:r>
              <a:rPr b="1" lang="el-GR" sz="2800" spc="-1" strike="noStrike">
                <a:solidFill>
                  <a:srgbClr val="000000"/>
                </a:solidFill>
                <a:latin typeface="Times New Roman"/>
              </a:rPr>
              <a:t>Η κουλτούρα συνιστά </a:t>
            </a:r>
            <a:r>
              <a:rPr b="0" lang="el-GR" sz="2800" spc="-1" strike="noStrike">
                <a:solidFill>
                  <a:srgbClr val="000000"/>
                </a:solidFill>
                <a:latin typeface="Times New Roman"/>
              </a:rPr>
              <a:t>ένα σύστημα κοινών παραδόσεων, πεποιθήσεων, αξιών, αντιλήψεων, συμπεριφορών οι οποίες, αφενός, καθορίζουν την ταυτότητα της σχολικής μονάδας συμβάλλουν στη ενότητά της καθιστώντας την ως έναν μοναδικό οργανισμό και, αφετέρου, επιδρούν στην αποδοτικότητα και στην αποτελεσματικότητά της. </a:t>
            </a:r>
            <a:endParaRPr b="0" lang="en-US" sz="2800" spc="-1" strike="noStrike">
              <a:solidFill>
                <a:srgbClr val="ffffff"/>
              </a:solidFill>
              <a:latin typeface="Times New Roman"/>
            </a:endParaRPr>
          </a:p>
        </p:txBody>
      </p:sp>
      <p:grpSp>
        <p:nvGrpSpPr>
          <p:cNvPr id="6420" name="Group 2"/>
          <p:cNvGrpSpPr/>
          <p:nvPr/>
        </p:nvGrpSpPr>
        <p:grpSpPr>
          <a:xfrm>
            <a:off x="0" y="115920"/>
            <a:ext cx="9140760" cy="6548400"/>
            <a:chOff x="0" y="115920"/>
            <a:chExt cx="9140760" cy="6548400"/>
          </a:xfrm>
        </p:grpSpPr>
        <p:grpSp>
          <p:nvGrpSpPr>
            <p:cNvPr id="6421" name="Group 3"/>
            <p:cNvGrpSpPr/>
            <p:nvPr/>
          </p:nvGrpSpPr>
          <p:grpSpPr>
            <a:xfrm>
              <a:off x="0" y="115920"/>
              <a:ext cx="9140760" cy="6548400"/>
              <a:chOff x="0" y="115920"/>
              <a:chExt cx="9140760" cy="6548400"/>
            </a:xfrm>
          </p:grpSpPr>
          <p:sp>
            <p:nvSpPr>
              <p:cNvPr id="64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3"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ις διαδικασίες ένταξης, </a:t>
            </a:r>
            <a:br>
              <a:rPr sz="2800"/>
            </a:br>
            <a:r>
              <a:rPr b="0" lang="el-GR" sz="2800" spc="-1" strike="noStrike">
                <a:solidFill>
                  <a:srgbClr val="000000"/>
                </a:solidFill>
                <a:latin typeface="Times New Roman"/>
              </a:rPr>
              <a:t>διαστάσεις της σχολικής κουλτούρας, </a:t>
            </a:r>
            <a:br>
              <a:rPr sz="2800"/>
            </a:br>
            <a:r>
              <a:rPr b="0" lang="el-GR" sz="2800" spc="-1" strike="noStrike">
                <a:solidFill>
                  <a:srgbClr val="000000"/>
                </a:solidFill>
                <a:latin typeface="Times New Roman"/>
              </a:rPr>
              <a:t>όπως οι πεποιθήσεις και οι στάσεις των εκπαιδευτικών </a:t>
            </a:r>
            <a:br>
              <a:rPr sz="2800"/>
            </a:br>
            <a:r>
              <a:rPr b="0" lang="el-GR" sz="2800" spc="-1" strike="noStrike">
                <a:solidFill>
                  <a:srgbClr val="000000"/>
                </a:solidFill>
                <a:latin typeface="Times New Roman"/>
              </a:rPr>
              <a:t>για τον ρόλο και τις ευθύνες τους,</a:t>
            </a:r>
            <a:br>
              <a:rPr sz="2800"/>
            </a:br>
            <a:r>
              <a:rPr b="0" lang="el-GR" sz="2800" spc="-1" strike="noStrike">
                <a:solidFill>
                  <a:srgbClr val="000000"/>
                </a:solidFill>
                <a:latin typeface="Times New Roman"/>
              </a:rPr>
              <a:t>επηρεάζουν άμεσα και καθοριστικά </a:t>
            </a:r>
            <a:br>
              <a:rPr sz="2800"/>
            </a:br>
            <a:r>
              <a:rPr b="0" lang="el-GR" sz="2800" spc="-1" strike="noStrike">
                <a:solidFill>
                  <a:srgbClr val="000000"/>
                </a:solidFill>
                <a:latin typeface="Times New Roman"/>
              </a:rPr>
              <a:t>την ποιότητα αλλά και τη μορφή υποστήριξης των</a:t>
            </a:r>
            <a:br>
              <a:rPr sz="2800"/>
            </a:br>
            <a:r>
              <a:rPr b="0" lang="el-GR" sz="2800" spc="-1" strike="noStrike">
                <a:solidFill>
                  <a:srgbClr val="000000"/>
                </a:solidFill>
                <a:latin typeface="Times New Roman"/>
              </a:rPr>
              <a:t>μαθητών με ειδικές εκπαιδευτικές ανάγκες. </a:t>
            </a:r>
            <a:br>
              <a:rPr sz="2800"/>
            </a:br>
            <a:endParaRPr b="0" lang="en-US" sz="2800" spc="-1" strike="noStrike">
              <a:solidFill>
                <a:srgbClr val="ffffff"/>
              </a:solidFill>
              <a:latin typeface="Times New Roman"/>
            </a:endParaRPr>
          </a:p>
        </p:txBody>
      </p:sp>
      <p:grpSp>
        <p:nvGrpSpPr>
          <p:cNvPr id="6744" name="Group 2"/>
          <p:cNvGrpSpPr/>
          <p:nvPr/>
        </p:nvGrpSpPr>
        <p:grpSpPr>
          <a:xfrm>
            <a:off x="0" y="115920"/>
            <a:ext cx="9140760" cy="6548400"/>
            <a:chOff x="0" y="115920"/>
            <a:chExt cx="9140760" cy="6548400"/>
          </a:xfrm>
        </p:grpSpPr>
        <p:grpSp>
          <p:nvGrpSpPr>
            <p:cNvPr id="6745" name="Group 3"/>
            <p:cNvGrpSpPr/>
            <p:nvPr/>
          </p:nvGrpSpPr>
          <p:grpSpPr>
            <a:xfrm>
              <a:off x="0" y="115920"/>
              <a:ext cx="9140760" cy="6548400"/>
              <a:chOff x="0" y="115920"/>
              <a:chExt cx="9140760" cy="6548400"/>
            </a:xfrm>
          </p:grpSpPr>
          <p:sp>
            <p:nvSpPr>
              <p:cNvPr id="674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4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51" name="Picture 9"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2"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γίνεται φανερό πως </a:t>
            </a:r>
            <a:br>
              <a:rPr sz="2800"/>
            </a:br>
            <a:r>
              <a:rPr b="0" lang="el-GR" sz="2800" spc="-1" strike="noStrike">
                <a:solidFill>
                  <a:srgbClr val="000000"/>
                </a:solidFill>
                <a:latin typeface="Times New Roman"/>
              </a:rPr>
              <a:t>ενώ οι ενταξιακές διαδικασίες ορίζονται από τα εκάστοτε προωθούμενα μοντέλα ένταξης , </a:t>
            </a:r>
            <a:br>
              <a:rPr sz="2800"/>
            </a:br>
            <a:r>
              <a:rPr b="0" lang="el-GR" sz="2800" spc="-1" strike="noStrike">
                <a:solidFill>
                  <a:srgbClr val="000000"/>
                </a:solidFill>
                <a:latin typeface="Times New Roman"/>
              </a:rPr>
              <a:t>στην </a:t>
            </a:r>
            <a:r>
              <a:rPr b="1" lang="el-GR" sz="2800" spc="-1" strike="noStrike">
                <a:solidFill>
                  <a:srgbClr val="000000"/>
                </a:solidFill>
                <a:latin typeface="Times New Roman"/>
              </a:rPr>
              <a:t>πρά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ορίζονται και αναπτύσσονται </a:t>
            </a:r>
            <a:br>
              <a:rPr sz="2800"/>
            </a:br>
            <a:r>
              <a:rPr b="0" lang="el-GR" sz="2800" spc="-1" strike="noStrike">
                <a:solidFill>
                  <a:srgbClr val="000000"/>
                </a:solidFill>
                <a:latin typeface="Times New Roman"/>
              </a:rPr>
              <a:t>με βάση τη κουλτούρα και το δυναμικό </a:t>
            </a:r>
            <a:br>
              <a:rPr sz="2800"/>
            </a:br>
            <a:r>
              <a:rPr b="0" lang="el-GR" sz="2800" spc="-1" strike="noStrike">
                <a:solidFill>
                  <a:srgbClr val="000000"/>
                </a:solidFill>
                <a:latin typeface="Times New Roman"/>
              </a:rPr>
              <a:t>της  σχολικής μονάδας.</a:t>
            </a:r>
            <a:endParaRPr b="0" lang="en-US" sz="2800" spc="-1" strike="noStrike">
              <a:solidFill>
                <a:srgbClr val="ffffff"/>
              </a:solidFill>
              <a:latin typeface="Times New Roman"/>
            </a:endParaRPr>
          </a:p>
        </p:txBody>
      </p:sp>
      <p:grpSp>
        <p:nvGrpSpPr>
          <p:cNvPr id="6753" name="Group 2"/>
          <p:cNvGrpSpPr/>
          <p:nvPr/>
        </p:nvGrpSpPr>
        <p:grpSpPr>
          <a:xfrm>
            <a:off x="0" y="115920"/>
            <a:ext cx="9140760" cy="6548400"/>
            <a:chOff x="0" y="115920"/>
            <a:chExt cx="9140760" cy="6548400"/>
          </a:xfrm>
        </p:grpSpPr>
        <p:grpSp>
          <p:nvGrpSpPr>
            <p:cNvPr id="6754" name="Group 3"/>
            <p:cNvGrpSpPr/>
            <p:nvPr/>
          </p:nvGrpSpPr>
          <p:grpSpPr>
            <a:xfrm>
              <a:off x="0" y="115920"/>
              <a:ext cx="9140760" cy="6548400"/>
              <a:chOff x="0" y="115920"/>
              <a:chExt cx="9140760" cy="6548400"/>
            </a:xfrm>
          </p:grpSpPr>
          <p:sp>
            <p:nvSpPr>
              <p:cNvPr id="675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5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5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0" name="Picture 9"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1" name="Text Box 1"/>
          <p:cNvSpPr/>
          <p:nvPr/>
        </p:nvSpPr>
        <p:spPr>
          <a:xfrm>
            <a:off x="395280" y="1052640"/>
            <a:ext cx="828036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πίδραση της σχολικής κουλτούρας αναδεικνύεται ειδικότερα στις περιπτώσεις που οι πολιτικές</a:t>
            </a:r>
            <a:br>
              <a:rPr sz="2800"/>
            </a:br>
            <a:r>
              <a:rPr b="0" lang="el-GR" sz="2800" spc="-1" strike="noStrike">
                <a:solidFill>
                  <a:srgbClr val="000000"/>
                </a:solidFill>
                <a:latin typeface="Times New Roman"/>
              </a:rPr>
              <a:t>αναφορικά με την ένταξη των μαθητών με αναπηρία είναι ασαφείς και δεν προσδιορίζονται επαρκώς. </a:t>
            </a:r>
            <a:br>
              <a:rPr sz="2800"/>
            </a:br>
            <a:br>
              <a:rPr sz="2800"/>
            </a:br>
            <a:r>
              <a:rPr b="0" lang="el-GR" sz="2800" spc="-1" strike="noStrike">
                <a:solidFill>
                  <a:srgbClr val="000000"/>
                </a:solidFill>
                <a:latin typeface="Times New Roman"/>
              </a:rPr>
              <a:t>Σε αυτές τις περιπτώσεις, η επιτυχής συνύπαρξη του</a:t>
            </a:r>
            <a:br>
              <a:rPr sz="2800"/>
            </a:br>
            <a:r>
              <a:rPr b="0" lang="el-GR" sz="2800" spc="-1" strike="noStrike">
                <a:solidFill>
                  <a:srgbClr val="000000"/>
                </a:solidFill>
                <a:latin typeface="Times New Roman"/>
              </a:rPr>
              <a:t>μαθητικού πληθυσμού εξαρτάται κυρίως από το είδος της σχολικής κουλτούρας</a:t>
            </a:r>
            <a:br>
              <a:rPr sz="2800"/>
            </a:br>
            <a:r>
              <a:rPr b="0" lang="el-GR" sz="2800" spc="-1" strike="noStrike">
                <a:solidFill>
                  <a:srgbClr val="000000"/>
                </a:solidFill>
                <a:latin typeface="Times New Roman"/>
              </a:rPr>
              <a:t> που διέπει κάθε σχολική μονάδα.  </a:t>
            </a:r>
            <a:endParaRPr b="0" lang="en-US" sz="2800" spc="-1" strike="noStrike">
              <a:solidFill>
                <a:srgbClr val="ffffff"/>
              </a:solidFill>
              <a:latin typeface="Times New Roman"/>
            </a:endParaRPr>
          </a:p>
        </p:txBody>
      </p:sp>
      <p:grpSp>
        <p:nvGrpSpPr>
          <p:cNvPr id="6762" name="Group 2"/>
          <p:cNvGrpSpPr/>
          <p:nvPr/>
        </p:nvGrpSpPr>
        <p:grpSpPr>
          <a:xfrm>
            <a:off x="0" y="115920"/>
            <a:ext cx="9140760" cy="6548400"/>
            <a:chOff x="0" y="115920"/>
            <a:chExt cx="9140760" cy="6548400"/>
          </a:xfrm>
        </p:grpSpPr>
        <p:grpSp>
          <p:nvGrpSpPr>
            <p:cNvPr id="6763" name="Group 3"/>
            <p:cNvGrpSpPr/>
            <p:nvPr/>
          </p:nvGrpSpPr>
          <p:grpSpPr>
            <a:xfrm>
              <a:off x="0" y="115920"/>
              <a:ext cx="9140760" cy="6548400"/>
              <a:chOff x="0" y="115920"/>
              <a:chExt cx="9140760" cy="6548400"/>
            </a:xfrm>
          </p:grpSpPr>
          <p:sp>
            <p:nvSpPr>
              <p:cNvPr id="676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6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6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6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9" name="Picture 9"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0"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για παράδειγμα, οι εμπλεκόμενοι επαγγελματίες (εκπαιδευτικοί, γονείς,</a:t>
            </a:r>
            <a:br>
              <a:rPr sz="2800"/>
            </a:br>
            <a:r>
              <a:rPr b="0" lang="el-GR" sz="2800" spc="-1" strike="noStrike">
                <a:solidFill>
                  <a:srgbClr val="000000"/>
                </a:solidFill>
                <a:latin typeface="Times New Roman"/>
              </a:rPr>
              <a:t>υποστηρικτικό εκπαιδευτικό και </a:t>
            </a:r>
            <a:br>
              <a:rPr sz="2800"/>
            </a:br>
            <a:r>
              <a:rPr b="0" lang="el-GR" sz="2800" spc="-1" strike="noStrike">
                <a:solidFill>
                  <a:srgbClr val="000000"/>
                </a:solidFill>
                <a:latin typeface="Times New Roman"/>
              </a:rPr>
              <a:t>βοηθητικό προσωπικό) </a:t>
            </a:r>
            <a:br>
              <a:rPr sz="2800"/>
            </a:br>
            <a:r>
              <a:rPr b="0" lang="el-GR" sz="2800" spc="-1" strike="noStrike">
                <a:solidFill>
                  <a:srgbClr val="000000"/>
                </a:solidFill>
                <a:latin typeface="Times New Roman"/>
              </a:rPr>
              <a:t>διαθέτουν αυτοπεποίθηση, επιμονή και είναι «ανοιχτοί» και φιλικοί να υιοθετήσουν νέες πρακτικές και μεθόδους, οι διαδικασίες ένταξης παρουσιάζονται ως αποτελεσματικές.</a:t>
            </a:r>
            <a:endParaRPr b="0" lang="en-US" sz="2800" spc="-1" strike="noStrike">
              <a:solidFill>
                <a:srgbClr val="ffffff"/>
              </a:solidFill>
              <a:latin typeface="Times New Roman"/>
            </a:endParaRPr>
          </a:p>
        </p:txBody>
      </p:sp>
      <p:grpSp>
        <p:nvGrpSpPr>
          <p:cNvPr id="6771" name="Group 2"/>
          <p:cNvGrpSpPr/>
          <p:nvPr/>
        </p:nvGrpSpPr>
        <p:grpSpPr>
          <a:xfrm>
            <a:off x="0" y="115920"/>
            <a:ext cx="9140760" cy="6548400"/>
            <a:chOff x="0" y="115920"/>
            <a:chExt cx="9140760" cy="6548400"/>
          </a:xfrm>
        </p:grpSpPr>
        <p:grpSp>
          <p:nvGrpSpPr>
            <p:cNvPr id="6772" name="Group 3"/>
            <p:cNvGrpSpPr/>
            <p:nvPr/>
          </p:nvGrpSpPr>
          <p:grpSpPr>
            <a:xfrm>
              <a:off x="0" y="115920"/>
              <a:ext cx="9140760" cy="6548400"/>
              <a:chOff x="0" y="115920"/>
              <a:chExt cx="9140760" cy="6548400"/>
            </a:xfrm>
          </p:grpSpPr>
          <p:sp>
            <p:nvSpPr>
              <p:cNvPr id="677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7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7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77" name="Rectangle 8"/>
          <p:cNvSpPr/>
          <p:nvPr/>
        </p:nvSpPr>
        <p:spPr>
          <a:xfrm>
            <a:off x="1116000" y="177336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78" name="Picture 9"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9" name="Text Box 1"/>
          <p:cNvSpPr/>
          <p:nvPr/>
        </p:nvSpPr>
        <p:spPr>
          <a:xfrm>
            <a:off x="395280" y="1125360"/>
            <a:ext cx="849780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αντίθετη περίπτωση, </a:t>
            </a:r>
            <a:br>
              <a:rPr sz="2800"/>
            </a:br>
            <a:r>
              <a:rPr b="0" lang="el-GR" sz="2800" spc="-1" strike="noStrike">
                <a:solidFill>
                  <a:srgbClr val="000000"/>
                </a:solidFill>
                <a:latin typeface="Times New Roman"/>
              </a:rPr>
              <a:t>που οι εμπλεκόμενοι δεν είναι πρόθυμοι για αλλαγές, </a:t>
            </a:r>
            <a:br>
              <a:rPr sz="2800"/>
            </a:br>
            <a:r>
              <a:rPr b="0" lang="el-GR" sz="2800" spc="-1" strike="noStrike">
                <a:solidFill>
                  <a:srgbClr val="000000"/>
                </a:solidFill>
                <a:latin typeface="Times New Roman"/>
              </a:rPr>
              <a:t>οι διαδικασίες ένταξης των αμεα στο γενικό σχολείο </a:t>
            </a:r>
            <a:br>
              <a:rPr sz="2800"/>
            </a:br>
            <a:r>
              <a:rPr b="0" lang="el-GR" sz="2800" spc="-1" strike="noStrike">
                <a:solidFill>
                  <a:srgbClr val="000000"/>
                </a:solidFill>
                <a:latin typeface="Times New Roman"/>
              </a:rPr>
              <a:t>δεν είναι αποτελεσματικές.</a:t>
            </a:r>
            <a:br>
              <a:rPr sz="2800"/>
            </a:br>
            <a:br>
              <a:rPr sz="2800"/>
            </a:br>
            <a:endParaRPr b="0" lang="en-US" sz="2800" spc="-1" strike="noStrike">
              <a:solidFill>
                <a:srgbClr val="ffffff"/>
              </a:solidFill>
              <a:latin typeface="Times New Roman"/>
            </a:endParaRPr>
          </a:p>
        </p:txBody>
      </p:sp>
      <p:grpSp>
        <p:nvGrpSpPr>
          <p:cNvPr id="6780" name="Group 2"/>
          <p:cNvGrpSpPr/>
          <p:nvPr/>
        </p:nvGrpSpPr>
        <p:grpSpPr>
          <a:xfrm>
            <a:off x="0" y="115920"/>
            <a:ext cx="9140760" cy="6548400"/>
            <a:chOff x="0" y="115920"/>
            <a:chExt cx="9140760" cy="6548400"/>
          </a:xfrm>
        </p:grpSpPr>
        <p:grpSp>
          <p:nvGrpSpPr>
            <p:cNvPr id="6781" name="Group 3"/>
            <p:cNvGrpSpPr/>
            <p:nvPr/>
          </p:nvGrpSpPr>
          <p:grpSpPr>
            <a:xfrm>
              <a:off x="0" y="115920"/>
              <a:ext cx="9140760" cy="6548400"/>
              <a:chOff x="0" y="115920"/>
              <a:chExt cx="9140760" cy="6548400"/>
            </a:xfrm>
          </p:grpSpPr>
          <p:sp>
            <p:nvSpPr>
              <p:cNvPr id="678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8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8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8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87" name="Picture 9"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8" name="Text Box 1"/>
          <p:cNvSpPr/>
          <p:nvPr/>
        </p:nvSpPr>
        <p:spPr>
          <a:xfrm>
            <a:off x="395280" y="1125360"/>
            <a:ext cx="849780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λοιπόν, πως δύο </a:t>
            </a:r>
            <a:br>
              <a:rPr sz="2800"/>
            </a:br>
            <a:r>
              <a:rPr b="0" lang="el-GR" sz="2800" spc="-1" strike="noStrike">
                <a:solidFill>
                  <a:srgbClr val="000000"/>
                </a:solidFill>
                <a:latin typeface="Times New Roman"/>
              </a:rPr>
              <a:t>είναι τα κυρίαρχα είδη  σχολικής κουλτούρας </a:t>
            </a:r>
            <a:br>
              <a:rPr sz="2800"/>
            </a:br>
            <a:r>
              <a:rPr b="0" lang="el-GR" sz="2800" spc="-1" strike="noStrike">
                <a:solidFill>
                  <a:srgbClr val="000000"/>
                </a:solidFill>
                <a:latin typeface="Times New Roman"/>
              </a:rPr>
              <a:t>που συνδέονται με την αναπηρία: </a:t>
            </a:r>
            <a:br>
              <a:rPr sz="2800"/>
            </a:br>
            <a:r>
              <a:rPr b="1" lang="el-GR" sz="2800" spc="-1" strike="noStrike">
                <a:solidFill>
                  <a:srgbClr val="000000"/>
                </a:solidFill>
                <a:latin typeface="Times New Roman"/>
              </a:rPr>
              <a:t>το παραδοσιακό, </a:t>
            </a:r>
            <a:br>
              <a:rPr sz="2800"/>
            </a:br>
            <a:r>
              <a:rPr b="1" lang="el-GR" sz="2800" spc="-1" strike="noStrike">
                <a:solidFill>
                  <a:srgbClr val="000000"/>
                </a:solidFill>
                <a:latin typeface="Times New Roman"/>
              </a:rPr>
              <a:t>και το </a:t>
            </a:r>
            <a:br>
              <a:rPr sz="2800"/>
            </a:br>
            <a:r>
              <a:rPr b="1" lang="el-GR" sz="2800" spc="-1" strike="noStrike">
                <a:solidFill>
                  <a:srgbClr val="000000"/>
                </a:solidFill>
                <a:latin typeface="Times New Roman"/>
              </a:rPr>
              <a:t>εναλλακτικό-προοδευτικό</a:t>
            </a:r>
            <a:r>
              <a:rPr b="0" lang="el-GR" sz="2800" spc="-1" strike="noStrike">
                <a:solidFill>
                  <a:srgbClr val="000000"/>
                </a:solidFill>
                <a:latin typeface="Times New Roman"/>
              </a:rPr>
              <a:t> .</a:t>
            </a:r>
            <a:br>
              <a:rPr sz="2800"/>
            </a:br>
            <a:endParaRPr b="0" lang="en-US" sz="2800" spc="-1" strike="noStrike">
              <a:solidFill>
                <a:srgbClr val="ffffff"/>
              </a:solidFill>
              <a:latin typeface="Times New Roman"/>
            </a:endParaRPr>
          </a:p>
        </p:txBody>
      </p:sp>
      <p:grpSp>
        <p:nvGrpSpPr>
          <p:cNvPr id="6789" name="Group 2"/>
          <p:cNvGrpSpPr/>
          <p:nvPr/>
        </p:nvGrpSpPr>
        <p:grpSpPr>
          <a:xfrm>
            <a:off x="0" y="115920"/>
            <a:ext cx="9140760" cy="6548400"/>
            <a:chOff x="0" y="115920"/>
            <a:chExt cx="9140760" cy="6548400"/>
          </a:xfrm>
        </p:grpSpPr>
        <p:grpSp>
          <p:nvGrpSpPr>
            <p:cNvPr id="6790" name="Group 3"/>
            <p:cNvGrpSpPr/>
            <p:nvPr/>
          </p:nvGrpSpPr>
          <p:grpSpPr>
            <a:xfrm>
              <a:off x="0" y="115920"/>
              <a:ext cx="9140760" cy="6548400"/>
              <a:chOff x="0" y="115920"/>
              <a:chExt cx="9140760" cy="6548400"/>
            </a:xfrm>
          </p:grpSpPr>
          <p:sp>
            <p:nvSpPr>
              <p:cNvPr id="679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9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9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95" name="Rectangle 8"/>
          <p:cNvSpPr/>
          <p:nvPr/>
        </p:nvSpPr>
        <p:spPr>
          <a:xfrm>
            <a:off x="12985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96" name="Picture 9"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7" name="Text Box 1"/>
          <p:cNvSpPr/>
          <p:nvPr/>
        </p:nvSpPr>
        <p:spPr>
          <a:xfrm>
            <a:off x="250920" y="1392120"/>
            <a:ext cx="86421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παραδοσιακή σχολική κουλτούρα</a:t>
            </a:r>
            <a:br>
              <a:rPr sz="2800"/>
            </a:br>
            <a:r>
              <a:rPr b="0" lang="el-GR" sz="2800" spc="-1" strike="noStrike">
                <a:solidFill>
                  <a:srgbClr val="000000"/>
                </a:solidFill>
                <a:latin typeface="Times New Roman"/>
              </a:rPr>
              <a:t> έχει γνωσιοκεντρικό προσανατολισμό και </a:t>
            </a:r>
            <a:br>
              <a:rPr sz="2800"/>
            </a:br>
            <a:r>
              <a:rPr b="0" lang="el-GR" sz="2800" spc="-1" strike="noStrike">
                <a:solidFill>
                  <a:srgbClr val="000000"/>
                </a:solidFill>
                <a:latin typeface="Times New Roman"/>
              </a:rPr>
              <a:t>δίνει έμφαση στις επιδόσεις και </a:t>
            </a:r>
            <a:br>
              <a:rPr sz="2800"/>
            </a:br>
            <a:r>
              <a:rPr b="0" lang="el-GR" sz="2800" spc="-1" strike="noStrike">
                <a:solidFill>
                  <a:srgbClr val="000000"/>
                </a:solidFill>
                <a:latin typeface="Times New Roman"/>
              </a:rPr>
              <a:t>την ακαδημαϊκή πορεία του μαθητή και </a:t>
            </a:r>
            <a:br>
              <a:rPr sz="2800"/>
            </a:br>
            <a:r>
              <a:rPr b="0" lang="el-GR" sz="2800" spc="-1" strike="noStrike">
                <a:solidFill>
                  <a:srgbClr val="000000"/>
                </a:solidFill>
                <a:latin typeface="Times New Roman"/>
              </a:rPr>
              <a:t>όχι στις ξεχωριστές του ανάγκες. </a:t>
            </a:r>
            <a:br>
              <a:rPr sz="2800"/>
            </a:br>
            <a:r>
              <a:rPr b="0" lang="el-GR" sz="2800" spc="-1" strike="noStrike">
                <a:solidFill>
                  <a:srgbClr val="000000"/>
                </a:solidFill>
                <a:latin typeface="Times New Roman"/>
              </a:rPr>
              <a:t>Ο αυστηρά ιεραρχικά δομημένος χαρακτήρας του σχολείου που υιοθετεί την παραδοσιακή σχολική νοοτροπία δεν επιτρέπει τη διαχείριση των διαφορετικών</a:t>
            </a:r>
            <a:br>
              <a:rPr sz="2800"/>
            </a:br>
            <a:r>
              <a:rPr b="0" lang="el-GR" sz="2800" spc="-1" strike="noStrike">
                <a:solidFill>
                  <a:srgbClr val="000000"/>
                </a:solidFill>
                <a:latin typeface="Times New Roman"/>
              </a:rPr>
              <a:t>εκπαιδευτικών αναγκών. </a:t>
            </a:r>
            <a:br>
              <a:rPr sz="2800"/>
            </a:br>
            <a:endParaRPr b="0" lang="en-US" sz="2800" spc="-1" strike="noStrike">
              <a:solidFill>
                <a:srgbClr val="ffffff"/>
              </a:solidFill>
              <a:latin typeface="Times New Roman"/>
            </a:endParaRPr>
          </a:p>
        </p:txBody>
      </p:sp>
      <p:grpSp>
        <p:nvGrpSpPr>
          <p:cNvPr id="6798" name="Group 2"/>
          <p:cNvGrpSpPr/>
          <p:nvPr/>
        </p:nvGrpSpPr>
        <p:grpSpPr>
          <a:xfrm>
            <a:off x="0" y="115920"/>
            <a:ext cx="9140760" cy="6548400"/>
            <a:chOff x="0" y="115920"/>
            <a:chExt cx="9140760" cy="6548400"/>
          </a:xfrm>
        </p:grpSpPr>
        <p:grpSp>
          <p:nvGrpSpPr>
            <p:cNvPr id="6799" name="Group 3"/>
            <p:cNvGrpSpPr/>
            <p:nvPr/>
          </p:nvGrpSpPr>
          <p:grpSpPr>
            <a:xfrm>
              <a:off x="0" y="115920"/>
              <a:ext cx="9140760" cy="6548400"/>
              <a:chOff x="0" y="115920"/>
              <a:chExt cx="9140760" cy="6548400"/>
            </a:xfrm>
          </p:grpSpPr>
          <p:sp>
            <p:nvSpPr>
              <p:cNvPr id="680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0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0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05" name="Picture 9"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6" name="Text Box 1"/>
          <p:cNvSpPr/>
          <p:nvPr/>
        </p:nvSpPr>
        <p:spPr>
          <a:xfrm>
            <a:off x="250920" y="1392120"/>
            <a:ext cx="86421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εστιάζει σε ένα </a:t>
            </a:r>
            <a:br>
              <a:rPr sz="2800"/>
            </a:br>
            <a:r>
              <a:rPr b="0" lang="el-GR" sz="2800" spc="-1" strike="noStrike">
                <a:solidFill>
                  <a:srgbClr val="000000"/>
                </a:solidFill>
                <a:latin typeface="Times New Roman"/>
              </a:rPr>
              <a:t>συγκεκριμένο πρόγραμμα σπουδών,</a:t>
            </a:r>
            <a:br>
              <a:rPr sz="2800"/>
            </a:br>
            <a:r>
              <a:rPr b="0" lang="el-GR" sz="2800" spc="-1" strike="noStrike">
                <a:solidFill>
                  <a:srgbClr val="000000"/>
                </a:solidFill>
                <a:latin typeface="Times New Roman"/>
              </a:rPr>
              <a:t>που οι εκπαιδευτικοί καλούνται να ακολουθήσουν δουλεύοντας  απομονωμένοι </a:t>
            </a:r>
            <a:br>
              <a:rPr sz="2800"/>
            </a:br>
            <a:r>
              <a:rPr b="0" lang="el-GR" sz="2800" spc="-1" strike="noStrike">
                <a:solidFill>
                  <a:srgbClr val="000000"/>
                </a:solidFill>
                <a:latin typeface="Times New Roman"/>
              </a:rPr>
              <a:t>ο ένας από τον άλλο.</a:t>
            </a:r>
            <a:endParaRPr b="0" lang="en-US" sz="2800" spc="-1" strike="noStrike">
              <a:solidFill>
                <a:srgbClr val="ffffff"/>
              </a:solidFill>
              <a:latin typeface="Times New Roman"/>
            </a:endParaRPr>
          </a:p>
        </p:txBody>
      </p:sp>
      <p:grpSp>
        <p:nvGrpSpPr>
          <p:cNvPr id="6807" name="Group 2"/>
          <p:cNvGrpSpPr/>
          <p:nvPr/>
        </p:nvGrpSpPr>
        <p:grpSpPr>
          <a:xfrm>
            <a:off x="0" y="115920"/>
            <a:ext cx="9140760" cy="6548400"/>
            <a:chOff x="0" y="115920"/>
            <a:chExt cx="9140760" cy="6548400"/>
          </a:xfrm>
        </p:grpSpPr>
        <p:grpSp>
          <p:nvGrpSpPr>
            <p:cNvPr id="6808" name="Group 3"/>
            <p:cNvGrpSpPr/>
            <p:nvPr/>
          </p:nvGrpSpPr>
          <p:grpSpPr>
            <a:xfrm>
              <a:off x="0" y="115920"/>
              <a:ext cx="9140760" cy="6548400"/>
              <a:chOff x="0" y="115920"/>
              <a:chExt cx="9140760" cy="6548400"/>
            </a:xfrm>
          </p:grpSpPr>
          <p:sp>
            <p:nvSpPr>
              <p:cNvPr id="680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1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1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1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14" name="Picture 9"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5" name="Text Box 1"/>
          <p:cNvSpPr/>
          <p:nvPr/>
        </p:nvSpPr>
        <p:spPr>
          <a:xfrm>
            <a:off x="250920" y="1392120"/>
            <a:ext cx="8713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περιπτώσεις που εφαρμόζονται προγράμματα συνύπαρξης μαθητών γενικών και ειδικών τάξεων, η ευθύνη για τους μαθητές με αναπηρία μεταφέρεται από</a:t>
            </a:r>
            <a:br>
              <a:rPr sz="2800"/>
            </a:br>
            <a:r>
              <a:rPr b="0" lang="el-GR" sz="2800" spc="-1" strike="noStrike">
                <a:solidFill>
                  <a:srgbClr val="000000"/>
                </a:solidFill>
                <a:latin typeface="Times New Roman"/>
              </a:rPr>
              <a:t>τον εκπαιδευτικό γενικής εκπαίδευσης στο ειδικό εκπαιδευτικό προσωπικό και εστιάζεται στην προαγωγή ακαδημαϊκών δεξιοτήτων χωρίς να υπάρχει ενδιαφέρον και</a:t>
            </a:r>
            <a:br>
              <a:rPr sz="2800"/>
            </a:br>
            <a:r>
              <a:rPr b="0" lang="el-GR" sz="2800" spc="-1" strike="noStrike">
                <a:solidFill>
                  <a:srgbClr val="000000"/>
                </a:solidFill>
                <a:latin typeface="Times New Roman"/>
              </a:rPr>
              <a:t>προσανατολισμός για την ανάπτυξη μεθόδων και τεχνικών που θα προάγουν την κοινωνική και συναισθηματική ανάπτυξη των συμμετεχόντων μαθητών. </a:t>
            </a:r>
            <a:endParaRPr b="0" lang="en-US" sz="2800" spc="-1" strike="noStrike">
              <a:solidFill>
                <a:srgbClr val="ffffff"/>
              </a:solidFill>
              <a:latin typeface="Times New Roman"/>
            </a:endParaRPr>
          </a:p>
        </p:txBody>
      </p:sp>
      <p:grpSp>
        <p:nvGrpSpPr>
          <p:cNvPr id="6816" name="Group 2"/>
          <p:cNvGrpSpPr/>
          <p:nvPr/>
        </p:nvGrpSpPr>
        <p:grpSpPr>
          <a:xfrm>
            <a:off x="0" y="115920"/>
            <a:ext cx="9140760" cy="6548400"/>
            <a:chOff x="0" y="115920"/>
            <a:chExt cx="9140760" cy="6548400"/>
          </a:xfrm>
        </p:grpSpPr>
        <p:grpSp>
          <p:nvGrpSpPr>
            <p:cNvPr id="6817" name="Group 3"/>
            <p:cNvGrpSpPr/>
            <p:nvPr/>
          </p:nvGrpSpPr>
          <p:grpSpPr>
            <a:xfrm>
              <a:off x="0" y="115920"/>
              <a:ext cx="9140760" cy="6548400"/>
              <a:chOff x="0" y="115920"/>
              <a:chExt cx="9140760" cy="6548400"/>
            </a:xfrm>
          </p:grpSpPr>
          <p:sp>
            <p:nvSpPr>
              <p:cNvPr id="681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2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2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23" name="Picture 9"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4" name="Text Box 1"/>
          <p:cNvSpPr/>
          <p:nvPr/>
        </p:nvSpPr>
        <p:spPr>
          <a:xfrm>
            <a:off x="179280" y="1392120"/>
            <a:ext cx="8713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θέτως, </a:t>
            </a:r>
            <a:r>
              <a:rPr b="1" lang="el-GR" sz="2800" spc="-1" strike="noStrike">
                <a:solidFill>
                  <a:srgbClr val="000000"/>
                </a:solidFill>
                <a:latin typeface="Times New Roman"/>
              </a:rPr>
              <a:t>η εναλλακτική σχολική κουλτούρα </a:t>
            </a:r>
            <a:br>
              <a:rPr sz="2800"/>
            </a:br>
            <a:r>
              <a:rPr b="0" lang="el-GR" sz="2800" spc="-1" strike="noStrike">
                <a:solidFill>
                  <a:srgbClr val="000000"/>
                </a:solidFill>
                <a:latin typeface="Times New Roman"/>
              </a:rPr>
              <a:t>προσπαθεί να αποδίδει ενεργητικό ρόλο </a:t>
            </a:r>
            <a:br>
              <a:rPr sz="2800"/>
            </a:br>
            <a:r>
              <a:rPr b="0" lang="el-GR" sz="2800" spc="-1" strike="noStrike">
                <a:solidFill>
                  <a:srgbClr val="000000"/>
                </a:solidFill>
                <a:latin typeface="Times New Roman"/>
              </a:rPr>
              <a:t>σε κάθε μαθητή ώστε να ανταποκρίνεται </a:t>
            </a:r>
            <a:br>
              <a:rPr sz="2800"/>
            </a:br>
            <a:r>
              <a:rPr b="0" lang="el-GR" sz="2800" spc="-1" strike="noStrike">
                <a:solidFill>
                  <a:srgbClr val="000000"/>
                </a:solidFill>
                <a:latin typeface="Times New Roman"/>
              </a:rPr>
              <a:t>στην εκπαιδευτική διαδικασία </a:t>
            </a:r>
            <a:br>
              <a:rPr sz="2800"/>
            </a:br>
            <a:r>
              <a:rPr b="0" lang="el-GR" sz="2800" spc="-1" strike="noStrike">
                <a:solidFill>
                  <a:srgbClr val="000000"/>
                </a:solidFill>
                <a:latin typeface="Times New Roman"/>
              </a:rPr>
              <a:t>με τους δικούς του ρυθμούς, </a:t>
            </a:r>
            <a:br>
              <a:rPr sz="2800"/>
            </a:br>
            <a:r>
              <a:rPr b="0" lang="el-GR" sz="2800" spc="-1" strike="noStrike">
                <a:solidFill>
                  <a:srgbClr val="000000"/>
                </a:solidFill>
                <a:latin typeface="Times New Roman"/>
              </a:rPr>
              <a:t>ανάλογα με τις ιδιαιτερότητες και τα ταλέντα του.</a:t>
            </a:r>
            <a:endParaRPr b="0" lang="en-US" sz="2800" spc="-1" strike="noStrike">
              <a:solidFill>
                <a:srgbClr val="ffffff"/>
              </a:solidFill>
              <a:latin typeface="Times New Roman"/>
            </a:endParaRPr>
          </a:p>
        </p:txBody>
      </p:sp>
      <p:grpSp>
        <p:nvGrpSpPr>
          <p:cNvPr id="6825" name="Group 2"/>
          <p:cNvGrpSpPr/>
          <p:nvPr/>
        </p:nvGrpSpPr>
        <p:grpSpPr>
          <a:xfrm>
            <a:off x="0" y="115920"/>
            <a:ext cx="9140760" cy="6548400"/>
            <a:chOff x="0" y="115920"/>
            <a:chExt cx="9140760" cy="6548400"/>
          </a:xfrm>
        </p:grpSpPr>
        <p:grpSp>
          <p:nvGrpSpPr>
            <p:cNvPr id="6826" name="Group 3"/>
            <p:cNvGrpSpPr/>
            <p:nvPr/>
          </p:nvGrpSpPr>
          <p:grpSpPr>
            <a:xfrm>
              <a:off x="0" y="115920"/>
              <a:ext cx="9140760" cy="6548400"/>
              <a:chOff x="0" y="115920"/>
              <a:chExt cx="9140760" cy="6548400"/>
            </a:xfrm>
          </p:grpSpPr>
          <p:sp>
            <p:nvSpPr>
              <p:cNvPr id="682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3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32"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8" name="Text Box 1"/>
          <p:cNvSpPr/>
          <p:nvPr/>
        </p:nvSpPr>
        <p:spPr>
          <a:xfrm>
            <a:off x="863640" y="1392120"/>
            <a:ext cx="7812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κουλτούρα μεγιστοποιεί την αφοσίωση των εκπαιδευτικών και όλων όσων εργάζονται στην σχολική μονάδα συμβάλλει στη δημιουργία τρόπων συμπεριφοράς και, τέλος, αυξάνει τη σταθερότητα στο σύστημα του σχολείου </a:t>
            </a:r>
            <a:br>
              <a:rPr sz="2800"/>
            </a:br>
            <a:r>
              <a:rPr b="0" lang="el-GR" sz="2800" spc="-1" strike="noStrike">
                <a:solidFill>
                  <a:srgbClr val="000000"/>
                </a:solidFill>
                <a:latin typeface="Times New Roman"/>
              </a:rPr>
              <a:t>(Κυθραιώτης, Δημητρίου, &amp;, Αντωνίου, 2010). </a:t>
            </a:r>
            <a:endParaRPr b="0" lang="en-US" sz="2800" spc="-1" strike="noStrike">
              <a:solidFill>
                <a:srgbClr val="ffffff"/>
              </a:solidFill>
              <a:latin typeface="Times New Roman"/>
            </a:endParaRPr>
          </a:p>
        </p:txBody>
      </p:sp>
      <p:grpSp>
        <p:nvGrpSpPr>
          <p:cNvPr id="6429" name="Group 2"/>
          <p:cNvGrpSpPr/>
          <p:nvPr/>
        </p:nvGrpSpPr>
        <p:grpSpPr>
          <a:xfrm>
            <a:off x="0" y="115920"/>
            <a:ext cx="9140760" cy="6548400"/>
            <a:chOff x="0" y="115920"/>
            <a:chExt cx="9140760" cy="6548400"/>
          </a:xfrm>
        </p:grpSpPr>
        <p:grpSp>
          <p:nvGrpSpPr>
            <p:cNvPr id="6430" name="Group 3"/>
            <p:cNvGrpSpPr/>
            <p:nvPr/>
          </p:nvGrpSpPr>
          <p:grpSpPr>
            <a:xfrm>
              <a:off x="0" y="115920"/>
              <a:ext cx="9140760" cy="6548400"/>
              <a:chOff x="0" y="115920"/>
              <a:chExt cx="9140760" cy="6548400"/>
            </a:xfrm>
          </p:grpSpPr>
          <p:sp>
            <p:nvSpPr>
              <p:cNvPr id="64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6" name="Picture 9"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3" name="Text Box 1"/>
          <p:cNvSpPr/>
          <p:nvPr/>
        </p:nvSpPr>
        <p:spPr>
          <a:xfrm>
            <a:off x="179280" y="1392120"/>
            <a:ext cx="8713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επιδιώκεται  όλοι οι  μαθητές </a:t>
            </a:r>
            <a:br>
              <a:rPr sz="2800"/>
            </a:br>
            <a:r>
              <a:rPr b="0" lang="el-GR" sz="2800" spc="-1" strike="noStrike">
                <a:solidFill>
                  <a:srgbClr val="000000"/>
                </a:solidFill>
                <a:latin typeface="Times New Roman"/>
              </a:rPr>
              <a:t>να αξιοποιήσουν στο μέγιστο βαθμό τις δυνατότητες τους, ενώ οι μαθητές με ειδικές εκπαιδευτικές ανάγκες λαμβάνουν δημιουργική και ουσιαστική υποστήριξη από το εκπαιδευτικό προσωπικό. </a:t>
            </a:r>
            <a:br>
              <a:rPr sz="2000"/>
            </a:br>
            <a:endParaRPr b="0" lang="en-US" sz="2800" spc="-1" strike="noStrike">
              <a:solidFill>
                <a:srgbClr val="ffffff"/>
              </a:solidFill>
              <a:latin typeface="Times New Roman"/>
            </a:endParaRPr>
          </a:p>
        </p:txBody>
      </p:sp>
      <p:grpSp>
        <p:nvGrpSpPr>
          <p:cNvPr id="6834" name="Group 2"/>
          <p:cNvGrpSpPr/>
          <p:nvPr/>
        </p:nvGrpSpPr>
        <p:grpSpPr>
          <a:xfrm>
            <a:off x="0" y="115920"/>
            <a:ext cx="9140760" cy="6548400"/>
            <a:chOff x="0" y="115920"/>
            <a:chExt cx="9140760" cy="6548400"/>
          </a:xfrm>
        </p:grpSpPr>
        <p:grpSp>
          <p:nvGrpSpPr>
            <p:cNvPr id="6835" name="Group 3"/>
            <p:cNvGrpSpPr/>
            <p:nvPr/>
          </p:nvGrpSpPr>
          <p:grpSpPr>
            <a:xfrm>
              <a:off x="0" y="115920"/>
              <a:ext cx="9140760" cy="6548400"/>
              <a:chOff x="0" y="115920"/>
              <a:chExt cx="9140760" cy="6548400"/>
            </a:xfrm>
          </p:grpSpPr>
          <p:sp>
            <p:nvSpPr>
              <p:cNvPr id="683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3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41" name="Picture 9"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την ανάπτυξη </a:t>
            </a:r>
            <a:r>
              <a:rPr b="1" lang="el-GR" sz="2800" spc="-1" strike="noStrike">
                <a:solidFill>
                  <a:srgbClr val="000000"/>
                </a:solidFill>
                <a:latin typeface="Times New Roman"/>
              </a:rPr>
              <a:t>της εναλλακτικής κουλτούρας </a:t>
            </a:r>
            <a:r>
              <a:rPr b="0" lang="el-GR" sz="2800" spc="-1" strike="noStrike">
                <a:solidFill>
                  <a:srgbClr val="000000"/>
                </a:solidFill>
                <a:latin typeface="Times New Roman"/>
              </a:rPr>
              <a:t>μπορεί να προαχθεί η</a:t>
            </a:r>
            <a:br>
              <a:rPr sz="2800"/>
            </a:br>
            <a:r>
              <a:rPr b="0" lang="el-GR" sz="2800" spc="-1" strike="noStrike">
                <a:solidFill>
                  <a:srgbClr val="000000"/>
                </a:solidFill>
                <a:latin typeface="Times New Roman"/>
              </a:rPr>
              <a:t>κοινωνική διάσταση της ένταξης μέσα σε ένα πλαίσιο σεβασμού και αποδοχής όλων των</a:t>
            </a:r>
            <a:br>
              <a:rPr sz="2800"/>
            </a:br>
            <a:r>
              <a:rPr b="0" lang="el-GR" sz="2800" spc="-1" strike="noStrike">
                <a:solidFill>
                  <a:srgbClr val="000000"/>
                </a:solidFill>
                <a:latin typeface="Times New Roman"/>
              </a:rPr>
              <a:t>μαθητών και των εκπαιδευτικών.</a:t>
            </a:r>
            <a:endParaRPr b="0" lang="en-US" sz="2800" spc="-1" strike="noStrike">
              <a:solidFill>
                <a:srgbClr val="ffffff"/>
              </a:solidFill>
              <a:latin typeface="Times New Roman"/>
            </a:endParaRPr>
          </a:p>
        </p:txBody>
      </p:sp>
      <p:grpSp>
        <p:nvGrpSpPr>
          <p:cNvPr id="6843" name="Group 2"/>
          <p:cNvGrpSpPr/>
          <p:nvPr/>
        </p:nvGrpSpPr>
        <p:grpSpPr>
          <a:xfrm>
            <a:off x="0" y="115920"/>
            <a:ext cx="9140760" cy="6548400"/>
            <a:chOff x="0" y="115920"/>
            <a:chExt cx="9140760" cy="6548400"/>
          </a:xfrm>
        </p:grpSpPr>
        <p:grpSp>
          <p:nvGrpSpPr>
            <p:cNvPr id="6844" name="Group 3"/>
            <p:cNvGrpSpPr/>
            <p:nvPr/>
          </p:nvGrpSpPr>
          <p:grpSpPr>
            <a:xfrm>
              <a:off x="0" y="115920"/>
              <a:ext cx="9140760" cy="6548400"/>
              <a:chOff x="0" y="115920"/>
              <a:chExt cx="9140760" cy="6548400"/>
            </a:xfrm>
          </p:grpSpPr>
          <p:sp>
            <p:nvSpPr>
              <p:cNvPr id="684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4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4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50" name="Picture 9"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1" name="Text Box 1"/>
          <p:cNvSpPr/>
          <p:nvPr/>
        </p:nvSpPr>
        <p:spPr>
          <a:xfrm>
            <a:off x="468360" y="1052640"/>
            <a:ext cx="835164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a:t>
            </a:r>
            <a:br>
              <a:rPr sz="2800"/>
            </a:br>
            <a:r>
              <a:rPr b="0" lang="el-GR" sz="2800" spc="-1" strike="noStrike">
                <a:solidFill>
                  <a:srgbClr val="000000"/>
                </a:solidFill>
                <a:latin typeface="Times New Roman"/>
              </a:rPr>
              <a:t>στο σχολείο, όπου κυρίαρχη </a:t>
            </a:r>
            <a:br>
              <a:rPr sz="2800"/>
            </a:br>
            <a:r>
              <a:rPr b="0" lang="el-GR" sz="2800" spc="-1" strike="noStrike">
                <a:solidFill>
                  <a:srgbClr val="000000"/>
                </a:solidFill>
                <a:latin typeface="Times New Roman"/>
              </a:rPr>
              <a:t>είναι η εναλλακτική κουλτούρα</a:t>
            </a:r>
            <a:br>
              <a:rPr sz="2800"/>
            </a:br>
            <a:r>
              <a:rPr b="0" lang="el-GR" sz="2800" spc="-1" strike="noStrike">
                <a:solidFill>
                  <a:srgbClr val="000000"/>
                </a:solidFill>
                <a:latin typeface="Times New Roman"/>
              </a:rPr>
              <a:t>παρέχονται ευκαιρίες σε εκπαιδευτικούς, μαθητές αλλά και σε ολόκληρη τη σχολική κοινότητα</a:t>
            </a:r>
            <a:br>
              <a:rPr sz="2800"/>
            </a:br>
            <a:r>
              <a:rPr b="0" lang="el-GR" sz="2800" spc="-1" strike="noStrike">
                <a:solidFill>
                  <a:srgbClr val="000000"/>
                </a:solidFill>
                <a:latin typeface="Times New Roman"/>
              </a:rPr>
              <a:t>να συνεργαστούν, να επιλύσουν προβλήματα και να αναπτυχθεί ο σεβασμός του ενός για</a:t>
            </a:r>
            <a:br>
              <a:rPr sz="2800"/>
            </a:br>
            <a:r>
              <a:rPr b="0" lang="el-GR" sz="2800" spc="-1" strike="noStrike">
                <a:solidFill>
                  <a:srgbClr val="000000"/>
                </a:solidFill>
                <a:latin typeface="Times New Roman"/>
              </a:rPr>
              <a:t>τον άλλο, δημιουργώντας νέες δυνατότητες και προοπτικές.</a:t>
            </a:r>
            <a:endParaRPr b="0" lang="en-US" sz="2800" spc="-1" strike="noStrike">
              <a:solidFill>
                <a:srgbClr val="ffffff"/>
              </a:solidFill>
              <a:latin typeface="Times New Roman"/>
            </a:endParaRPr>
          </a:p>
        </p:txBody>
      </p:sp>
      <p:grpSp>
        <p:nvGrpSpPr>
          <p:cNvPr id="6852" name="Group 2"/>
          <p:cNvGrpSpPr/>
          <p:nvPr/>
        </p:nvGrpSpPr>
        <p:grpSpPr>
          <a:xfrm>
            <a:off x="0" y="115920"/>
            <a:ext cx="9140760" cy="6548400"/>
            <a:chOff x="0" y="115920"/>
            <a:chExt cx="9140760" cy="6548400"/>
          </a:xfrm>
        </p:grpSpPr>
        <p:grpSp>
          <p:nvGrpSpPr>
            <p:cNvPr id="6853" name="Group 3"/>
            <p:cNvGrpSpPr/>
            <p:nvPr/>
          </p:nvGrpSpPr>
          <p:grpSpPr>
            <a:xfrm>
              <a:off x="0" y="115920"/>
              <a:ext cx="9140760" cy="6548400"/>
              <a:chOff x="0" y="115920"/>
              <a:chExt cx="9140760" cy="6548400"/>
            </a:xfrm>
          </p:grpSpPr>
          <p:sp>
            <p:nvSpPr>
              <p:cNvPr id="685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5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5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5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59" name="Picture 9"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0" name="Text Box 1"/>
          <p:cNvSpPr/>
          <p:nvPr/>
        </p:nvSpPr>
        <p:spPr>
          <a:xfrm>
            <a:off x="468360" y="1052640"/>
            <a:ext cx="835164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ια τέτοια προσέγγιση </a:t>
            </a:r>
            <a:br>
              <a:rPr sz="2800"/>
            </a:br>
            <a:r>
              <a:rPr b="0" lang="el-GR" sz="2800" spc="-1" strike="noStrike">
                <a:solidFill>
                  <a:srgbClr val="000000"/>
                </a:solidFill>
                <a:latin typeface="Times New Roman"/>
              </a:rPr>
              <a:t>απαιτεί ουσιαστική ανακατασκευή και </a:t>
            </a:r>
            <a:br>
              <a:rPr sz="2800"/>
            </a:br>
            <a:r>
              <a:rPr b="0" lang="el-GR" sz="2800" spc="-1" strike="noStrike">
                <a:solidFill>
                  <a:srgbClr val="000000"/>
                </a:solidFill>
                <a:latin typeface="Times New Roman"/>
              </a:rPr>
              <a:t>αναδόμηση των υπαρχουσών</a:t>
            </a:r>
            <a:br>
              <a:rPr sz="2800"/>
            </a:br>
            <a:r>
              <a:rPr b="0" lang="el-GR" sz="2800" spc="-1" strike="noStrike">
                <a:solidFill>
                  <a:srgbClr val="000000"/>
                </a:solidFill>
                <a:latin typeface="Times New Roman"/>
              </a:rPr>
              <a:t>σχέσεων, αντιλήψεων και πρακτικών.</a:t>
            </a:r>
            <a:endParaRPr b="0" lang="en-US" sz="2800" spc="-1" strike="noStrike">
              <a:solidFill>
                <a:srgbClr val="ffffff"/>
              </a:solidFill>
              <a:latin typeface="Times New Roman"/>
            </a:endParaRPr>
          </a:p>
        </p:txBody>
      </p:sp>
      <p:grpSp>
        <p:nvGrpSpPr>
          <p:cNvPr id="6861" name="Group 2"/>
          <p:cNvGrpSpPr/>
          <p:nvPr/>
        </p:nvGrpSpPr>
        <p:grpSpPr>
          <a:xfrm>
            <a:off x="0" y="115920"/>
            <a:ext cx="9140760" cy="6548400"/>
            <a:chOff x="0" y="115920"/>
            <a:chExt cx="9140760" cy="6548400"/>
          </a:xfrm>
        </p:grpSpPr>
        <p:grpSp>
          <p:nvGrpSpPr>
            <p:cNvPr id="6862" name="Group 3"/>
            <p:cNvGrpSpPr/>
            <p:nvPr/>
          </p:nvGrpSpPr>
          <p:grpSpPr>
            <a:xfrm>
              <a:off x="0" y="115920"/>
              <a:ext cx="9140760" cy="6548400"/>
              <a:chOff x="0" y="115920"/>
              <a:chExt cx="9140760" cy="6548400"/>
            </a:xfrm>
          </p:grpSpPr>
          <p:sp>
            <p:nvSpPr>
              <p:cNvPr id="686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6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6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6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68" name="Picture 9"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9" name="Text Box 1"/>
          <p:cNvSpPr/>
          <p:nvPr/>
        </p:nvSpPr>
        <p:spPr>
          <a:xfrm>
            <a:off x="468360" y="1052640"/>
            <a:ext cx="835164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το σχολείο έχει ως προτεραιότητα να</a:t>
            </a:r>
            <a:br>
              <a:rPr sz="2800"/>
            </a:br>
            <a:r>
              <a:rPr b="0" lang="el-GR" sz="2800" spc="-1" strike="noStrike">
                <a:solidFill>
                  <a:srgbClr val="000000"/>
                </a:solidFill>
                <a:latin typeface="Times New Roman"/>
              </a:rPr>
              <a:t>ετοιμάζει τον μαθητή για την ενεργό σχολική του συμμετοχή, τον καλεί να συμμετέχει</a:t>
            </a:r>
            <a:br>
              <a:rPr sz="2800"/>
            </a:br>
            <a:r>
              <a:rPr b="0" lang="el-GR" sz="2800" spc="-1" strike="noStrike">
                <a:solidFill>
                  <a:srgbClr val="000000"/>
                </a:solidFill>
                <a:latin typeface="Times New Roman"/>
              </a:rPr>
              <a:t>στη σχολική καθημερινότητα, να επικοινωνεί, να σχεδιάζει, να οργανώνει και να</a:t>
            </a:r>
            <a:br>
              <a:rPr sz="2800"/>
            </a:br>
            <a:r>
              <a:rPr b="0" lang="el-GR" sz="2800" spc="-1" strike="noStrike">
                <a:solidFill>
                  <a:srgbClr val="000000"/>
                </a:solidFill>
                <a:latin typeface="Times New Roman"/>
              </a:rPr>
              <a:t>προτείνει τόσο σε ατομικό όσο και σε ομαδικό επίπεδο . </a:t>
            </a:r>
            <a:endParaRPr b="0" lang="en-US" sz="2800" spc="-1" strike="noStrike">
              <a:solidFill>
                <a:srgbClr val="ffffff"/>
              </a:solidFill>
              <a:latin typeface="Times New Roman"/>
            </a:endParaRPr>
          </a:p>
        </p:txBody>
      </p:sp>
      <p:grpSp>
        <p:nvGrpSpPr>
          <p:cNvPr id="6870" name="Group 2"/>
          <p:cNvGrpSpPr/>
          <p:nvPr/>
        </p:nvGrpSpPr>
        <p:grpSpPr>
          <a:xfrm>
            <a:off x="0" y="115920"/>
            <a:ext cx="9140760" cy="6548400"/>
            <a:chOff x="0" y="115920"/>
            <a:chExt cx="9140760" cy="6548400"/>
          </a:xfrm>
        </p:grpSpPr>
        <p:grpSp>
          <p:nvGrpSpPr>
            <p:cNvPr id="6871" name="Group 3"/>
            <p:cNvGrpSpPr/>
            <p:nvPr/>
          </p:nvGrpSpPr>
          <p:grpSpPr>
            <a:xfrm>
              <a:off x="0" y="115920"/>
              <a:ext cx="9140760" cy="6548400"/>
              <a:chOff x="0" y="115920"/>
              <a:chExt cx="9140760" cy="6548400"/>
            </a:xfrm>
          </p:grpSpPr>
          <p:sp>
            <p:nvSpPr>
              <p:cNvPr id="687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7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7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7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77" name="Picture 9"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8" name="Text Box 1"/>
          <p:cNvSpPr/>
          <p:nvPr/>
        </p:nvSpPr>
        <p:spPr>
          <a:xfrm>
            <a:off x="468360" y="1052640"/>
            <a:ext cx="835164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χουν καταγραφεί(στη βιβλιογραφία) και αναφερθεί </a:t>
            </a:r>
            <a:br>
              <a:rPr sz="2800"/>
            </a:br>
            <a:r>
              <a:rPr b="0" lang="el-GR" sz="2800" spc="-1" strike="noStrike">
                <a:solidFill>
                  <a:srgbClr val="000000"/>
                </a:solidFill>
                <a:latin typeface="Times New Roman"/>
              </a:rPr>
              <a:t>τρεις αρχές απαραίτητες για τη εγκαθίδρυση της σχολικής κουλτούρας που</a:t>
            </a:r>
            <a:br>
              <a:rPr sz="2800"/>
            </a:br>
            <a:r>
              <a:rPr b="0" lang="el-GR" sz="2800" spc="-1" strike="noStrike">
                <a:solidFill>
                  <a:srgbClr val="000000"/>
                </a:solidFill>
                <a:latin typeface="Times New Roman"/>
              </a:rPr>
              <a:t>προωθεί την κοινωνική ένταξη των μαθητών με αναπηρία εντός του σχολικού πλαισίου:</a:t>
            </a:r>
            <a:endParaRPr b="0" lang="en-US" sz="2800" spc="-1" strike="noStrike">
              <a:solidFill>
                <a:srgbClr val="ffffff"/>
              </a:solidFill>
              <a:latin typeface="Times New Roman"/>
            </a:endParaRPr>
          </a:p>
        </p:txBody>
      </p:sp>
      <p:grpSp>
        <p:nvGrpSpPr>
          <p:cNvPr id="6879" name="Group 2"/>
          <p:cNvGrpSpPr/>
          <p:nvPr/>
        </p:nvGrpSpPr>
        <p:grpSpPr>
          <a:xfrm>
            <a:off x="0" y="115920"/>
            <a:ext cx="9140760" cy="6548400"/>
            <a:chOff x="0" y="115920"/>
            <a:chExt cx="9140760" cy="6548400"/>
          </a:xfrm>
        </p:grpSpPr>
        <p:grpSp>
          <p:nvGrpSpPr>
            <p:cNvPr id="6880" name="Group 3"/>
            <p:cNvGrpSpPr/>
            <p:nvPr/>
          </p:nvGrpSpPr>
          <p:grpSpPr>
            <a:xfrm>
              <a:off x="0" y="115920"/>
              <a:ext cx="9140760" cy="6548400"/>
              <a:chOff x="0" y="115920"/>
              <a:chExt cx="9140760" cy="6548400"/>
            </a:xfrm>
          </p:grpSpPr>
          <p:sp>
            <p:nvSpPr>
              <p:cNvPr id="688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8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8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8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86" name="Picture 9"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7"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η δέσμευση των εμπλεκομένων στις αρχές της ένταξης που αντανακλάται στις καθημερινές πρακτικές του.</a:t>
            </a:r>
            <a:br>
              <a:rPr sz="2800"/>
            </a:br>
            <a:br>
              <a:rPr sz="2800"/>
            </a:br>
            <a:r>
              <a:rPr b="0" lang="el-GR" sz="2800" spc="-1" strike="noStrike">
                <a:solidFill>
                  <a:srgbClr val="000000"/>
                </a:solidFill>
                <a:latin typeface="Times New Roman"/>
              </a:rPr>
              <a:t> β) η εστίαση στις διαφορετικές ανάγκες των μαθητών που</a:t>
            </a:r>
            <a:br>
              <a:rPr sz="2800"/>
            </a:br>
            <a:r>
              <a:rPr b="0" lang="el-GR" sz="2800" spc="-1" strike="noStrike">
                <a:solidFill>
                  <a:srgbClr val="000000"/>
                </a:solidFill>
                <a:latin typeface="Times New Roman"/>
              </a:rPr>
              <a:t>επιχειρείται με ευέλικτα προγράμματα σπουδών, καινοτόμα και προσαρμοσμένα στο</a:t>
            </a:r>
            <a:br>
              <a:rPr sz="2800"/>
            </a:br>
            <a:r>
              <a:rPr b="0" lang="el-GR" sz="2800" spc="-1" strike="noStrike">
                <a:solidFill>
                  <a:srgbClr val="000000"/>
                </a:solidFill>
                <a:latin typeface="Times New Roman"/>
              </a:rPr>
              <a:t>δυναμικό της κάθε τάξης, τα οποία προάγουν την αίσθηση   της συνεργασίας και το ομαδικό πνεύμα και </a:t>
            </a:r>
            <a:br>
              <a:rPr sz="2800"/>
            </a:br>
            <a:endParaRPr b="0" lang="en-US" sz="2800" spc="-1" strike="noStrike">
              <a:solidFill>
                <a:srgbClr val="ffffff"/>
              </a:solidFill>
              <a:latin typeface="Times New Roman"/>
            </a:endParaRPr>
          </a:p>
        </p:txBody>
      </p:sp>
      <p:grpSp>
        <p:nvGrpSpPr>
          <p:cNvPr id="6888" name="Group 2"/>
          <p:cNvGrpSpPr/>
          <p:nvPr/>
        </p:nvGrpSpPr>
        <p:grpSpPr>
          <a:xfrm>
            <a:off x="0" y="115920"/>
            <a:ext cx="9140760" cy="6548400"/>
            <a:chOff x="0" y="115920"/>
            <a:chExt cx="9140760" cy="6548400"/>
          </a:xfrm>
        </p:grpSpPr>
        <p:grpSp>
          <p:nvGrpSpPr>
            <p:cNvPr id="6889" name="Group 3"/>
            <p:cNvGrpSpPr/>
            <p:nvPr/>
          </p:nvGrpSpPr>
          <p:grpSpPr>
            <a:xfrm>
              <a:off x="0" y="115920"/>
              <a:ext cx="9140760" cy="6548400"/>
              <a:chOff x="0" y="115920"/>
              <a:chExt cx="9140760" cy="6548400"/>
            </a:xfrm>
          </p:grpSpPr>
          <p:sp>
            <p:nvSpPr>
              <p:cNvPr id="689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9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9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9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95" name="Picture 9"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6"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γ) η εστίαση όχι μόνο στη γνωστική αλλά και</a:t>
            </a:r>
            <a:br>
              <a:rPr sz="2800"/>
            </a:br>
            <a:r>
              <a:rPr b="0" lang="el-GR" sz="2800" spc="-1" strike="noStrike">
                <a:solidFill>
                  <a:srgbClr val="000000"/>
                </a:solidFill>
                <a:latin typeface="Times New Roman"/>
              </a:rPr>
              <a:t>στην κοινωνική και συναισθηματική ανάπτυξη των μαθητών.</a:t>
            </a:r>
            <a:endParaRPr b="0" lang="en-US" sz="2800" spc="-1" strike="noStrike">
              <a:solidFill>
                <a:srgbClr val="ffffff"/>
              </a:solidFill>
              <a:latin typeface="Times New Roman"/>
            </a:endParaRPr>
          </a:p>
        </p:txBody>
      </p:sp>
      <p:grpSp>
        <p:nvGrpSpPr>
          <p:cNvPr id="6897" name="Group 2"/>
          <p:cNvGrpSpPr/>
          <p:nvPr/>
        </p:nvGrpSpPr>
        <p:grpSpPr>
          <a:xfrm>
            <a:off x="0" y="115920"/>
            <a:ext cx="9140760" cy="6548400"/>
            <a:chOff x="0" y="115920"/>
            <a:chExt cx="9140760" cy="6548400"/>
          </a:xfrm>
        </p:grpSpPr>
        <p:grpSp>
          <p:nvGrpSpPr>
            <p:cNvPr id="6898" name="Group 3"/>
            <p:cNvGrpSpPr/>
            <p:nvPr/>
          </p:nvGrpSpPr>
          <p:grpSpPr>
            <a:xfrm>
              <a:off x="0" y="115920"/>
              <a:ext cx="9140760" cy="6548400"/>
              <a:chOff x="0" y="115920"/>
              <a:chExt cx="9140760" cy="6548400"/>
            </a:xfrm>
          </p:grpSpPr>
          <p:sp>
            <p:nvSpPr>
              <p:cNvPr id="689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0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0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0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04" name="Picture 9"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5" name="Text Box 1"/>
          <p:cNvSpPr/>
          <p:nvPr/>
        </p:nvSpPr>
        <p:spPr>
          <a:xfrm>
            <a:off x="250920" y="1052640"/>
            <a:ext cx="820872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σημαντικό να δίνεται </a:t>
            </a:r>
            <a:br>
              <a:rPr sz="2800"/>
            </a:br>
            <a:r>
              <a:rPr b="0" lang="el-GR" sz="2800" spc="-1" strike="noStrike">
                <a:solidFill>
                  <a:srgbClr val="000000"/>
                </a:solidFill>
                <a:latin typeface="Times New Roman"/>
              </a:rPr>
              <a:t>η δυνατότητα σε κάθε σχολείο </a:t>
            </a:r>
            <a:br>
              <a:rPr sz="2800"/>
            </a:br>
            <a:r>
              <a:rPr b="0" lang="el-GR" sz="2800" spc="-1" strike="noStrike">
                <a:solidFill>
                  <a:srgbClr val="000000"/>
                </a:solidFill>
                <a:latin typeface="Times New Roman"/>
              </a:rPr>
              <a:t>να αναπτύξει δικούς του ρυθμούς </a:t>
            </a:r>
            <a:br>
              <a:rPr sz="2800"/>
            </a:br>
            <a:r>
              <a:rPr b="0" lang="el-GR" sz="2800" spc="-1" strike="noStrike">
                <a:solidFill>
                  <a:srgbClr val="000000"/>
                </a:solidFill>
                <a:latin typeface="Times New Roman"/>
              </a:rPr>
              <a:t>και τους δικούς του κώδικες επικοινωνίας </a:t>
            </a:r>
            <a:br>
              <a:rPr sz="2800"/>
            </a:br>
            <a:r>
              <a:rPr b="0" lang="el-GR" sz="2800" spc="-1" strike="noStrike">
                <a:solidFill>
                  <a:srgbClr val="000000"/>
                </a:solidFill>
                <a:latin typeface="Times New Roman"/>
              </a:rPr>
              <a:t>με τους μαθητές και τους γονείς.</a:t>
            </a:r>
            <a:br>
              <a:rPr sz="2800"/>
            </a:br>
            <a:br>
              <a:rPr sz="2800"/>
            </a:br>
            <a:endParaRPr b="0" lang="en-US" sz="2800" spc="-1" strike="noStrike">
              <a:solidFill>
                <a:srgbClr val="ffffff"/>
              </a:solidFill>
              <a:latin typeface="Times New Roman"/>
            </a:endParaRPr>
          </a:p>
        </p:txBody>
      </p:sp>
      <p:grpSp>
        <p:nvGrpSpPr>
          <p:cNvPr id="6906" name="Group 2"/>
          <p:cNvGrpSpPr/>
          <p:nvPr/>
        </p:nvGrpSpPr>
        <p:grpSpPr>
          <a:xfrm>
            <a:off x="0" y="115920"/>
            <a:ext cx="9140760" cy="6548400"/>
            <a:chOff x="0" y="115920"/>
            <a:chExt cx="9140760" cy="6548400"/>
          </a:xfrm>
        </p:grpSpPr>
        <p:grpSp>
          <p:nvGrpSpPr>
            <p:cNvPr id="6907" name="Group 3"/>
            <p:cNvGrpSpPr/>
            <p:nvPr/>
          </p:nvGrpSpPr>
          <p:grpSpPr>
            <a:xfrm>
              <a:off x="0" y="115920"/>
              <a:ext cx="9140760" cy="6548400"/>
              <a:chOff x="0" y="115920"/>
              <a:chExt cx="9140760" cy="6548400"/>
            </a:xfrm>
          </p:grpSpPr>
          <p:sp>
            <p:nvSpPr>
              <p:cNvPr id="690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1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1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1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13" name="Picture 9"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4"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πίπεδα κουλτούρας </a:t>
            </a:r>
            <a:br>
              <a:rPr sz="2800"/>
            </a:br>
            <a:br>
              <a:rPr sz="2800"/>
            </a:br>
            <a:r>
              <a:rPr b="0" lang="el-GR" sz="2800" spc="-1" strike="noStrike">
                <a:solidFill>
                  <a:srgbClr val="000000"/>
                </a:solidFill>
                <a:latin typeface="Times New Roman"/>
              </a:rPr>
              <a:t>Σύμφωνα με τον Schein (1985), υπάρχουν </a:t>
            </a:r>
            <a:br>
              <a:rPr sz="2800"/>
            </a:br>
            <a:r>
              <a:rPr b="0" lang="el-GR" sz="2800" spc="-1" strike="noStrike">
                <a:solidFill>
                  <a:srgbClr val="000000"/>
                </a:solidFill>
                <a:latin typeface="Times New Roman"/>
              </a:rPr>
              <a:t>τρία επίπεδα κουλτούρας. </a:t>
            </a:r>
            <a:br>
              <a:rPr sz="2800"/>
            </a:br>
            <a:r>
              <a:rPr b="1" lang="el-GR" sz="2800" spc="-1" strike="noStrike">
                <a:solidFill>
                  <a:srgbClr val="000000"/>
                </a:solidFill>
                <a:latin typeface="Times New Roman"/>
              </a:rPr>
              <a:t>Το πρώτο επίπεδο της κουλτούρας περιλαμβάνει ορατά χαρακτηριστικά του φυσικού περιβάλλοντος του οργανισμού (artifacts), αλλά και νόρμες συμπεριφοράς (norms), </a:t>
            </a:r>
            <a:r>
              <a:rPr b="0" lang="el-GR" sz="2800" spc="-1" strike="noStrike">
                <a:solidFill>
                  <a:srgbClr val="000000"/>
                </a:solidFill>
                <a:latin typeface="Times New Roman"/>
              </a:rPr>
              <a:t>που βοηθούν τα άτομα σε έναν οργανισμό να αντιληφθούν τις διάφορες πλευρές της ζωής και της λειτουργίας του οργανισμού . </a:t>
            </a:r>
            <a:endParaRPr b="0" lang="en-US" sz="2800" spc="-1" strike="noStrike">
              <a:solidFill>
                <a:srgbClr val="ffffff"/>
              </a:solidFill>
              <a:latin typeface="Times New Roman"/>
            </a:endParaRPr>
          </a:p>
        </p:txBody>
      </p:sp>
      <p:grpSp>
        <p:nvGrpSpPr>
          <p:cNvPr id="6915" name="Group 2"/>
          <p:cNvGrpSpPr/>
          <p:nvPr/>
        </p:nvGrpSpPr>
        <p:grpSpPr>
          <a:xfrm>
            <a:off x="0" y="115920"/>
            <a:ext cx="9140760" cy="6548400"/>
            <a:chOff x="0" y="115920"/>
            <a:chExt cx="9140760" cy="6548400"/>
          </a:xfrm>
        </p:grpSpPr>
        <p:grpSp>
          <p:nvGrpSpPr>
            <p:cNvPr id="6916" name="Group 3"/>
            <p:cNvGrpSpPr/>
            <p:nvPr/>
          </p:nvGrpSpPr>
          <p:grpSpPr>
            <a:xfrm>
              <a:off x="0" y="115920"/>
              <a:ext cx="9140760" cy="6548400"/>
              <a:chOff x="0" y="115920"/>
              <a:chExt cx="9140760" cy="6548400"/>
            </a:xfrm>
          </p:grpSpPr>
          <p:sp>
            <p:nvSpPr>
              <p:cNvPr id="691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1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2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2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22"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7" name="Text Box 1"/>
          <p:cNvSpPr/>
          <p:nvPr/>
        </p:nvSpPr>
        <p:spPr>
          <a:xfrm>
            <a:off x="468360" y="907920"/>
            <a:ext cx="8424720" cy="48769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Αθανασούλα-Ρέππα (1999) </a:t>
            </a:r>
            <a:br>
              <a:rPr sz="2800"/>
            </a:br>
            <a:r>
              <a:rPr b="0" lang="el-GR" sz="2800" spc="-1" strike="noStrike">
                <a:solidFill>
                  <a:srgbClr val="000000"/>
                </a:solidFill>
                <a:latin typeface="Times New Roman"/>
              </a:rPr>
              <a:t>η κουλτούρα σε ένα σχολικό πλαίσιο μπορεί :</a:t>
            </a:r>
            <a:br>
              <a:rPr sz="2800"/>
            </a:br>
            <a:r>
              <a:rPr b="0" i="1" lang="el-GR" sz="2800" spc="-1" strike="noStrike">
                <a:solidFill>
                  <a:srgbClr val="000000"/>
                </a:solidFill>
                <a:latin typeface="Times New Roman"/>
              </a:rPr>
              <a:t>να δημιουργεί μια θετική προδιάθεση ή μια απώθηση, </a:t>
            </a:r>
            <a:br>
              <a:rPr sz="2800"/>
            </a:br>
            <a:r>
              <a:rPr b="0" i="1" lang="el-GR" sz="2800" spc="-1" strike="noStrike">
                <a:solidFill>
                  <a:srgbClr val="000000"/>
                </a:solidFill>
                <a:latin typeface="Times New Roman"/>
              </a:rPr>
              <a:t>να αντανακλά το αίσθημα της δημιουργίας </a:t>
            </a:r>
            <a:br>
              <a:rPr sz="2800"/>
            </a:br>
            <a:r>
              <a:rPr b="0" i="1" lang="el-GR" sz="2800" spc="-1" strike="noStrike">
                <a:solidFill>
                  <a:srgbClr val="000000"/>
                </a:solidFill>
                <a:latin typeface="Times New Roman"/>
              </a:rPr>
              <a:t>και της καινοτομίας </a:t>
            </a:r>
            <a:br>
              <a:rPr sz="2800"/>
            </a:br>
            <a:r>
              <a:rPr b="0" i="1" lang="el-GR" sz="2800" spc="-1" strike="noStrike">
                <a:solidFill>
                  <a:srgbClr val="000000"/>
                </a:solidFill>
                <a:latin typeface="Times New Roman"/>
              </a:rPr>
              <a:t>ή της παρακμής και της φθοράς, </a:t>
            </a:r>
            <a:br>
              <a:rPr sz="2800"/>
            </a:br>
            <a:r>
              <a:rPr b="0" i="1" lang="el-GR" sz="2800" spc="-1" strike="noStrike">
                <a:solidFill>
                  <a:srgbClr val="000000"/>
                </a:solidFill>
                <a:latin typeface="Times New Roman"/>
              </a:rPr>
              <a:t>να αποπνέει μία αίσθηση διαρκούς ετοιμότητας και αμοιβαίου σεβασμού </a:t>
            </a:r>
            <a:br>
              <a:rPr sz="2800"/>
            </a:br>
            <a:r>
              <a:rPr b="0" i="1" lang="el-GR" sz="2800" spc="-1" strike="noStrike">
                <a:solidFill>
                  <a:srgbClr val="000000"/>
                </a:solidFill>
                <a:latin typeface="Times New Roman"/>
              </a:rPr>
              <a:t>ή στασιμότητα και αδιαφορία μεταξύ των μελών </a:t>
            </a:r>
            <a:endParaRPr b="0" lang="en-US" sz="2800" spc="-1" strike="noStrike">
              <a:solidFill>
                <a:srgbClr val="ffffff"/>
              </a:solidFill>
              <a:latin typeface="Times New Roman"/>
            </a:endParaRPr>
          </a:p>
        </p:txBody>
      </p:sp>
      <p:grpSp>
        <p:nvGrpSpPr>
          <p:cNvPr id="6438" name="Group 2"/>
          <p:cNvGrpSpPr/>
          <p:nvPr/>
        </p:nvGrpSpPr>
        <p:grpSpPr>
          <a:xfrm>
            <a:off x="0" y="115920"/>
            <a:ext cx="9140760" cy="6548400"/>
            <a:chOff x="0" y="115920"/>
            <a:chExt cx="9140760" cy="6548400"/>
          </a:xfrm>
        </p:grpSpPr>
        <p:grpSp>
          <p:nvGrpSpPr>
            <p:cNvPr id="6439" name="Group 3"/>
            <p:cNvGrpSpPr/>
            <p:nvPr/>
          </p:nvGrpSpPr>
          <p:grpSpPr>
            <a:xfrm>
              <a:off x="0" y="115920"/>
              <a:ext cx="9140760" cy="6548400"/>
              <a:chOff x="0" y="115920"/>
              <a:chExt cx="9140760" cy="6548400"/>
            </a:xfrm>
          </p:grpSpPr>
          <p:sp>
            <p:nvSpPr>
              <p:cNvPr id="64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5" name="Picture 9"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3"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αδείγματα οπτικών ή υλικών μέσων μπορεί να είναι η αρχιτεκτονική του κτιρίου, ο εξοπλισμός, η στολή (Ράπτη &amp; Βιτσιλάκη, 2007). Η διάσταση των οπτικών μέσων ονομάζεται και εξωτερική διάσταση της κουλτούρας, η οποία δημιουργεί μια υλική και αισθητική ταυτότητα του χώρου (Ρες, 2007). Σαφέστατα τα πρότυπα μπορεί να είναι η υποστήριξη προς τους συναδέλφους ή μη κριτική προς τον διευθυντή, η γνωριμία με νέους συναδέλφους, </a:t>
            </a:r>
            <a:br>
              <a:rPr sz="2800"/>
            </a:br>
            <a:r>
              <a:rPr b="0" lang="el-GR" sz="2800" spc="-1" strike="noStrike">
                <a:solidFill>
                  <a:srgbClr val="000000"/>
                </a:solidFill>
                <a:latin typeface="Times New Roman"/>
              </a:rPr>
              <a:t>ο χειρισμός προβλημάτων πειθαρχίας, </a:t>
            </a:r>
            <a:br>
              <a:rPr sz="2800"/>
            </a:br>
            <a:r>
              <a:rPr b="0" lang="el-GR" sz="2800" spc="-1" strike="noStrike">
                <a:solidFill>
                  <a:srgbClr val="000000"/>
                </a:solidFill>
                <a:latin typeface="Times New Roman"/>
              </a:rPr>
              <a:t>η βοήθεια προς τους μαθητές κ.ά. </a:t>
            </a:r>
            <a:endParaRPr b="0" lang="en-US" sz="2800" spc="-1" strike="noStrike">
              <a:solidFill>
                <a:srgbClr val="ffffff"/>
              </a:solidFill>
              <a:latin typeface="Times New Roman"/>
            </a:endParaRPr>
          </a:p>
        </p:txBody>
      </p:sp>
      <p:grpSp>
        <p:nvGrpSpPr>
          <p:cNvPr id="6924" name="Group 2"/>
          <p:cNvGrpSpPr/>
          <p:nvPr/>
        </p:nvGrpSpPr>
        <p:grpSpPr>
          <a:xfrm>
            <a:off x="0" y="115920"/>
            <a:ext cx="9140760" cy="6548400"/>
            <a:chOff x="0" y="115920"/>
            <a:chExt cx="9140760" cy="6548400"/>
          </a:xfrm>
        </p:grpSpPr>
        <p:grpSp>
          <p:nvGrpSpPr>
            <p:cNvPr id="6925" name="Group 3"/>
            <p:cNvGrpSpPr/>
            <p:nvPr/>
          </p:nvGrpSpPr>
          <p:grpSpPr>
            <a:xfrm>
              <a:off x="0" y="115920"/>
              <a:ext cx="9140760" cy="6548400"/>
              <a:chOff x="0" y="115920"/>
              <a:chExt cx="9140760" cy="6548400"/>
            </a:xfrm>
          </p:grpSpPr>
          <p:sp>
            <p:nvSpPr>
              <p:cNvPr id="692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2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2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31" name="Picture 9"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2"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ο δεύτερο επίπεδο τοποθετείται ένα σύστημα κοινών αξιών που θα μπορούσαν να χαρακτηριστούν ως οι επιδιώξεις του οργανισμού</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Οι αξίες (values) αποτελούν αιτιολόγηση των συμπεριφορών που παρουσιάζουν τα μέλη του οργανισμού στο πιο επιφανειακό πρώτο επίπεδο . Άρα οι αξίες είναι οι στρατηγικές, οι στόχοι και οι φιλοσοφίες σύμφωνα με τις επιθυμίες των μελών του οργανισμού, που βρίσκονται σε ένα λιγότερο και επιφανειακό επίπεδο. </a:t>
            </a:r>
            <a:endParaRPr b="0" lang="en-US" sz="2800" spc="-1" strike="noStrike">
              <a:solidFill>
                <a:srgbClr val="ffffff"/>
              </a:solidFill>
              <a:latin typeface="Times New Roman"/>
            </a:endParaRPr>
          </a:p>
        </p:txBody>
      </p:sp>
      <p:grpSp>
        <p:nvGrpSpPr>
          <p:cNvPr id="6933" name="Group 2"/>
          <p:cNvGrpSpPr/>
          <p:nvPr/>
        </p:nvGrpSpPr>
        <p:grpSpPr>
          <a:xfrm>
            <a:off x="0" y="115920"/>
            <a:ext cx="9140760" cy="6548400"/>
            <a:chOff x="0" y="115920"/>
            <a:chExt cx="9140760" cy="6548400"/>
          </a:xfrm>
        </p:grpSpPr>
        <p:grpSp>
          <p:nvGrpSpPr>
            <p:cNvPr id="6934" name="Group 3"/>
            <p:cNvGrpSpPr/>
            <p:nvPr/>
          </p:nvGrpSpPr>
          <p:grpSpPr>
            <a:xfrm>
              <a:off x="0" y="115920"/>
              <a:ext cx="9140760" cy="6548400"/>
              <a:chOff x="0" y="115920"/>
              <a:chExt cx="9140760" cy="6548400"/>
            </a:xfrm>
          </p:grpSpPr>
          <p:sp>
            <p:nvSpPr>
              <p:cNvPr id="693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3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3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40" name="Picture 9"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1"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ύπαρξη κοινών αξιών, όπως συνεργασία, εμπιστοσύνη, ομαδική εργασία, ειλικρίνεια, οικειότητα, έλεγχος κ.λπ., επηρεάζουν τη συμπεριφορά των μελών σε ένα σχολικό φορέα, τα οποία γνωρίζοντας τι είναι επιθυμητό προσπαθούν να μετασχηματίζουν τις αξίες σε νόρμες συμπεριφοράς. </a:t>
            </a:r>
            <a:endParaRPr b="0" lang="en-US" sz="2800" spc="-1" strike="noStrike">
              <a:solidFill>
                <a:srgbClr val="ffffff"/>
              </a:solidFill>
              <a:latin typeface="Times New Roman"/>
            </a:endParaRPr>
          </a:p>
        </p:txBody>
      </p:sp>
      <p:grpSp>
        <p:nvGrpSpPr>
          <p:cNvPr id="6942" name="Group 2"/>
          <p:cNvGrpSpPr/>
          <p:nvPr/>
        </p:nvGrpSpPr>
        <p:grpSpPr>
          <a:xfrm>
            <a:off x="0" y="115920"/>
            <a:ext cx="9140760" cy="6548400"/>
            <a:chOff x="0" y="115920"/>
            <a:chExt cx="9140760" cy="6548400"/>
          </a:xfrm>
        </p:grpSpPr>
        <p:grpSp>
          <p:nvGrpSpPr>
            <p:cNvPr id="6943" name="Group 3"/>
            <p:cNvGrpSpPr/>
            <p:nvPr/>
          </p:nvGrpSpPr>
          <p:grpSpPr>
            <a:xfrm>
              <a:off x="0" y="115920"/>
              <a:ext cx="9140760" cy="6548400"/>
              <a:chOff x="0" y="115920"/>
              <a:chExt cx="9140760" cy="6548400"/>
            </a:xfrm>
          </p:grpSpPr>
          <p:sp>
            <p:nvSpPr>
              <p:cNvPr id="694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4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4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49" name="Picture 9"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0"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ο βαθύτερο και πιο αφηρημένο τρίτο επίπεδο </a:t>
            </a:r>
            <a:r>
              <a:rPr b="0" lang="el-GR" sz="2800" spc="-1" strike="noStrike">
                <a:solidFill>
                  <a:srgbClr val="000000"/>
                </a:solidFill>
                <a:latin typeface="Times New Roman"/>
              </a:rPr>
              <a:t>βρίσκονται οι μη συνειδητές, αφηρημένες πεποιθήσεις, αντιλήψεις, σκέψεις και αισθήματα των μελών του οργανισμού, που σχετίζονται με την ανθρώπινη φύση, </a:t>
            </a:r>
            <a:br>
              <a:rPr sz="2800"/>
            </a:br>
            <a:r>
              <a:rPr b="0" lang="el-GR" sz="2800" spc="-1" strike="noStrike">
                <a:solidFill>
                  <a:srgbClr val="000000"/>
                </a:solidFill>
                <a:latin typeface="Times New Roman"/>
              </a:rPr>
              <a:t>τις ανθρώπινες σχέσεις, την αλήθεια και το περιβάλλον. </a:t>
            </a:r>
            <a:endParaRPr b="0" lang="en-US" sz="2800" spc="-1" strike="noStrike">
              <a:solidFill>
                <a:srgbClr val="ffffff"/>
              </a:solidFill>
              <a:latin typeface="Times New Roman"/>
            </a:endParaRPr>
          </a:p>
        </p:txBody>
      </p:sp>
      <p:grpSp>
        <p:nvGrpSpPr>
          <p:cNvPr id="6951" name="Group 2"/>
          <p:cNvGrpSpPr/>
          <p:nvPr/>
        </p:nvGrpSpPr>
        <p:grpSpPr>
          <a:xfrm>
            <a:off x="0" y="115920"/>
            <a:ext cx="9140760" cy="6548400"/>
            <a:chOff x="0" y="115920"/>
            <a:chExt cx="9140760" cy="6548400"/>
          </a:xfrm>
        </p:grpSpPr>
        <p:grpSp>
          <p:nvGrpSpPr>
            <p:cNvPr id="6952" name="Group 3"/>
            <p:cNvGrpSpPr/>
            <p:nvPr/>
          </p:nvGrpSpPr>
          <p:grpSpPr>
            <a:xfrm>
              <a:off x="0" y="115920"/>
              <a:ext cx="9140760" cy="6548400"/>
              <a:chOff x="0" y="115920"/>
              <a:chExt cx="9140760" cy="6548400"/>
            </a:xfrm>
          </p:grpSpPr>
          <p:sp>
            <p:nvSpPr>
              <p:cNvPr id="695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5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5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5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58" name="Picture 9"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9"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αυτό το επίπεδο βρίσκεται η ουσία της κουλτούρας. </a:t>
            </a:r>
            <a:br>
              <a:rPr sz="2800"/>
            </a:br>
            <a:r>
              <a:rPr b="0" lang="el-GR" sz="2800" spc="-1" strike="noStrike">
                <a:solidFill>
                  <a:srgbClr val="000000"/>
                </a:solidFill>
                <a:latin typeface="Times New Roman"/>
              </a:rPr>
              <a:t>Η εσωτερική διάσταση της κουλτούρας που αφορά τις ανθρώπινες σχέσεις, αλλά και το πώς ακριβώς αντιλαμβάνεται η μονάδα τον εαυτό της και διαμορφώνει αυτό που τελικά γίνεται η ίδια και αυτό που εκπροσωπεί </a:t>
            </a:r>
            <a:br>
              <a:rPr sz="2800"/>
            </a:br>
            <a:r>
              <a:rPr b="0" lang="el-GR" sz="2800" spc="-1" strike="noStrike">
                <a:solidFill>
                  <a:srgbClr val="000000"/>
                </a:solidFill>
                <a:latin typeface="Times New Roman"/>
              </a:rPr>
              <a:t>για τις άλλες (Ρες, 2007). </a:t>
            </a:r>
            <a:endParaRPr b="0" lang="en-US" sz="2800" spc="-1" strike="noStrike">
              <a:solidFill>
                <a:srgbClr val="ffffff"/>
              </a:solidFill>
              <a:latin typeface="Times New Roman"/>
            </a:endParaRPr>
          </a:p>
        </p:txBody>
      </p:sp>
      <p:grpSp>
        <p:nvGrpSpPr>
          <p:cNvPr id="6960" name="Group 2"/>
          <p:cNvGrpSpPr/>
          <p:nvPr/>
        </p:nvGrpSpPr>
        <p:grpSpPr>
          <a:xfrm>
            <a:off x="0" y="115920"/>
            <a:ext cx="9140760" cy="6548400"/>
            <a:chOff x="0" y="115920"/>
            <a:chExt cx="9140760" cy="6548400"/>
          </a:xfrm>
        </p:grpSpPr>
        <p:grpSp>
          <p:nvGrpSpPr>
            <p:cNvPr id="6961" name="Group 3"/>
            <p:cNvGrpSpPr/>
            <p:nvPr/>
          </p:nvGrpSpPr>
          <p:grpSpPr>
            <a:xfrm>
              <a:off x="0" y="115920"/>
              <a:ext cx="9140760" cy="6548400"/>
              <a:chOff x="0" y="115920"/>
              <a:chExt cx="9140760" cy="6548400"/>
            </a:xfrm>
          </p:grpSpPr>
          <p:sp>
            <p:nvSpPr>
              <p:cNvPr id="696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6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6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6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67" name="Picture 9"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8"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μίας σχολικής μονάδας αυτές οι αρχές είναι </a:t>
            </a:r>
            <a:br>
              <a:rPr sz="2800"/>
            </a:br>
            <a:r>
              <a:rPr b="0" lang="el-GR" sz="2800" spc="-1" strike="noStrike">
                <a:solidFill>
                  <a:srgbClr val="000000"/>
                </a:solidFill>
                <a:latin typeface="Times New Roman"/>
              </a:rPr>
              <a:t>η καλλιέργεια της ενθάρρυνσης, </a:t>
            </a:r>
            <a:br>
              <a:rPr sz="2800"/>
            </a:br>
            <a:r>
              <a:rPr b="0" lang="el-GR" sz="2800" spc="-1" strike="noStrike">
                <a:solidFill>
                  <a:srgbClr val="000000"/>
                </a:solidFill>
                <a:latin typeface="Times New Roman"/>
              </a:rPr>
              <a:t>της  παρότρυνσης για ομαδική εργασία, </a:t>
            </a:r>
            <a:br>
              <a:rPr sz="2800"/>
            </a:br>
            <a:r>
              <a:rPr b="0" lang="el-GR" sz="2800" spc="-1" strike="noStrike">
                <a:solidFill>
                  <a:srgbClr val="000000"/>
                </a:solidFill>
                <a:latin typeface="Times New Roman"/>
              </a:rPr>
              <a:t>της υπευθυνότητας, της εμπιστοσύνης, </a:t>
            </a:r>
            <a:br>
              <a:rPr sz="2800"/>
            </a:br>
            <a:r>
              <a:rPr b="0" lang="el-GR" sz="2800" spc="-1" strike="noStrike">
                <a:solidFill>
                  <a:srgbClr val="000000"/>
                </a:solidFill>
                <a:latin typeface="Times New Roman"/>
              </a:rPr>
              <a:t>του επαγγελματικού, </a:t>
            </a:r>
            <a:br>
              <a:rPr sz="2800"/>
            </a:br>
            <a:r>
              <a:rPr b="0" lang="el-GR" sz="2800" spc="-1" strike="noStrike">
                <a:solidFill>
                  <a:srgbClr val="000000"/>
                </a:solidFill>
                <a:latin typeface="Times New Roman"/>
              </a:rPr>
              <a:t>οι σχέσεις των εκπαιδευτικών, κλπ </a:t>
            </a:r>
            <a:br>
              <a:rPr sz="2800"/>
            </a:br>
            <a:r>
              <a:rPr b="0" lang="el-GR" sz="2800" spc="-1" strike="noStrike">
                <a:solidFill>
                  <a:srgbClr val="000000"/>
                </a:solidFill>
                <a:latin typeface="Times New Roman"/>
              </a:rPr>
              <a:t>Αυτές οι αρχές συμβάλλουν ώστε να ενθαρρυνθεί η καλλιέργεια αξιών όπως είναι η αποφυγή των συγκρούσεων και ο σεβασμός απέναντι στην ηγεσία. </a:t>
            </a:r>
            <a:endParaRPr b="0" lang="en-US" sz="2800" spc="-1" strike="noStrike">
              <a:solidFill>
                <a:srgbClr val="ffffff"/>
              </a:solidFill>
              <a:latin typeface="Times New Roman"/>
            </a:endParaRPr>
          </a:p>
        </p:txBody>
      </p:sp>
      <p:grpSp>
        <p:nvGrpSpPr>
          <p:cNvPr id="6969" name="Group 2"/>
          <p:cNvGrpSpPr/>
          <p:nvPr/>
        </p:nvGrpSpPr>
        <p:grpSpPr>
          <a:xfrm>
            <a:off x="0" y="115920"/>
            <a:ext cx="9140760" cy="6548400"/>
            <a:chOff x="0" y="115920"/>
            <a:chExt cx="9140760" cy="6548400"/>
          </a:xfrm>
        </p:grpSpPr>
        <p:grpSp>
          <p:nvGrpSpPr>
            <p:cNvPr id="6970" name="Group 3"/>
            <p:cNvGrpSpPr/>
            <p:nvPr/>
          </p:nvGrpSpPr>
          <p:grpSpPr>
            <a:xfrm>
              <a:off x="0" y="115920"/>
              <a:ext cx="9140760" cy="6548400"/>
              <a:chOff x="0" y="115920"/>
              <a:chExt cx="9140760" cy="6548400"/>
            </a:xfrm>
          </p:grpSpPr>
          <p:sp>
            <p:nvSpPr>
              <p:cNvPr id="697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7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7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7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76" name="Picture 9"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7"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μπερασματικά, δύνανται να διακριθούν τρία επίπεδα της σχολικής κουλτούρας: </a:t>
            </a:r>
            <a:br>
              <a:rPr sz="2800"/>
            </a:br>
            <a:br>
              <a:rPr sz="2800"/>
            </a:br>
            <a:r>
              <a:rPr b="1" lang="el-GR" sz="2800" spc="-1" strike="noStrike">
                <a:solidFill>
                  <a:srgbClr val="000000"/>
                </a:solidFill>
                <a:latin typeface="Times New Roman"/>
              </a:rPr>
              <a:t>1. οι άγραφοι και οι ανεπίσημοι κανόνες, </a:t>
            </a:r>
            <a:br>
              <a:rPr sz="2800"/>
            </a:br>
            <a:br>
              <a:rPr sz="2800"/>
            </a:br>
            <a:r>
              <a:rPr b="1" i="1" lang="el-GR" sz="2800" spc="-1" strike="noStrike">
                <a:solidFill>
                  <a:srgbClr val="000000"/>
                </a:solidFill>
                <a:latin typeface="Times New Roman"/>
              </a:rPr>
              <a:t>2. οι αξίες και οι πεποιθήσεις και </a:t>
            </a:r>
            <a:br>
              <a:rPr sz="2800"/>
            </a:br>
            <a:r>
              <a:rPr b="1" i="1" lang="el-GR" sz="2800" spc="-1" strike="noStrike">
                <a:solidFill>
                  <a:srgbClr val="000000"/>
                </a:solidFill>
                <a:latin typeface="Times New Roman"/>
              </a:rPr>
              <a:t>3. οι αντιλήψεις σχετικά με το τι είναι αλήθεια (Κυθραιώτης κ. συν., 2010). </a:t>
            </a:r>
            <a:endParaRPr b="0" lang="en-US" sz="2800" spc="-1" strike="noStrike">
              <a:solidFill>
                <a:srgbClr val="ffffff"/>
              </a:solidFill>
              <a:latin typeface="Times New Roman"/>
            </a:endParaRPr>
          </a:p>
        </p:txBody>
      </p:sp>
      <p:grpSp>
        <p:nvGrpSpPr>
          <p:cNvPr id="6978" name="Group 2"/>
          <p:cNvGrpSpPr/>
          <p:nvPr/>
        </p:nvGrpSpPr>
        <p:grpSpPr>
          <a:xfrm>
            <a:off x="0" y="115920"/>
            <a:ext cx="9140760" cy="6548400"/>
            <a:chOff x="0" y="115920"/>
            <a:chExt cx="9140760" cy="6548400"/>
          </a:xfrm>
        </p:grpSpPr>
        <p:grpSp>
          <p:nvGrpSpPr>
            <p:cNvPr id="6979" name="Group 3"/>
            <p:cNvGrpSpPr/>
            <p:nvPr/>
          </p:nvGrpSpPr>
          <p:grpSpPr>
            <a:xfrm>
              <a:off x="0" y="115920"/>
              <a:ext cx="9140760" cy="6548400"/>
              <a:chOff x="0" y="115920"/>
              <a:chExt cx="9140760" cy="6548400"/>
            </a:xfrm>
          </p:grpSpPr>
          <p:sp>
            <p:nvSpPr>
              <p:cNvPr id="698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8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8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8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85" name="Picture 9"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6"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ύποι Κουλτούρας </a:t>
            </a:r>
            <a:br>
              <a:rPr sz="2800"/>
            </a:br>
            <a:br>
              <a:rPr sz="2800"/>
            </a:br>
            <a:r>
              <a:rPr b="0" lang="el-GR" sz="2800" spc="-1" strike="noStrike">
                <a:solidFill>
                  <a:srgbClr val="000000"/>
                </a:solidFill>
                <a:latin typeface="Times New Roman"/>
              </a:rPr>
              <a:t>Όπως επισημαίνουν οι Κιούση και Κοντάκος (2006) έχουν αναπτυχθεί διάφορες τυπολογίες για τη σχολική κουλτούρα. Πιο συγκεκριμένα, </a:t>
            </a:r>
            <a:r>
              <a:rPr b="1" lang="el-GR" sz="2800" spc="-1" strike="noStrike">
                <a:solidFill>
                  <a:srgbClr val="000000"/>
                </a:solidFill>
                <a:latin typeface="Times New Roman"/>
              </a:rPr>
              <a:t>στη βάση της οργανωσιακής κουλτούρας, </a:t>
            </a:r>
            <a:br>
              <a:rPr sz="2800"/>
            </a:br>
            <a:r>
              <a:rPr b="0" lang="el-GR" sz="2800" spc="-1" strike="noStrike">
                <a:solidFill>
                  <a:srgbClr val="000000"/>
                </a:solidFill>
                <a:latin typeface="Times New Roman"/>
              </a:rPr>
              <a:t>η σχολική κουλτούρα διακρίνεται </a:t>
            </a:r>
            <a:br>
              <a:rPr sz="2800"/>
            </a:br>
            <a:r>
              <a:rPr b="1" lang="el-GR" sz="2800" spc="-1" strike="noStrike">
                <a:solidFill>
                  <a:srgbClr val="000000"/>
                </a:solidFill>
                <a:latin typeface="Times New Roman"/>
              </a:rPr>
              <a:t>στην κουλτούρα της κεντρικής εξουσίας (club culture), </a:t>
            </a:r>
            <a:br>
              <a:rPr sz="2800"/>
            </a:br>
            <a:r>
              <a:rPr b="1" lang="el-GR" sz="2800" spc="-1" strike="noStrike">
                <a:solidFill>
                  <a:srgbClr val="000000"/>
                </a:solidFill>
                <a:latin typeface="Times New Roman"/>
              </a:rPr>
              <a:t>την κουλτούρα των ρόλων (role culture) </a:t>
            </a:r>
            <a:br>
              <a:rPr sz="2800"/>
            </a:br>
            <a:r>
              <a:rPr b="1" lang="el-GR" sz="2800" spc="-1" strike="noStrike">
                <a:solidFill>
                  <a:srgbClr val="000000"/>
                </a:solidFill>
                <a:latin typeface="Times New Roman"/>
              </a:rPr>
              <a:t>και την κουλτούρα του καθήκοντος - της αποστολής (task culture). </a:t>
            </a:r>
            <a:endParaRPr b="0" lang="en-US" sz="2800" spc="-1" strike="noStrike">
              <a:solidFill>
                <a:srgbClr val="ffffff"/>
              </a:solidFill>
              <a:latin typeface="Times New Roman"/>
            </a:endParaRPr>
          </a:p>
        </p:txBody>
      </p:sp>
      <p:grpSp>
        <p:nvGrpSpPr>
          <p:cNvPr id="6987" name="Group 2"/>
          <p:cNvGrpSpPr/>
          <p:nvPr/>
        </p:nvGrpSpPr>
        <p:grpSpPr>
          <a:xfrm>
            <a:off x="0" y="115920"/>
            <a:ext cx="9140760" cy="6548400"/>
            <a:chOff x="0" y="115920"/>
            <a:chExt cx="9140760" cy="6548400"/>
          </a:xfrm>
        </p:grpSpPr>
        <p:grpSp>
          <p:nvGrpSpPr>
            <p:cNvPr id="6988" name="Group 3"/>
            <p:cNvGrpSpPr/>
            <p:nvPr/>
          </p:nvGrpSpPr>
          <p:grpSpPr>
            <a:xfrm>
              <a:off x="0" y="115920"/>
              <a:ext cx="9140760" cy="6548400"/>
              <a:chOff x="0" y="115920"/>
              <a:chExt cx="9140760" cy="6548400"/>
            </a:xfrm>
          </p:grpSpPr>
          <p:sp>
            <p:nvSpPr>
              <p:cNvPr id="698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9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9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9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94" name="Picture 9"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5"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βάση της αλλαγής και  της βελτίωσης </a:t>
            </a:r>
            <a:br>
              <a:rPr sz="2800"/>
            </a:br>
            <a:r>
              <a:rPr b="0" lang="el-GR" sz="2800" spc="-1" strike="noStrike">
                <a:solidFill>
                  <a:srgbClr val="000000"/>
                </a:solidFill>
                <a:latin typeface="Times New Roman"/>
              </a:rPr>
              <a:t>της σχολικής μονάδας και συνεπώς της αποτελεσματικότητάς της, </a:t>
            </a:r>
            <a:br>
              <a:rPr sz="2800"/>
            </a:br>
            <a:r>
              <a:rPr b="0" lang="el-GR" sz="2800" spc="-1" strike="noStrike">
                <a:solidFill>
                  <a:srgbClr val="000000"/>
                </a:solidFill>
                <a:latin typeface="Times New Roman"/>
              </a:rPr>
              <a:t>η σχολική κουλτούρα  διακρίνει τους σχολικούς οργανισμούς σε :</a:t>
            </a:r>
            <a:br>
              <a:rPr sz="2800"/>
            </a:br>
            <a:r>
              <a:rPr b="0" lang="el-GR" sz="2800" spc="-1" strike="noStrike">
                <a:solidFill>
                  <a:srgbClr val="000000"/>
                </a:solidFill>
                <a:latin typeface="Times New Roman"/>
              </a:rPr>
              <a:t>«εξελισσόμενους» (moving) και </a:t>
            </a:r>
            <a:br>
              <a:rPr sz="2800"/>
            </a:br>
            <a:r>
              <a:rPr b="0" lang="el-GR" sz="2800" spc="-1" strike="noStrike">
                <a:solidFill>
                  <a:srgbClr val="000000"/>
                </a:solidFill>
                <a:latin typeface="Times New Roman"/>
              </a:rPr>
              <a:t>«μη εξελισσόμενους» (stuck), </a:t>
            </a:r>
            <a:endParaRPr b="0" lang="en-US" sz="2800" spc="-1" strike="noStrike">
              <a:solidFill>
                <a:srgbClr val="ffffff"/>
              </a:solidFill>
              <a:latin typeface="Times New Roman"/>
            </a:endParaRPr>
          </a:p>
        </p:txBody>
      </p:sp>
      <p:grpSp>
        <p:nvGrpSpPr>
          <p:cNvPr id="6996" name="Group 2"/>
          <p:cNvGrpSpPr/>
          <p:nvPr/>
        </p:nvGrpSpPr>
        <p:grpSpPr>
          <a:xfrm>
            <a:off x="0" y="115920"/>
            <a:ext cx="9140760" cy="6548400"/>
            <a:chOff x="0" y="115920"/>
            <a:chExt cx="9140760" cy="6548400"/>
          </a:xfrm>
        </p:grpSpPr>
        <p:grpSp>
          <p:nvGrpSpPr>
            <p:cNvPr id="6997" name="Group 3"/>
            <p:cNvGrpSpPr/>
            <p:nvPr/>
          </p:nvGrpSpPr>
          <p:grpSpPr>
            <a:xfrm>
              <a:off x="0" y="115920"/>
              <a:ext cx="9140760" cy="6548400"/>
              <a:chOff x="0" y="115920"/>
              <a:chExt cx="9140760" cy="6548400"/>
            </a:xfrm>
          </p:grpSpPr>
          <p:sp>
            <p:nvSpPr>
              <p:cNvPr id="699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0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0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0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03" name="Picture 9"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4"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άλλο  μοντέλο οι σχολικές μονάδες βάσει της σχολικής κουλτούρας χωρίζονται </a:t>
            </a:r>
            <a:br>
              <a:rPr sz="2800"/>
            </a:br>
            <a:r>
              <a:rPr b="0" lang="el-GR" sz="2800" spc="-1" strike="noStrike">
                <a:solidFill>
                  <a:srgbClr val="000000"/>
                </a:solidFill>
                <a:latin typeface="Times New Roman"/>
              </a:rPr>
              <a:t>στις «εξελισσόμενες» (moving), «του σχολείου που πορεύεται» (cruising), </a:t>
            </a:r>
            <a:br>
              <a:rPr sz="2800"/>
            </a:br>
            <a:r>
              <a:rPr b="0" lang="el-GR" sz="2800" spc="-1" strike="noStrike">
                <a:solidFill>
                  <a:srgbClr val="000000"/>
                </a:solidFill>
                <a:latin typeface="Times New Roman"/>
              </a:rPr>
              <a:t>«του σχολείου που αγωνίζεται να επιβιώσει» (struggling) και του «βυθιζόμενου» σχολείου (sinking σχολείο). </a:t>
            </a:r>
            <a:endParaRPr b="0" lang="en-US" sz="2800" spc="-1" strike="noStrike">
              <a:solidFill>
                <a:srgbClr val="ffffff"/>
              </a:solidFill>
              <a:latin typeface="Times New Roman"/>
            </a:endParaRPr>
          </a:p>
        </p:txBody>
      </p:sp>
      <p:grpSp>
        <p:nvGrpSpPr>
          <p:cNvPr id="7005" name="Group 2"/>
          <p:cNvGrpSpPr/>
          <p:nvPr/>
        </p:nvGrpSpPr>
        <p:grpSpPr>
          <a:xfrm>
            <a:off x="0" y="115920"/>
            <a:ext cx="9140760" cy="6548400"/>
            <a:chOff x="0" y="115920"/>
            <a:chExt cx="9140760" cy="6548400"/>
          </a:xfrm>
        </p:grpSpPr>
        <p:grpSp>
          <p:nvGrpSpPr>
            <p:cNvPr id="7006" name="Group 3"/>
            <p:cNvGrpSpPr/>
            <p:nvPr/>
          </p:nvGrpSpPr>
          <p:grpSpPr>
            <a:xfrm>
              <a:off x="0" y="115920"/>
              <a:ext cx="9140760" cy="6548400"/>
              <a:chOff x="0" y="115920"/>
              <a:chExt cx="9140760" cy="6548400"/>
            </a:xfrm>
          </p:grpSpPr>
          <p:sp>
            <p:nvSpPr>
              <p:cNvPr id="700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0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1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1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12"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Text Box 1"/>
          <p:cNvSpPr/>
          <p:nvPr/>
        </p:nvSpPr>
        <p:spPr>
          <a:xfrm>
            <a:off x="539640" y="1392120"/>
            <a:ext cx="8425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a:t>
            </a:r>
            <a:r>
              <a:rPr b="1" lang="el-GR" sz="2800" spc="-1" strike="noStrike">
                <a:solidFill>
                  <a:srgbClr val="000000"/>
                </a:solidFill>
                <a:latin typeface="Times New Roman"/>
              </a:rPr>
              <a:t>σχολική κουλτούρα δεν είναι στατική </a:t>
            </a:r>
            <a:br>
              <a:rPr sz="2800"/>
            </a:br>
            <a:r>
              <a:rPr b="1" lang="el-GR" sz="2800" spc="-1" strike="noStrike">
                <a:solidFill>
                  <a:srgbClr val="000000"/>
                </a:solidFill>
                <a:latin typeface="Times New Roman"/>
              </a:rPr>
              <a:t>αλλά δυναμική διαδικασία </a:t>
            </a:r>
            <a:r>
              <a:rPr b="0" lang="el-GR" sz="2800" spc="-1" strike="noStrike">
                <a:solidFill>
                  <a:srgbClr val="000000"/>
                </a:solidFill>
                <a:latin typeface="Times New Roman"/>
              </a:rPr>
              <a:t>λόγω της φύσεώς της </a:t>
            </a:r>
            <a:br>
              <a:rPr sz="2800"/>
            </a:br>
            <a:r>
              <a:rPr b="0" lang="el-GR" sz="2800" spc="-1" strike="noStrike">
                <a:solidFill>
                  <a:srgbClr val="000000"/>
                </a:solidFill>
                <a:latin typeface="Times New Roman"/>
              </a:rPr>
              <a:t>και ουσιαστικά αντανακλά τις πεποιθήσεις, </a:t>
            </a:r>
            <a:br>
              <a:rPr sz="2800"/>
            </a:br>
            <a:r>
              <a:rPr b="0" lang="el-GR" sz="2800" spc="-1" strike="noStrike">
                <a:solidFill>
                  <a:srgbClr val="000000"/>
                </a:solidFill>
                <a:latin typeface="Times New Roman"/>
              </a:rPr>
              <a:t>τις αξίες και τα πιστεύω των ατόμων </a:t>
            </a:r>
            <a:br>
              <a:rPr sz="2800"/>
            </a:br>
            <a:r>
              <a:rPr b="0" lang="el-GR" sz="2800" spc="-1" strike="noStrike">
                <a:solidFill>
                  <a:srgbClr val="000000"/>
                </a:solidFill>
                <a:latin typeface="Times New Roman"/>
              </a:rPr>
              <a:t>που εργάζονται στο πλαίσιο του σχολείου. </a:t>
            </a:r>
            <a:br>
              <a:rPr sz="2800"/>
            </a:br>
            <a:endParaRPr b="0" lang="en-US" sz="2800" spc="-1" strike="noStrike">
              <a:solidFill>
                <a:srgbClr val="ffffff"/>
              </a:solidFill>
              <a:latin typeface="Times New Roman"/>
            </a:endParaRPr>
          </a:p>
        </p:txBody>
      </p:sp>
      <p:grpSp>
        <p:nvGrpSpPr>
          <p:cNvPr id="6447" name="Group 2"/>
          <p:cNvGrpSpPr/>
          <p:nvPr/>
        </p:nvGrpSpPr>
        <p:grpSpPr>
          <a:xfrm>
            <a:off x="0" y="115920"/>
            <a:ext cx="9140760" cy="6548400"/>
            <a:chOff x="0" y="115920"/>
            <a:chExt cx="9140760" cy="6548400"/>
          </a:xfrm>
        </p:grpSpPr>
        <p:grpSp>
          <p:nvGrpSpPr>
            <p:cNvPr id="6448" name="Group 3"/>
            <p:cNvGrpSpPr/>
            <p:nvPr/>
          </p:nvGrpSpPr>
          <p:grpSpPr>
            <a:xfrm>
              <a:off x="0" y="115920"/>
              <a:ext cx="9140760" cy="6548400"/>
              <a:chOff x="0" y="115920"/>
              <a:chExt cx="9140760" cy="6548400"/>
            </a:xfrm>
          </p:grpSpPr>
          <p:sp>
            <p:nvSpPr>
              <p:cNvPr id="64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4" name="Picture 9"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3"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 Θεριανός (2006) αναφέρει ότι </a:t>
            </a:r>
            <a:br>
              <a:rPr sz="2800"/>
            </a:br>
            <a:r>
              <a:rPr b="0" lang="el-GR" sz="2800" spc="-1" strike="noStrike">
                <a:solidFill>
                  <a:srgbClr val="000000"/>
                </a:solidFill>
                <a:latin typeface="Times New Roman"/>
              </a:rPr>
              <a:t>υπάρχουν τρεις τύποι κουλτούρας: </a:t>
            </a:r>
            <a:br>
              <a:rPr sz="2800"/>
            </a:br>
            <a:r>
              <a:rPr b="0" lang="el-GR" sz="2800" spc="-1" strike="noStrike">
                <a:solidFill>
                  <a:srgbClr val="000000"/>
                </a:solidFill>
                <a:latin typeface="Times New Roman"/>
              </a:rPr>
              <a:t>ο ατομισμός, </a:t>
            </a:r>
            <a:br>
              <a:rPr sz="2800"/>
            </a:br>
            <a:r>
              <a:rPr b="0" lang="el-GR" sz="2800" spc="-1" strike="noStrike">
                <a:solidFill>
                  <a:srgbClr val="000000"/>
                </a:solidFill>
                <a:latin typeface="Times New Roman"/>
              </a:rPr>
              <a:t>η τεχνητή συναδελφικότητα και </a:t>
            </a:r>
            <a:br>
              <a:rPr sz="2800"/>
            </a:br>
            <a:r>
              <a:rPr b="0" lang="el-GR" sz="2800" spc="-1" strike="noStrike">
                <a:solidFill>
                  <a:srgbClr val="000000"/>
                </a:solidFill>
                <a:latin typeface="Times New Roman"/>
              </a:rPr>
              <a:t>η γνήσια συνεργασία. </a:t>
            </a:r>
            <a:endParaRPr b="0" lang="en-US" sz="2800" spc="-1" strike="noStrike">
              <a:solidFill>
                <a:srgbClr val="ffffff"/>
              </a:solidFill>
              <a:latin typeface="Times New Roman"/>
            </a:endParaRPr>
          </a:p>
        </p:txBody>
      </p:sp>
      <p:grpSp>
        <p:nvGrpSpPr>
          <p:cNvPr id="7014" name="Group 2"/>
          <p:cNvGrpSpPr/>
          <p:nvPr/>
        </p:nvGrpSpPr>
        <p:grpSpPr>
          <a:xfrm>
            <a:off x="0" y="115920"/>
            <a:ext cx="9140760" cy="6548400"/>
            <a:chOff x="0" y="115920"/>
            <a:chExt cx="9140760" cy="6548400"/>
          </a:xfrm>
        </p:grpSpPr>
        <p:grpSp>
          <p:nvGrpSpPr>
            <p:cNvPr id="7015" name="Group 3"/>
            <p:cNvGrpSpPr/>
            <p:nvPr/>
          </p:nvGrpSpPr>
          <p:grpSpPr>
            <a:xfrm>
              <a:off x="0" y="115920"/>
              <a:ext cx="9140760" cy="6548400"/>
              <a:chOff x="0" y="115920"/>
              <a:chExt cx="9140760" cy="6548400"/>
            </a:xfrm>
          </p:grpSpPr>
          <p:sp>
            <p:nvSpPr>
              <p:cNvPr id="701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1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1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2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21" name="Picture 9"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2"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Υποκουλτούρα </a:t>
            </a:r>
            <a:br>
              <a:rPr sz="2800"/>
            </a:br>
            <a:r>
              <a:rPr b="0" lang="el-GR" sz="2800" spc="-1" strike="noStrike">
                <a:solidFill>
                  <a:srgbClr val="000000"/>
                </a:solidFill>
                <a:latin typeface="Times New Roman"/>
              </a:rPr>
              <a:t>Σύμφωνα με  ερευνητές υπάρχει μεγάλο ενδιαφέρον στην ανίχνευση περισσότερων από μίας κουλτούρας σε έναν σχολικό οργανισμό, καθώς η ύπαρξη διαφόρων ομάδων, συνεπάγεται συνύπαρξη πολλών ειδών κουλτούρας στη σχολική μονάδα. </a:t>
            </a:r>
            <a:br>
              <a:rPr sz="2800"/>
            </a:br>
            <a:r>
              <a:rPr b="0" lang="el-GR" sz="2800" spc="-1" strike="noStrike">
                <a:solidFill>
                  <a:srgbClr val="000000"/>
                </a:solidFill>
                <a:latin typeface="Times New Roman"/>
              </a:rPr>
              <a:t>Ένας τρόπος διαχωρισμού γίνεται σύμφωνα με τις δύο βασικές ομάδες του σχολείου, τους εκπαιδευτικούς και τους μαθητές. . </a:t>
            </a:r>
            <a:endParaRPr b="0" lang="en-US" sz="2800" spc="-1" strike="noStrike">
              <a:solidFill>
                <a:srgbClr val="ffffff"/>
              </a:solidFill>
              <a:latin typeface="Times New Roman"/>
            </a:endParaRPr>
          </a:p>
        </p:txBody>
      </p:sp>
      <p:grpSp>
        <p:nvGrpSpPr>
          <p:cNvPr id="7023" name="Group 2"/>
          <p:cNvGrpSpPr/>
          <p:nvPr/>
        </p:nvGrpSpPr>
        <p:grpSpPr>
          <a:xfrm>
            <a:off x="0" y="115920"/>
            <a:ext cx="9140760" cy="6548400"/>
            <a:chOff x="0" y="115920"/>
            <a:chExt cx="9140760" cy="6548400"/>
          </a:xfrm>
        </p:grpSpPr>
        <p:grpSp>
          <p:nvGrpSpPr>
            <p:cNvPr id="7024" name="Group 3"/>
            <p:cNvGrpSpPr/>
            <p:nvPr/>
          </p:nvGrpSpPr>
          <p:grpSpPr>
            <a:xfrm>
              <a:off x="0" y="115920"/>
              <a:ext cx="9140760" cy="6548400"/>
              <a:chOff x="0" y="115920"/>
              <a:chExt cx="9140760" cy="6548400"/>
            </a:xfrm>
          </p:grpSpPr>
          <p:sp>
            <p:nvSpPr>
              <p:cNvPr id="702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2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2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2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30" name="Picture 9"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1"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υπάρχει η κουλτούρα των εκπαιδευτικών και η κουλτούρα των μαθητών. </a:t>
            </a:r>
            <a:br>
              <a:rPr sz="2800"/>
            </a:br>
            <a:r>
              <a:rPr b="0" lang="el-GR" sz="2800" spc="-1" strike="noStrike">
                <a:solidFill>
                  <a:srgbClr val="000000"/>
                </a:solidFill>
                <a:latin typeface="Times New Roman"/>
              </a:rPr>
              <a:t>Αυτές οι δύο ομάδες αντιπροσωπεύουν δύο διαφορετικές κουλτούρες, καθώς η κουλτούρα των εκπαιδευτικών είναι μια κουλτούρα εργασίας, ενώ αυτή των μαθητών είναι μια κουλτούρα μάθησης. Όμως, βασικό χαρακτηριστικό της γενικής κουλτούρας ενός σχολείου είναι ο βαθμός συνοχής μεταξύ των ξεχωριστών ειδών κουλτούρας. Όσο μεγαλύτερος είναι ο βαθμός συνοχής τους, τόσο πιο ισχυρή είναι η κουλτούρα του σχολείου. </a:t>
            </a:r>
            <a:endParaRPr b="0" lang="en-US" sz="2800" spc="-1" strike="noStrike">
              <a:solidFill>
                <a:srgbClr val="ffffff"/>
              </a:solidFill>
              <a:latin typeface="Times New Roman"/>
            </a:endParaRPr>
          </a:p>
        </p:txBody>
      </p:sp>
      <p:grpSp>
        <p:nvGrpSpPr>
          <p:cNvPr id="7032" name="Group 2"/>
          <p:cNvGrpSpPr/>
          <p:nvPr/>
        </p:nvGrpSpPr>
        <p:grpSpPr>
          <a:xfrm>
            <a:off x="0" y="115920"/>
            <a:ext cx="9140760" cy="6548400"/>
            <a:chOff x="0" y="115920"/>
            <a:chExt cx="9140760" cy="6548400"/>
          </a:xfrm>
        </p:grpSpPr>
        <p:grpSp>
          <p:nvGrpSpPr>
            <p:cNvPr id="7033" name="Group 3"/>
            <p:cNvGrpSpPr/>
            <p:nvPr/>
          </p:nvGrpSpPr>
          <p:grpSpPr>
            <a:xfrm>
              <a:off x="0" y="115920"/>
              <a:ext cx="9140760" cy="6548400"/>
              <a:chOff x="0" y="115920"/>
              <a:chExt cx="9140760" cy="6548400"/>
            </a:xfrm>
          </p:grpSpPr>
          <p:sp>
            <p:nvSpPr>
              <p:cNvPr id="703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3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3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3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39" name="Picture 9"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0"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με τις κουλτούρες των διαφόρων ομάδων, κάθε σχολείο αποτελείται από ένα ξεχωριστό αριθμό τάξεων – τμημάτων μαθητών, που διαμορφώνουν τη δική τους κουλτούρα μάθησης. Ο πυρήνας της κουλτούρας μάθησης στην τάξη και το σχολείο πρέπει να είναι ο σκοπός του σχολείου, ο οποίος καθορίζει σε μεγάλο βαθμό τους στόχους των μαθητών. </a:t>
            </a:r>
            <a:endParaRPr b="0" lang="en-US" sz="2800" spc="-1" strike="noStrike">
              <a:solidFill>
                <a:srgbClr val="ffffff"/>
              </a:solidFill>
              <a:latin typeface="Times New Roman"/>
            </a:endParaRPr>
          </a:p>
        </p:txBody>
      </p:sp>
      <p:grpSp>
        <p:nvGrpSpPr>
          <p:cNvPr id="7041" name="Group 2"/>
          <p:cNvGrpSpPr/>
          <p:nvPr/>
        </p:nvGrpSpPr>
        <p:grpSpPr>
          <a:xfrm>
            <a:off x="0" y="115920"/>
            <a:ext cx="9140760" cy="6548400"/>
            <a:chOff x="0" y="115920"/>
            <a:chExt cx="9140760" cy="6548400"/>
          </a:xfrm>
        </p:grpSpPr>
        <p:grpSp>
          <p:nvGrpSpPr>
            <p:cNvPr id="7042" name="Group 3"/>
            <p:cNvGrpSpPr/>
            <p:nvPr/>
          </p:nvGrpSpPr>
          <p:grpSpPr>
            <a:xfrm>
              <a:off x="0" y="115920"/>
              <a:ext cx="9140760" cy="6548400"/>
              <a:chOff x="0" y="115920"/>
              <a:chExt cx="9140760" cy="6548400"/>
            </a:xfrm>
          </p:grpSpPr>
          <p:sp>
            <p:nvSpPr>
              <p:cNvPr id="704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4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4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4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48" name="Picture 9"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9" name="Text Box 1"/>
          <p:cNvSpPr/>
          <p:nvPr/>
        </p:nvSpPr>
        <p:spPr>
          <a:xfrm>
            <a:off x="250920" y="1052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προώθηση τέτοιας  κουλτούρας προϋποθέτει τη συνεργασία του εκπαιδευτικού προσωπικού, των γονέων, του ειδικού  εκπαιδευτικού προσωπικού</a:t>
            </a:r>
            <a:br>
              <a:rPr sz="2800"/>
            </a:br>
            <a:r>
              <a:rPr b="0" lang="el-GR" sz="2800" spc="-1" strike="noStrike">
                <a:solidFill>
                  <a:srgbClr val="000000"/>
                </a:solidFill>
                <a:latin typeface="Times New Roman"/>
              </a:rPr>
              <a:t> και των σχολικών συμβούλων ώστε να</a:t>
            </a:r>
            <a:br>
              <a:rPr sz="2800"/>
            </a:br>
            <a:r>
              <a:rPr b="0" lang="el-GR" sz="2800" spc="-1" strike="noStrike">
                <a:solidFill>
                  <a:srgbClr val="000000"/>
                </a:solidFill>
                <a:latin typeface="Times New Roman"/>
              </a:rPr>
              <a:t>συνδιαμορφώνουν τις αντιλήψεις τους και τις εφαρμοζόμενες πρακτικές αναφορικά με</a:t>
            </a:r>
            <a:br>
              <a:rPr sz="2800"/>
            </a:br>
            <a:r>
              <a:rPr b="0" lang="el-GR" sz="2800" spc="-1" strike="noStrike">
                <a:solidFill>
                  <a:srgbClr val="000000"/>
                </a:solidFill>
                <a:latin typeface="Times New Roman"/>
              </a:rPr>
              <a:t>την εκπαίδευση των μαθητών με αναπηρία.</a:t>
            </a:r>
            <a:endParaRPr b="0" lang="en-US" sz="2800" spc="-1" strike="noStrike">
              <a:solidFill>
                <a:srgbClr val="ffffff"/>
              </a:solidFill>
              <a:latin typeface="Times New Roman"/>
            </a:endParaRPr>
          </a:p>
        </p:txBody>
      </p:sp>
      <p:grpSp>
        <p:nvGrpSpPr>
          <p:cNvPr id="7050" name="Group 2"/>
          <p:cNvGrpSpPr/>
          <p:nvPr/>
        </p:nvGrpSpPr>
        <p:grpSpPr>
          <a:xfrm>
            <a:off x="0" y="115920"/>
            <a:ext cx="9140760" cy="6548400"/>
            <a:chOff x="0" y="115920"/>
            <a:chExt cx="9140760" cy="6548400"/>
          </a:xfrm>
        </p:grpSpPr>
        <p:grpSp>
          <p:nvGrpSpPr>
            <p:cNvPr id="7051" name="Group 3"/>
            <p:cNvGrpSpPr/>
            <p:nvPr/>
          </p:nvGrpSpPr>
          <p:grpSpPr>
            <a:xfrm>
              <a:off x="0" y="115920"/>
              <a:ext cx="9140760" cy="6548400"/>
              <a:chOff x="0" y="115920"/>
              <a:chExt cx="9140760" cy="6548400"/>
            </a:xfrm>
          </p:grpSpPr>
          <p:sp>
            <p:nvSpPr>
              <p:cNvPr id="70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57" name="Picture 9"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8" name="Text Box 1"/>
          <p:cNvSpPr/>
          <p:nvPr/>
        </p:nvSpPr>
        <p:spPr>
          <a:xfrm>
            <a:off x="863640" y="1392120"/>
            <a:ext cx="7885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σχολείο που δεν εστιάζει στις διαφορές ανάμεσα στους μαθητές</a:t>
            </a:r>
            <a:br>
              <a:rPr sz="2800"/>
            </a:br>
            <a:r>
              <a:rPr b="0" lang="el-GR" sz="2800" spc="-1" strike="noStrike">
                <a:solidFill>
                  <a:srgbClr val="000000"/>
                </a:solidFill>
                <a:latin typeface="Times New Roman"/>
              </a:rPr>
              <a:t>αλλά αναδεικνύει τις δημιουργικές πτυχές του καθενός, αποκτά τη δυνατότητα να</a:t>
            </a:r>
            <a:br>
              <a:rPr sz="2800"/>
            </a:br>
            <a:r>
              <a:rPr b="0" lang="el-GR" sz="2800" spc="-1" strike="noStrike">
                <a:solidFill>
                  <a:srgbClr val="000000"/>
                </a:solidFill>
                <a:latin typeface="Times New Roman"/>
              </a:rPr>
              <a:t>διαμορφώνει θετικά τις στάσεις απέναντι στους μαθητές με αναπηρία και άρα να προάγει την ουσιαστική ένταξή τους ενισχύοντας την κοινωνικοποίηση, την συνεργασία και τις</a:t>
            </a:r>
            <a:br>
              <a:rPr sz="2800"/>
            </a:br>
            <a:r>
              <a:rPr b="0" lang="el-GR" sz="2800" spc="-1" strike="noStrike">
                <a:solidFill>
                  <a:srgbClr val="000000"/>
                </a:solidFill>
                <a:latin typeface="Times New Roman"/>
              </a:rPr>
              <a:t>αυθεντικές σχέσεις μεταξύ όλων των παιδιών.</a:t>
            </a:r>
            <a:endParaRPr b="0" lang="en-US" sz="2800" spc="-1" strike="noStrike">
              <a:solidFill>
                <a:srgbClr val="ffffff"/>
              </a:solidFill>
              <a:latin typeface="Times New Roman"/>
            </a:endParaRPr>
          </a:p>
        </p:txBody>
      </p:sp>
      <p:grpSp>
        <p:nvGrpSpPr>
          <p:cNvPr id="7059" name="Group 2"/>
          <p:cNvGrpSpPr/>
          <p:nvPr/>
        </p:nvGrpSpPr>
        <p:grpSpPr>
          <a:xfrm>
            <a:off x="0" y="115920"/>
            <a:ext cx="9140760" cy="6548400"/>
            <a:chOff x="0" y="115920"/>
            <a:chExt cx="9140760" cy="6548400"/>
          </a:xfrm>
        </p:grpSpPr>
        <p:grpSp>
          <p:nvGrpSpPr>
            <p:cNvPr id="7060" name="Group 3"/>
            <p:cNvGrpSpPr/>
            <p:nvPr/>
          </p:nvGrpSpPr>
          <p:grpSpPr>
            <a:xfrm>
              <a:off x="0" y="115920"/>
              <a:ext cx="9140760" cy="6548400"/>
              <a:chOff x="0" y="115920"/>
              <a:chExt cx="9140760" cy="6548400"/>
            </a:xfrm>
          </p:grpSpPr>
          <p:sp>
            <p:nvSpPr>
              <p:cNvPr id="706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6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6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6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66" name="Picture 9"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7"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7068" name="Picture 2" descr=""/>
          <p:cNvPicPr/>
          <p:nvPr/>
        </p:nvPicPr>
        <p:blipFill>
          <a:blip r:embed="rId1"/>
          <a:stretch/>
        </p:blipFill>
        <p:spPr>
          <a:xfrm>
            <a:off x="0" y="0"/>
            <a:ext cx="9144000" cy="1368360"/>
          </a:xfrm>
          <a:prstGeom prst="rect">
            <a:avLst/>
          </a:prstGeom>
          <a:ln w="0">
            <a:noFill/>
          </a:ln>
        </p:spPr>
      </p:pic>
      <p:pic>
        <p:nvPicPr>
          <p:cNvPr id="7069" name="Picture 3" descr=""/>
          <p:cNvPicPr/>
          <p:nvPr/>
        </p:nvPicPr>
        <p:blipFill>
          <a:blip r:embed="rId2"/>
          <a:stretch/>
        </p:blipFill>
        <p:spPr>
          <a:xfrm>
            <a:off x="1258920" y="2060640"/>
            <a:ext cx="1297080" cy="1528560"/>
          </a:xfrm>
          <a:prstGeom prst="rect">
            <a:avLst/>
          </a:prstGeom>
          <a:ln w="0">
            <a:noFill/>
          </a:ln>
        </p:spPr>
      </p:pic>
      <p:pic>
        <p:nvPicPr>
          <p:cNvPr id="7070" name="Picture 4" descr=""/>
          <p:cNvPicPr/>
          <p:nvPr/>
        </p:nvPicPr>
        <p:blipFill>
          <a:blip r:embed="rId3"/>
          <a:stretch/>
        </p:blipFill>
        <p:spPr>
          <a:xfrm>
            <a:off x="6948360" y="1989000"/>
            <a:ext cx="1444680" cy="1573200"/>
          </a:xfrm>
          <a:prstGeom prst="rect">
            <a:avLst/>
          </a:prstGeom>
          <a:ln w="0">
            <a:noFill/>
          </a:ln>
        </p:spPr>
      </p:pic>
      <p:sp>
        <p:nvSpPr>
          <p:cNvPr id="7071" name="Rectangle 5"/>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Times New Roman"/>
            </a:endParaRPr>
          </a:p>
        </p:txBody>
      </p:sp>
      <p:sp>
        <p:nvSpPr>
          <p:cNvPr id="7072"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5" name="Text Box 1"/>
          <p:cNvSpPr/>
          <p:nvPr/>
        </p:nvSpPr>
        <p:spPr>
          <a:xfrm>
            <a:off x="539640" y="1392120"/>
            <a:ext cx="8425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ές ακριβώς οι πεποιθήσεις, οι αξίες και τα πιστεύω είναι που, κατά βάση, κρατούν ενωμένο τον σχολικό οργανισμό, δίνοντάς του μία κοινή ταυτότητα και συμβάλλοντας στη διαμόρφωση του χαρακτήρα του (Πασιαρδή, 2008). </a:t>
            </a:r>
            <a:endParaRPr b="0" lang="en-US" sz="2800" spc="-1" strike="noStrike">
              <a:solidFill>
                <a:srgbClr val="ffffff"/>
              </a:solidFill>
              <a:latin typeface="Times New Roman"/>
            </a:endParaRPr>
          </a:p>
        </p:txBody>
      </p:sp>
      <p:grpSp>
        <p:nvGrpSpPr>
          <p:cNvPr id="6456" name="Group 2"/>
          <p:cNvGrpSpPr/>
          <p:nvPr/>
        </p:nvGrpSpPr>
        <p:grpSpPr>
          <a:xfrm>
            <a:off x="0" y="115920"/>
            <a:ext cx="9140760" cy="6548400"/>
            <a:chOff x="0" y="115920"/>
            <a:chExt cx="9140760" cy="6548400"/>
          </a:xfrm>
        </p:grpSpPr>
        <p:grpSp>
          <p:nvGrpSpPr>
            <p:cNvPr id="6457" name="Group 3"/>
            <p:cNvGrpSpPr/>
            <p:nvPr/>
          </p:nvGrpSpPr>
          <p:grpSpPr>
            <a:xfrm>
              <a:off x="0" y="115920"/>
              <a:ext cx="9140760" cy="6548400"/>
              <a:chOff x="0" y="115920"/>
              <a:chExt cx="9140760" cy="6548400"/>
            </a:xfrm>
          </p:grpSpPr>
          <p:sp>
            <p:nvSpPr>
              <p:cNvPr id="64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3"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4" name="Text Box 1"/>
          <p:cNvSpPr/>
          <p:nvPr/>
        </p:nvSpPr>
        <p:spPr>
          <a:xfrm>
            <a:off x="395280" y="148428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κουλτούρα διαφοροποιεί </a:t>
            </a:r>
            <a:br>
              <a:rPr sz="2800"/>
            </a:br>
            <a:r>
              <a:rPr b="0" i="1" lang="el-GR" sz="2800" spc="-1" strike="noStrike">
                <a:solidFill>
                  <a:srgbClr val="000000"/>
                </a:solidFill>
                <a:latin typeface="Times New Roman"/>
              </a:rPr>
              <a:t>το ένα σχολικό πλαίσιο από το άλλο, </a:t>
            </a:r>
            <a:br>
              <a:rPr sz="2800"/>
            </a:br>
            <a:r>
              <a:rPr b="0" i="1" lang="el-GR" sz="2800" spc="-1" strike="noStrike">
                <a:solidFill>
                  <a:srgbClr val="000000"/>
                </a:solidFill>
                <a:latin typeface="Times New Roman"/>
              </a:rPr>
              <a:t>δίνει την αίσθηση της ταυτότητας, </a:t>
            </a:r>
            <a:br>
              <a:rPr sz="2800"/>
            </a:br>
            <a:r>
              <a:rPr b="0" i="1" lang="el-GR" sz="2800" spc="-1" strike="noStrike">
                <a:solidFill>
                  <a:srgbClr val="000000"/>
                </a:solidFill>
                <a:latin typeface="Times New Roman"/>
              </a:rPr>
              <a:t>δημιουργεί συνθήκες ανάπτυξης αισθήματος δέσμευσης στο εκπαιδευτικό πλαίσιο, </a:t>
            </a:r>
            <a:br>
              <a:rPr sz="2800"/>
            </a:br>
            <a:r>
              <a:rPr b="0" i="1" lang="el-GR" sz="2800" spc="-1" strike="noStrike">
                <a:solidFill>
                  <a:srgbClr val="000000"/>
                </a:solidFill>
                <a:latin typeface="Times New Roman"/>
              </a:rPr>
              <a:t>ενδυναμώνει την σταθερότητά του, </a:t>
            </a:r>
            <a:br>
              <a:rPr sz="2800"/>
            </a:br>
            <a:r>
              <a:rPr b="0" i="1" lang="el-GR" sz="2800" spc="-1" strike="noStrike">
                <a:solidFill>
                  <a:srgbClr val="000000"/>
                </a:solidFill>
                <a:latin typeface="Times New Roman"/>
              </a:rPr>
              <a:t>δημιουργεί συνοχή και διαμορφώνει στάσεις και συμπεριφορές των μελών του. </a:t>
            </a:r>
            <a:endParaRPr b="0" lang="en-US" sz="2800" spc="-1" strike="noStrike">
              <a:solidFill>
                <a:srgbClr val="ffffff"/>
              </a:solidFill>
              <a:latin typeface="Times New Roman"/>
            </a:endParaRPr>
          </a:p>
        </p:txBody>
      </p:sp>
      <p:grpSp>
        <p:nvGrpSpPr>
          <p:cNvPr id="6465" name="Group 2"/>
          <p:cNvGrpSpPr/>
          <p:nvPr/>
        </p:nvGrpSpPr>
        <p:grpSpPr>
          <a:xfrm>
            <a:off x="0" y="115920"/>
            <a:ext cx="9140760" cy="6548400"/>
            <a:chOff x="0" y="115920"/>
            <a:chExt cx="9140760" cy="6548400"/>
          </a:xfrm>
        </p:grpSpPr>
        <p:grpSp>
          <p:nvGrpSpPr>
            <p:cNvPr id="6466" name="Group 3"/>
            <p:cNvGrpSpPr/>
            <p:nvPr/>
          </p:nvGrpSpPr>
          <p:grpSpPr>
            <a:xfrm>
              <a:off x="0" y="115920"/>
              <a:ext cx="9140760" cy="6548400"/>
              <a:chOff x="0" y="115920"/>
              <a:chExt cx="9140760" cy="6548400"/>
            </a:xfrm>
          </p:grpSpPr>
          <p:sp>
            <p:nvSpPr>
              <p:cNvPr id="64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2"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3:05Z</dcterms:modified>
  <cp:revision>1</cp:revision>
  <dc:subject/>
  <dc:title/>
</cp:coreProperties>
</file>